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8FF43-5696-480B-A207-ACA7ACFDC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63429-2CBC-4C11-8ED8-39E4D63E5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61A1C-0F7D-4640-973C-24B28DD46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C48FC-5A8B-4BFD-B7C9-727D1D5CB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F94FC-E0A5-4F21-8592-01963A7DF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03688-8F95-4F5E-BFEA-F7D2DD68E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31C6D-A958-423E-AD70-FBD6AADF2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7EDC4-44C7-408F-92DD-626937F5D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52175-773B-43A4-9F99-E3A48536E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3BA15-B952-48C5-970A-2D3D8A058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50B5D-8DCA-4623-BFDC-E3A9A1D96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88DA5-B302-4CDA-9C7A-81B3F2E96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487E5-37BC-4A75-9958-377657B20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C80A7-D711-4851-81D3-EC7B616B0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77451-A795-47C5-B8EC-81EFD74B8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870F8-8B30-498C-93A3-01A5174C2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FABC2-3985-4898-A114-B7284C4FC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6BE4A-526D-4F13-BC6E-07B8793AA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7739F-F83B-4E06-9E12-D95D95D22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69F7A-6F9C-466C-BE89-04BC5CF9D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E5649-1C99-4C23-99CC-3E7203769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E971E-2BAD-4C36-B4A8-B8C735E09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37256-7CD7-4075-A5F4-95D2163AF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3BCA-F8DC-4C19-8F94-EEDA19EE1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696E-EC08-4A76-9EED-3CF1A83A0FC6}"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2DB7-0DCA-4C4A-8943-A5ACEA2E802B}"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304560"/>
            <a:ext cx="685800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rse 1 Dec. 6th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arm-up: Use the distributive property to solv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4 (12 + 8)</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3 x (9 – 6)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6(4 + 7)</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2" name=""/>
          <p:cNvSpPr/>
          <p:nvPr/>
        </p:nvSpPr>
        <p:spPr>
          <a:xfrm>
            <a:off x="3875040" y="2178000"/>
            <a:ext cx="1206720" cy="385920"/>
          </a:xfrm>
          <a:custGeom>
            <a:avLst/>
            <a:gdLst/>
            <a:ahLst/>
            <a:rect l="l" t="t" r="r" b="b"/>
            <a:pathLst>
              <a:path w="3350" h="1068">
                <a:moveTo>
                  <a:pt x="10765" y="6176"/>
                </a:moveTo>
                <a:cubicBezTo>
                  <a:pt x="11003" y="6404"/>
                  <a:pt x="11189" y="6571"/>
                  <a:pt x="11088" y="6921"/>
                </a:cubicBezTo>
                <a:cubicBezTo>
                  <a:pt x="11027" y="7040"/>
                  <a:pt x="11025" y="7067"/>
                  <a:pt x="10964" y="7119"/>
                </a:cubicBezTo>
              </a:path>
              <a:path w="3350" h="1068">
                <a:moveTo>
                  <a:pt x="12328" y="6251"/>
                </a:moveTo>
                <a:cubicBezTo>
                  <a:pt x="12201" y="6466"/>
                  <a:pt x="12121" y="6620"/>
                  <a:pt x="12154" y="6871"/>
                </a:cubicBezTo>
                <a:cubicBezTo>
                  <a:pt x="12165" y="6957"/>
                  <a:pt x="12165" y="6979"/>
                  <a:pt x="12229" y="6995"/>
                </a:cubicBezTo>
              </a:path>
              <a:path w="3350" h="1068">
                <a:moveTo>
                  <a:pt x="13643" y="6052"/>
                </a:moveTo>
                <a:cubicBezTo>
                  <a:pt x="13892" y="6274"/>
                  <a:pt x="14178" y="6468"/>
                  <a:pt x="14114" y="6846"/>
                </a:cubicBezTo>
                <a:cubicBezTo>
                  <a:pt x="14054" y="6966"/>
                  <a:pt x="14051" y="6993"/>
                  <a:pt x="13990" y="704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224160" y="2347920"/>
            <a:ext cx="714600" cy="304920"/>
          </a:xfrm>
          <a:custGeom>
            <a:avLst/>
            <a:gdLst/>
            <a:ahLst/>
            <a:rect l="l" t="t" r="r" b="b"/>
            <a:pathLst>
              <a:path w="1986" h="844">
                <a:moveTo>
                  <a:pt x="9252" y="6524"/>
                </a:moveTo>
                <a:cubicBezTo>
                  <a:pt x="9168" y="6586"/>
                  <a:pt x="8978" y="6975"/>
                  <a:pt x="8954" y="7094"/>
                </a:cubicBezTo>
                <a:cubicBezTo>
                  <a:pt x="8919" y="7271"/>
                  <a:pt x="9036" y="7343"/>
                  <a:pt x="9178" y="7367"/>
                </a:cubicBezTo>
              </a:path>
              <a:path w="1986" h="844">
                <a:moveTo>
                  <a:pt x="9451" y="6747"/>
                </a:moveTo>
                <a:cubicBezTo>
                  <a:pt x="9446" y="6807"/>
                  <a:pt x="9437" y="6841"/>
                  <a:pt x="9426" y="6896"/>
                </a:cubicBezTo>
                <a:cubicBezTo>
                  <a:pt x="9541" y="6919"/>
                  <a:pt x="9573" y="6928"/>
                  <a:pt x="9649" y="6921"/>
                </a:cubicBezTo>
              </a:path>
              <a:path w="1986" h="844">
                <a:moveTo>
                  <a:pt x="9624" y="6573"/>
                </a:moveTo>
                <a:cubicBezTo>
                  <a:pt x="9624" y="6774"/>
                  <a:pt x="9617" y="6970"/>
                  <a:pt x="9599" y="7169"/>
                </a:cubicBezTo>
                <a:cubicBezTo>
                  <a:pt x="9599" y="7161"/>
                  <a:pt x="9599" y="7152"/>
                  <a:pt x="9599" y="7144"/>
                </a:cubicBezTo>
              </a:path>
              <a:path w="1986" h="844">
                <a:moveTo>
                  <a:pt x="9798" y="6697"/>
                </a:moveTo>
                <a:cubicBezTo>
                  <a:pt x="9874" y="6802"/>
                  <a:pt x="9949" y="6946"/>
                  <a:pt x="10071" y="6995"/>
                </a:cubicBezTo>
              </a:path>
              <a:path w="1986" h="844">
                <a:moveTo>
                  <a:pt x="10170" y="6573"/>
                </a:moveTo>
                <a:cubicBezTo>
                  <a:pt x="10074" y="6746"/>
                  <a:pt x="9969" y="6912"/>
                  <a:pt x="9847" y="7069"/>
                </a:cubicBezTo>
                <a:cubicBezTo>
                  <a:pt x="9839" y="7077"/>
                  <a:pt x="9831" y="7086"/>
                  <a:pt x="9823" y="7094"/>
                </a:cubicBezTo>
              </a:path>
              <a:path w="1986" h="844">
                <a:moveTo>
                  <a:pt x="10368" y="6573"/>
                </a:moveTo>
                <a:cubicBezTo>
                  <a:pt x="10389" y="6722"/>
                  <a:pt x="10247" y="6930"/>
                  <a:pt x="10368" y="7020"/>
                </a:cubicBezTo>
                <a:cubicBezTo>
                  <a:pt x="10376" y="7012"/>
                  <a:pt x="10385" y="7003"/>
                  <a:pt x="10393" y="6995"/>
                </a:cubicBezTo>
              </a:path>
              <a:path w="1986" h="844">
                <a:moveTo>
                  <a:pt x="10542" y="6548"/>
                </a:moveTo>
                <a:cubicBezTo>
                  <a:pt x="10659" y="6535"/>
                  <a:pt x="10850" y="6488"/>
                  <a:pt x="10815" y="6672"/>
                </a:cubicBezTo>
                <a:cubicBezTo>
                  <a:pt x="10790" y="6807"/>
                  <a:pt x="10727" y="6875"/>
                  <a:pt x="10641" y="6970"/>
                </a:cubicBezTo>
                <a:cubicBezTo>
                  <a:pt x="10730" y="6970"/>
                  <a:pt x="10801" y="6958"/>
                  <a:pt x="10889" y="6945"/>
                </a:cubicBezTo>
                <a:cubicBezTo>
                  <a:pt x="10917" y="6945"/>
                  <a:pt x="10928" y="6947"/>
                  <a:pt x="10939" y="697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1960" y="2357280"/>
            <a:ext cx="142920" cy="125640"/>
          </a:xfrm>
          <a:custGeom>
            <a:avLst/>
            <a:gdLst/>
            <a:ahLst/>
            <a:rect l="l" t="t" r="r" b="b"/>
            <a:pathLst>
              <a:path w="398" h="349">
                <a:moveTo>
                  <a:pt x="11460" y="6548"/>
                </a:moveTo>
                <a:cubicBezTo>
                  <a:pt x="11475" y="6665"/>
                  <a:pt x="11469" y="6730"/>
                  <a:pt x="11460" y="6846"/>
                </a:cubicBezTo>
                <a:cubicBezTo>
                  <a:pt x="11460" y="6871"/>
                  <a:pt x="11460" y="6879"/>
                  <a:pt x="11460" y="6896"/>
                </a:cubicBezTo>
              </a:path>
              <a:path w="398" h="349">
                <a:moveTo>
                  <a:pt x="11311" y="6747"/>
                </a:moveTo>
                <a:cubicBezTo>
                  <a:pt x="11430" y="6747"/>
                  <a:pt x="11567" y="6701"/>
                  <a:pt x="11683" y="6722"/>
                </a:cubicBezTo>
                <a:cubicBezTo>
                  <a:pt x="11691" y="6730"/>
                  <a:pt x="11700" y="6739"/>
                  <a:pt x="11708" y="674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446720" y="2241720"/>
            <a:ext cx="455400" cy="223560"/>
          </a:xfrm>
          <a:custGeom>
            <a:avLst/>
            <a:gdLst/>
            <a:ahLst/>
            <a:rect l="l" t="t" r="r" b="b"/>
            <a:pathLst>
              <a:path w="1266" h="621">
                <a:moveTo>
                  <a:pt x="12452" y="6449"/>
                </a:moveTo>
                <a:cubicBezTo>
                  <a:pt x="12430" y="6516"/>
                  <a:pt x="12406" y="6533"/>
                  <a:pt x="12353" y="6573"/>
                </a:cubicBezTo>
                <a:cubicBezTo>
                  <a:pt x="12473" y="6558"/>
                  <a:pt x="12556" y="6565"/>
                  <a:pt x="12675" y="6573"/>
                </a:cubicBezTo>
                <a:cubicBezTo>
                  <a:pt x="12683" y="6573"/>
                  <a:pt x="12692" y="6573"/>
                  <a:pt x="12700" y="6573"/>
                </a:cubicBezTo>
              </a:path>
              <a:path w="1266" h="621">
                <a:moveTo>
                  <a:pt x="12650" y="6226"/>
                </a:moveTo>
                <a:cubicBezTo>
                  <a:pt x="12665" y="6421"/>
                  <a:pt x="12657" y="6601"/>
                  <a:pt x="12650" y="6796"/>
                </a:cubicBezTo>
                <a:cubicBezTo>
                  <a:pt x="12650" y="6821"/>
                  <a:pt x="12650" y="6829"/>
                  <a:pt x="12650" y="6796"/>
                </a:cubicBezTo>
              </a:path>
              <a:path w="1266" h="621">
                <a:moveTo>
                  <a:pt x="13171" y="6424"/>
                </a:moveTo>
                <a:cubicBezTo>
                  <a:pt x="13098" y="6546"/>
                  <a:pt x="12985" y="6673"/>
                  <a:pt x="12923" y="6796"/>
                </a:cubicBezTo>
                <a:cubicBezTo>
                  <a:pt x="12923" y="6831"/>
                  <a:pt x="12932" y="6835"/>
                  <a:pt x="12973" y="6796"/>
                </a:cubicBezTo>
              </a:path>
              <a:path w="1266" h="621">
                <a:moveTo>
                  <a:pt x="13593" y="6350"/>
                </a:moveTo>
                <a:cubicBezTo>
                  <a:pt x="13499" y="6403"/>
                  <a:pt x="13386" y="6447"/>
                  <a:pt x="13345" y="6548"/>
                </a:cubicBezTo>
                <a:cubicBezTo>
                  <a:pt x="13432" y="6596"/>
                  <a:pt x="13654" y="6667"/>
                  <a:pt x="13618" y="6796"/>
                </a:cubicBezTo>
                <a:cubicBezTo>
                  <a:pt x="13601" y="6813"/>
                  <a:pt x="13585" y="6829"/>
                  <a:pt x="13568" y="6846"/>
                </a:cubicBezTo>
                <a:cubicBezTo>
                  <a:pt x="13418" y="6746"/>
                  <a:pt x="13535" y="6653"/>
                  <a:pt x="13593" y="6499"/>
                </a:cubicBezTo>
                <a:cubicBezTo>
                  <a:pt x="13621" y="6424"/>
                  <a:pt x="13642" y="6391"/>
                  <a:pt x="13593" y="63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643280" y="2330280"/>
            <a:ext cx="81000" cy="115920"/>
          </a:xfrm>
          <a:custGeom>
            <a:avLst/>
            <a:gdLst/>
            <a:ahLst/>
            <a:rect l="l" t="t" r="r" b="b"/>
            <a:pathLst>
              <a:path w="225" h="323">
                <a:moveTo>
                  <a:pt x="12898" y="6474"/>
                </a:moveTo>
                <a:cubicBezTo>
                  <a:pt x="12942" y="6597"/>
                  <a:pt x="12971" y="6734"/>
                  <a:pt x="13097" y="6796"/>
                </a:cubicBezTo>
                <a:cubicBezTo>
                  <a:pt x="13105" y="6796"/>
                  <a:pt x="13114" y="6796"/>
                  <a:pt x="13122" y="679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562200" y="2598840"/>
            <a:ext cx="287640" cy="133200"/>
          </a:xfrm>
          <a:custGeom>
            <a:avLst/>
            <a:gdLst/>
            <a:ahLst/>
            <a:rect l="l" t="t" r="r" b="b"/>
            <a:pathLst>
              <a:path w="795" h="373">
                <a:moveTo>
                  <a:pt x="9947" y="7268"/>
                </a:moveTo>
                <a:cubicBezTo>
                  <a:pt x="9955" y="7260"/>
                  <a:pt x="9963" y="7251"/>
                  <a:pt x="9971" y="7243"/>
                </a:cubicBezTo>
                <a:cubicBezTo>
                  <a:pt x="9960" y="7301"/>
                  <a:pt x="9934" y="7345"/>
                  <a:pt x="9897" y="7392"/>
                </a:cubicBezTo>
                <a:cubicBezTo>
                  <a:pt x="9974" y="7392"/>
                  <a:pt x="10040" y="7370"/>
                  <a:pt x="10120" y="7367"/>
                </a:cubicBezTo>
                <a:cubicBezTo>
                  <a:pt x="10178" y="7367"/>
                  <a:pt x="10187" y="7367"/>
                  <a:pt x="10220" y="7367"/>
                </a:cubicBezTo>
              </a:path>
              <a:path w="795" h="373">
                <a:moveTo>
                  <a:pt x="10195" y="7243"/>
                </a:moveTo>
                <a:cubicBezTo>
                  <a:pt x="10195" y="7359"/>
                  <a:pt x="10195" y="7474"/>
                  <a:pt x="10195" y="7590"/>
                </a:cubicBezTo>
              </a:path>
              <a:path w="795" h="373">
                <a:moveTo>
                  <a:pt x="10641" y="7218"/>
                </a:moveTo>
                <a:cubicBezTo>
                  <a:pt x="10579" y="7250"/>
                  <a:pt x="10363" y="7312"/>
                  <a:pt x="10492" y="7392"/>
                </a:cubicBezTo>
                <a:cubicBezTo>
                  <a:pt x="10629" y="7477"/>
                  <a:pt x="10651" y="7421"/>
                  <a:pt x="10691" y="7565"/>
                </a:cubicBezTo>
                <a:cubicBezTo>
                  <a:pt x="10666" y="7573"/>
                  <a:pt x="10641" y="7582"/>
                  <a:pt x="10616" y="7590"/>
                </a:cubicBezTo>
                <a:cubicBezTo>
                  <a:pt x="10524" y="7482"/>
                  <a:pt x="10604" y="7427"/>
                  <a:pt x="10641" y="7293"/>
                </a:cubicBezTo>
                <a:cubicBezTo>
                  <a:pt x="10641" y="7285"/>
                  <a:pt x="10641" y="7276"/>
                  <a:pt x="10641" y="72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160880" y="2608200"/>
            <a:ext cx="81000" cy="79560"/>
          </a:xfrm>
          <a:custGeom>
            <a:avLst/>
            <a:gdLst/>
            <a:ahLst/>
            <a:rect l="l" t="t" r="r" b="b"/>
            <a:pathLst>
              <a:path w="224" h="224">
                <a:moveTo>
                  <a:pt x="11633" y="7243"/>
                </a:moveTo>
                <a:cubicBezTo>
                  <a:pt x="11633" y="7299"/>
                  <a:pt x="11622" y="7425"/>
                  <a:pt x="11658" y="7466"/>
                </a:cubicBezTo>
                <a:cubicBezTo>
                  <a:pt x="11666" y="7466"/>
                  <a:pt x="11675" y="7466"/>
                  <a:pt x="11683" y="7466"/>
                </a:cubicBezTo>
              </a:path>
              <a:path w="224" h="224">
                <a:moveTo>
                  <a:pt x="11559" y="7392"/>
                </a:moveTo>
                <a:cubicBezTo>
                  <a:pt x="11629" y="7376"/>
                  <a:pt x="11685" y="7324"/>
                  <a:pt x="11757" y="7317"/>
                </a:cubicBezTo>
                <a:cubicBezTo>
                  <a:pt x="11765" y="7317"/>
                  <a:pt x="11774" y="7317"/>
                  <a:pt x="11782" y="7317"/>
                </a:cubicBezTo>
              </a:path>
            </a:pathLst>
          </a:custGeom>
          <a:noFill/>
          <a:ln cap="rnd" w="1908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 name=""/>
          <p:cNvSpPr/>
          <p:nvPr/>
        </p:nvSpPr>
        <p:spPr>
          <a:xfrm>
            <a:off x="4633920" y="2598840"/>
            <a:ext cx="268200" cy="125280"/>
          </a:xfrm>
          <a:custGeom>
            <a:avLst/>
            <a:gdLst/>
            <a:ahLst/>
            <a:rect l="l" t="t" r="r" b="b"/>
            <a:pathLst>
              <a:path w="745" h="348">
                <a:moveTo>
                  <a:pt x="12874" y="7293"/>
                </a:moveTo>
                <a:cubicBezTo>
                  <a:pt x="12913" y="7261"/>
                  <a:pt x="12952" y="7241"/>
                  <a:pt x="12998" y="7218"/>
                </a:cubicBezTo>
                <a:cubicBezTo>
                  <a:pt x="13014" y="7309"/>
                  <a:pt x="13028" y="7298"/>
                  <a:pt x="12973" y="7367"/>
                </a:cubicBezTo>
                <a:cubicBezTo>
                  <a:pt x="13057" y="7367"/>
                  <a:pt x="13182" y="7362"/>
                  <a:pt x="13097" y="7491"/>
                </a:cubicBezTo>
                <a:cubicBezTo>
                  <a:pt x="13049" y="7563"/>
                  <a:pt x="13007" y="7592"/>
                  <a:pt x="12973" y="7541"/>
                </a:cubicBezTo>
              </a:path>
              <a:path w="745" h="348">
                <a:moveTo>
                  <a:pt x="13370" y="7218"/>
                </a:moveTo>
                <a:cubicBezTo>
                  <a:pt x="13455" y="7218"/>
                  <a:pt x="13536" y="7220"/>
                  <a:pt x="13568" y="7317"/>
                </a:cubicBezTo>
                <a:cubicBezTo>
                  <a:pt x="13618" y="7468"/>
                  <a:pt x="13468" y="7538"/>
                  <a:pt x="13345" y="7516"/>
                </a:cubicBezTo>
                <a:cubicBezTo>
                  <a:pt x="13328" y="7508"/>
                  <a:pt x="13312" y="7499"/>
                  <a:pt x="13295" y="7491"/>
                </a:cubicBezTo>
                <a:cubicBezTo>
                  <a:pt x="13344" y="7426"/>
                  <a:pt x="13432" y="7413"/>
                  <a:pt x="13519" y="7441"/>
                </a:cubicBezTo>
                <a:cubicBezTo>
                  <a:pt x="13623" y="7474"/>
                  <a:pt x="13516" y="7474"/>
                  <a:pt x="13618" y="74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303880" y="2581200"/>
            <a:ext cx="81000" cy="54000"/>
          </a:xfrm>
          <a:custGeom>
            <a:avLst/>
            <a:gdLst/>
            <a:ahLst/>
            <a:rect l="l" t="t" r="r" b="b"/>
            <a:pathLst>
              <a:path w="224" h="149">
                <a:moveTo>
                  <a:pt x="14734" y="7193"/>
                </a:moveTo>
                <a:cubicBezTo>
                  <a:pt x="14815" y="7193"/>
                  <a:pt x="14879" y="7187"/>
                  <a:pt x="14957" y="7169"/>
                </a:cubicBezTo>
              </a:path>
              <a:path w="224" h="149">
                <a:moveTo>
                  <a:pt x="14734" y="7317"/>
                </a:moveTo>
                <a:cubicBezTo>
                  <a:pt x="14822" y="7317"/>
                  <a:pt x="14902" y="7311"/>
                  <a:pt x="14957" y="7293"/>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5599080" y="2500200"/>
            <a:ext cx="357120" cy="169920"/>
          </a:xfrm>
          <a:custGeom>
            <a:avLst/>
            <a:gdLst/>
            <a:ahLst/>
            <a:rect l="l" t="t" r="r" b="b"/>
            <a:pathLst>
              <a:path w="993" h="473">
                <a:moveTo>
                  <a:pt x="15900" y="6995"/>
                </a:moveTo>
                <a:cubicBezTo>
                  <a:pt x="15774" y="6911"/>
                  <a:pt x="15683" y="6969"/>
                  <a:pt x="15553" y="7020"/>
                </a:cubicBezTo>
                <a:cubicBezTo>
                  <a:pt x="15632" y="7139"/>
                  <a:pt x="15801" y="7115"/>
                  <a:pt x="15875" y="7243"/>
                </a:cubicBezTo>
                <a:cubicBezTo>
                  <a:pt x="15972" y="7410"/>
                  <a:pt x="15673" y="7342"/>
                  <a:pt x="15627" y="7317"/>
                </a:cubicBezTo>
                <a:cubicBezTo>
                  <a:pt x="15694" y="7210"/>
                  <a:pt x="15769" y="7118"/>
                  <a:pt x="15850" y="7020"/>
                </a:cubicBezTo>
              </a:path>
              <a:path w="993" h="473">
                <a:moveTo>
                  <a:pt x="16371" y="6945"/>
                </a:moveTo>
                <a:cubicBezTo>
                  <a:pt x="16247" y="6945"/>
                  <a:pt x="16192" y="6993"/>
                  <a:pt x="16148" y="7119"/>
                </a:cubicBezTo>
                <a:cubicBezTo>
                  <a:pt x="16089" y="7287"/>
                  <a:pt x="16147" y="7455"/>
                  <a:pt x="16346" y="7392"/>
                </a:cubicBezTo>
                <a:cubicBezTo>
                  <a:pt x="16513" y="7339"/>
                  <a:pt x="16643" y="7137"/>
                  <a:pt x="16446" y="7020"/>
                </a:cubicBezTo>
                <a:cubicBezTo>
                  <a:pt x="16362" y="6999"/>
                  <a:pt x="16342" y="6998"/>
                  <a:pt x="16297" y="697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340080" y="3062160"/>
            <a:ext cx="1446120" cy="287640"/>
          </a:xfrm>
          <a:custGeom>
            <a:avLst/>
            <a:gdLst/>
            <a:ahLst/>
            <a:rect l="l" t="t" r="r" b="b"/>
            <a:pathLst>
              <a:path w="4019" h="795">
                <a:moveTo>
                  <a:pt x="9376" y="8558"/>
                </a:moveTo>
                <a:cubicBezTo>
                  <a:pt x="9263" y="8737"/>
                  <a:pt x="9257" y="8925"/>
                  <a:pt x="9327" y="9128"/>
                </a:cubicBezTo>
                <a:cubicBezTo>
                  <a:pt x="9363" y="9234"/>
                  <a:pt x="9409" y="9271"/>
                  <a:pt x="9500" y="9302"/>
                </a:cubicBezTo>
              </a:path>
              <a:path w="4019" h="795">
                <a:moveTo>
                  <a:pt x="13295" y="8508"/>
                </a:moveTo>
                <a:cubicBezTo>
                  <a:pt x="13246" y="8617"/>
                  <a:pt x="13193" y="8721"/>
                  <a:pt x="13146" y="88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483000" y="3106800"/>
            <a:ext cx="231840" cy="179280"/>
          </a:xfrm>
          <a:custGeom>
            <a:avLst/>
            <a:gdLst/>
            <a:ahLst/>
            <a:rect l="l" t="t" r="r" b="b"/>
            <a:pathLst>
              <a:path w="646" h="497">
                <a:moveTo>
                  <a:pt x="9674" y="8781"/>
                </a:moveTo>
                <a:cubicBezTo>
                  <a:pt x="9700" y="8703"/>
                  <a:pt x="9726" y="8680"/>
                  <a:pt x="9798" y="8632"/>
                </a:cubicBezTo>
                <a:cubicBezTo>
                  <a:pt x="9798" y="8719"/>
                  <a:pt x="9774" y="8754"/>
                  <a:pt x="9748" y="8830"/>
                </a:cubicBezTo>
                <a:cubicBezTo>
                  <a:pt x="9863" y="8869"/>
                  <a:pt x="9906" y="8960"/>
                  <a:pt x="9847" y="9079"/>
                </a:cubicBezTo>
                <a:cubicBezTo>
                  <a:pt x="9810" y="9153"/>
                  <a:pt x="9739" y="9128"/>
                  <a:pt x="9674" y="9128"/>
                </a:cubicBezTo>
              </a:path>
              <a:path w="646" h="497">
                <a:moveTo>
                  <a:pt x="10096" y="8731"/>
                </a:moveTo>
                <a:cubicBezTo>
                  <a:pt x="10176" y="8812"/>
                  <a:pt x="10251" y="8888"/>
                  <a:pt x="10319" y="8979"/>
                </a:cubicBezTo>
              </a:path>
              <a:path w="646" h="497">
                <a:moveTo>
                  <a:pt x="10319" y="8632"/>
                </a:moveTo>
                <a:cubicBezTo>
                  <a:pt x="10251" y="8742"/>
                  <a:pt x="10206" y="8928"/>
                  <a:pt x="10145" y="900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821040" y="3009960"/>
            <a:ext cx="216000" cy="295200"/>
          </a:xfrm>
          <a:custGeom>
            <a:avLst/>
            <a:gdLst/>
            <a:ahLst/>
            <a:rect l="l" t="t" r="r" b="b"/>
            <a:pathLst>
              <a:path w="597" h="820">
                <a:moveTo>
                  <a:pt x="10889" y="8731"/>
                </a:moveTo>
                <a:cubicBezTo>
                  <a:pt x="10874" y="8640"/>
                  <a:pt x="10860" y="8607"/>
                  <a:pt x="10790" y="8558"/>
                </a:cubicBezTo>
                <a:cubicBezTo>
                  <a:pt x="10744" y="8585"/>
                  <a:pt x="10482" y="8797"/>
                  <a:pt x="10666" y="8855"/>
                </a:cubicBezTo>
                <a:cubicBezTo>
                  <a:pt x="10784" y="8892"/>
                  <a:pt x="10844" y="8727"/>
                  <a:pt x="10864" y="8657"/>
                </a:cubicBezTo>
                <a:cubicBezTo>
                  <a:pt x="10864" y="8774"/>
                  <a:pt x="10902" y="8893"/>
                  <a:pt x="10939" y="9004"/>
                </a:cubicBezTo>
                <a:cubicBezTo>
                  <a:pt x="10959" y="9045"/>
                  <a:pt x="10968" y="9072"/>
                  <a:pt x="10964" y="9029"/>
                </a:cubicBezTo>
              </a:path>
              <a:path w="597" h="820">
                <a:moveTo>
                  <a:pt x="10864" y="8359"/>
                </a:moveTo>
                <a:cubicBezTo>
                  <a:pt x="11097" y="8515"/>
                  <a:pt x="11217" y="8636"/>
                  <a:pt x="11212" y="8930"/>
                </a:cubicBezTo>
                <a:cubicBezTo>
                  <a:pt x="11210" y="9059"/>
                  <a:pt x="11170" y="9079"/>
                  <a:pt x="11137" y="917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187880" y="3160800"/>
            <a:ext cx="108000" cy="19080"/>
          </a:xfrm>
          <a:custGeom>
            <a:avLst/>
            <a:gdLst/>
            <a:ahLst/>
            <a:rect l="l" t="t" r="r" b="b"/>
            <a:pathLst>
              <a:path w="299" h="50">
                <a:moveTo>
                  <a:pt x="11633" y="8830"/>
                </a:moveTo>
                <a:cubicBezTo>
                  <a:pt x="11730" y="8830"/>
                  <a:pt x="11813" y="8801"/>
                  <a:pt x="11906" y="8781"/>
                </a:cubicBezTo>
                <a:cubicBezTo>
                  <a:pt x="11914" y="8781"/>
                  <a:pt x="11923" y="8781"/>
                  <a:pt x="11931" y="8781"/>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6" name=""/>
          <p:cNvSpPr/>
          <p:nvPr/>
        </p:nvSpPr>
        <p:spPr>
          <a:xfrm>
            <a:off x="4446720" y="3017880"/>
            <a:ext cx="331560" cy="260280"/>
          </a:xfrm>
          <a:custGeom>
            <a:avLst/>
            <a:gdLst/>
            <a:ahLst/>
            <a:rect l="l" t="t" r="r" b="b"/>
            <a:pathLst>
              <a:path w="919" h="720">
                <a:moveTo>
                  <a:pt x="12477" y="8409"/>
                </a:moveTo>
                <a:cubicBezTo>
                  <a:pt x="12442" y="8443"/>
                  <a:pt x="12355" y="8774"/>
                  <a:pt x="12353" y="8905"/>
                </a:cubicBezTo>
                <a:cubicBezTo>
                  <a:pt x="12351" y="9048"/>
                  <a:pt x="12389" y="9087"/>
                  <a:pt x="12502" y="9103"/>
                </a:cubicBezTo>
              </a:path>
              <a:path w="919" h="720">
                <a:moveTo>
                  <a:pt x="12650" y="8607"/>
                </a:moveTo>
                <a:cubicBezTo>
                  <a:pt x="12698" y="8588"/>
                  <a:pt x="12745" y="8557"/>
                  <a:pt x="12799" y="8533"/>
                </a:cubicBezTo>
                <a:cubicBezTo>
                  <a:pt x="12847" y="8645"/>
                  <a:pt x="12818" y="8686"/>
                  <a:pt x="12725" y="8756"/>
                </a:cubicBezTo>
                <a:cubicBezTo>
                  <a:pt x="12768" y="8778"/>
                  <a:pt x="12849" y="8738"/>
                  <a:pt x="12874" y="8830"/>
                </a:cubicBezTo>
                <a:cubicBezTo>
                  <a:pt x="12899" y="8921"/>
                  <a:pt x="12710" y="9098"/>
                  <a:pt x="12700" y="9004"/>
                </a:cubicBezTo>
                <a:cubicBezTo>
                  <a:pt x="12708" y="8987"/>
                  <a:pt x="12717" y="8971"/>
                  <a:pt x="12725" y="8954"/>
                </a:cubicBezTo>
              </a:path>
              <a:path w="919" h="720">
                <a:moveTo>
                  <a:pt x="13072" y="8582"/>
                </a:moveTo>
                <a:cubicBezTo>
                  <a:pt x="13088" y="8611"/>
                  <a:pt x="13223" y="8814"/>
                  <a:pt x="13271" y="8806"/>
                </a:cubicBezTo>
                <a:cubicBezTo>
                  <a:pt x="13271" y="8798"/>
                  <a:pt x="13271" y="8789"/>
                  <a:pt x="13271" y="87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875120" y="2990880"/>
            <a:ext cx="196920" cy="268200"/>
          </a:xfrm>
          <a:custGeom>
            <a:avLst/>
            <a:gdLst/>
            <a:ahLst/>
            <a:rect l="l" t="t" r="r" b="b"/>
            <a:pathLst>
              <a:path w="547" h="745">
                <a:moveTo>
                  <a:pt x="13593" y="8483"/>
                </a:moveTo>
                <a:cubicBezTo>
                  <a:pt x="13583" y="8608"/>
                  <a:pt x="13523" y="8734"/>
                  <a:pt x="13568" y="8855"/>
                </a:cubicBezTo>
                <a:cubicBezTo>
                  <a:pt x="13611" y="8972"/>
                  <a:pt x="13686" y="8926"/>
                  <a:pt x="13742" y="8855"/>
                </a:cubicBezTo>
                <a:cubicBezTo>
                  <a:pt x="13750" y="8839"/>
                  <a:pt x="13759" y="8822"/>
                  <a:pt x="13767" y="8806"/>
                </a:cubicBezTo>
                <a:cubicBezTo>
                  <a:pt x="13737" y="8776"/>
                  <a:pt x="13723" y="8765"/>
                  <a:pt x="13692" y="8756"/>
                </a:cubicBezTo>
                <a:cubicBezTo>
                  <a:pt x="13640" y="8809"/>
                  <a:pt x="13615" y="8875"/>
                  <a:pt x="13667" y="8930"/>
                </a:cubicBezTo>
              </a:path>
              <a:path w="547" h="745">
                <a:moveTo>
                  <a:pt x="13717" y="8310"/>
                </a:moveTo>
                <a:cubicBezTo>
                  <a:pt x="13852" y="8432"/>
                  <a:pt x="14066" y="8533"/>
                  <a:pt x="14089" y="8731"/>
                </a:cubicBezTo>
                <a:cubicBezTo>
                  <a:pt x="14104" y="8858"/>
                  <a:pt x="14021" y="9044"/>
                  <a:pt x="13915" y="90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116680" y="3394080"/>
            <a:ext cx="107640" cy="17280"/>
          </a:xfrm>
          <a:custGeom>
            <a:avLst/>
            <a:gdLst/>
            <a:ahLst/>
            <a:rect l="l" t="t" r="r" b="b"/>
            <a:pathLst>
              <a:path w="299" h="50">
                <a:moveTo>
                  <a:pt x="14213" y="9475"/>
                </a:moveTo>
                <a:cubicBezTo>
                  <a:pt x="14314" y="9466"/>
                  <a:pt x="14411" y="9446"/>
                  <a:pt x="14511" y="9426"/>
                </a:cubicBezTo>
              </a:path>
            </a:pathLst>
          </a:custGeom>
          <a:noFill/>
          <a:ln cap="rnd" w="190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 name=""/>
          <p:cNvSpPr/>
          <p:nvPr/>
        </p:nvSpPr>
        <p:spPr>
          <a:xfrm>
            <a:off x="3598920" y="3357720"/>
            <a:ext cx="258840" cy="134640"/>
          </a:xfrm>
          <a:custGeom>
            <a:avLst/>
            <a:gdLst/>
            <a:ahLst/>
            <a:rect l="l" t="t" r="r" b="b"/>
            <a:pathLst>
              <a:path w="721" h="373">
                <a:moveTo>
                  <a:pt x="10071" y="9351"/>
                </a:moveTo>
                <a:cubicBezTo>
                  <a:pt x="10208" y="9315"/>
                  <a:pt x="10207" y="9330"/>
                  <a:pt x="10319" y="9401"/>
                </a:cubicBezTo>
                <a:cubicBezTo>
                  <a:pt x="10306" y="9612"/>
                  <a:pt x="10212" y="9625"/>
                  <a:pt x="9996" y="9649"/>
                </a:cubicBezTo>
                <a:cubicBezTo>
                  <a:pt x="10018" y="9562"/>
                  <a:pt x="10135" y="9525"/>
                  <a:pt x="10220" y="9525"/>
                </a:cubicBezTo>
                <a:cubicBezTo>
                  <a:pt x="10376" y="9525"/>
                  <a:pt x="10279" y="9553"/>
                  <a:pt x="10344" y="9575"/>
                </a:cubicBezTo>
              </a:path>
              <a:path w="721" h="373">
                <a:moveTo>
                  <a:pt x="10393" y="9351"/>
                </a:moveTo>
                <a:cubicBezTo>
                  <a:pt x="10465" y="9336"/>
                  <a:pt x="10636" y="9279"/>
                  <a:pt x="10691" y="9351"/>
                </a:cubicBezTo>
                <a:cubicBezTo>
                  <a:pt x="10760" y="9442"/>
                  <a:pt x="10686" y="9581"/>
                  <a:pt x="10666" y="9674"/>
                </a:cubicBezTo>
                <a:cubicBezTo>
                  <a:pt x="10666" y="9682"/>
                  <a:pt x="10666" y="9691"/>
                  <a:pt x="10666" y="969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224240" y="3411360"/>
            <a:ext cx="71640" cy="1800"/>
          </a:xfrm>
          <a:custGeom>
            <a:avLst/>
            <a:gdLst/>
            <a:ahLst/>
            <a:rect l="l" t="t" r="r" b="b"/>
            <a:pathLst>
              <a:path w="199" h="1">
                <a:moveTo>
                  <a:pt x="11733" y="9475"/>
                </a:moveTo>
                <a:cubicBezTo>
                  <a:pt x="11799" y="9475"/>
                  <a:pt x="11865" y="9475"/>
                  <a:pt x="11931" y="9475"/>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a:off x="4660920" y="3367080"/>
            <a:ext cx="196920" cy="133200"/>
          </a:xfrm>
          <a:custGeom>
            <a:avLst/>
            <a:gdLst/>
            <a:ahLst/>
            <a:rect l="l" t="t" r="r" b="b"/>
            <a:pathLst>
              <a:path w="547" h="373">
                <a:moveTo>
                  <a:pt x="12948" y="9351"/>
                </a:moveTo>
                <a:cubicBezTo>
                  <a:pt x="12953" y="9442"/>
                  <a:pt x="12937" y="9651"/>
                  <a:pt x="12998" y="9723"/>
                </a:cubicBezTo>
                <a:cubicBezTo>
                  <a:pt x="13055" y="9723"/>
                  <a:pt x="13084" y="9696"/>
                  <a:pt x="13097" y="9624"/>
                </a:cubicBezTo>
              </a:path>
              <a:path w="547" h="373">
                <a:moveTo>
                  <a:pt x="13419" y="9351"/>
                </a:moveTo>
                <a:cubicBezTo>
                  <a:pt x="13307" y="9360"/>
                  <a:pt x="13288" y="9367"/>
                  <a:pt x="13221" y="9451"/>
                </a:cubicBezTo>
                <a:cubicBezTo>
                  <a:pt x="13263" y="9505"/>
                  <a:pt x="13488" y="9617"/>
                  <a:pt x="13494" y="9649"/>
                </a:cubicBezTo>
                <a:cubicBezTo>
                  <a:pt x="13466" y="9706"/>
                  <a:pt x="13450" y="9724"/>
                  <a:pt x="13395" y="9723"/>
                </a:cubicBezTo>
                <a:cubicBezTo>
                  <a:pt x="13395" y="9600"/>
                  <a:pt x="13429" y="9515"/>
                  <a:pt x="13444" y="9401"/>
                </a:cubicBezTo>
                <a:cubicBezTo>
                  <a:pt x="13444" y="9393"/>
                  <a:pt x="13444" y="9384"/>
                  <a:pt x="13444" y="93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099040" y="3348000"/>
            <a:ext cx="125280" cy="9720"/>
          </a:xfrm>
          <a:custGeom>
            <a:avLst/>
            <a:gdLst/>
            <a:ahLst/>
            <a:rect l="l" t="t" r="r" b="b"/>
            <a:pathLst>
              <a:path w="349" h="26">
                <a:moveTo>
                  <a:pt x="14163" y="9327"/>
                </a:moveTo>
                <a:cubicBezTo>
                  <a:pt x="14276" y="9320"/>
                  <a:pt x="14436" y="9282"/>
                  <a:pt x="14511" y="9327"/>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 name=""/>
          <p:cNvSpPr/>
          <p:nvPr/>
        </p:nvSpPr>
        <p:spPr>
          <a:xfrm>
            <a:off x="5572080" y="3232080"/>
            <a:ext cx="152280" cy="189000"/>
          </a:xfrm>
          <a:custGeom>
            <a:avLst/>
            <a:gdLst/>
            <a:ahLst/>
            <a:rect l="l" t="t" r="r" b="b"/>
            <a:pathLst>
              <a:path w="423" h="522">
                <a:moveTo>
                  <a:pt x="15776" y="9178"/>
                </a:moveTo>
                <a:cubicBezTo>
                  <a:pt x="15829" y="9178"/>
                  <a:pt x="15879" y="9138"/>
                  <a:pt x="15825" y="9054"/>
                </a:cubicBezTo>
                <a:cubicBezTo>
                  <a:pt x="15738" y="8920"/>
                  <a:pt x="15513" y="8982"/>
                  <a:pt x="15478" y="9128"/>
                </a:cubicBezTo>
                <a:cubicBezTo>
                  <a:pt x="15437" y="9296"/>
                  <a:pt x="15696" y="9213"/>
                  <a:pt x="15751" y="9178"/>
                </a:cubicBezTo>
                <a:cubicBezTo>
                  <a:pt x="15769" y="9166"/>
                  <a:pt x="15760" y="9138"/>
                  <a:pt x="15801" y="9128"/>
                </a:cubicBezTo>
                <a:cubicBezTo>
                  <a:pt x="15827" y="9245"/>
                  <a:pt x="15867" y="9353"/>
                  <a:pt x="15875" y="9475"/>
                </a:cubicBezTo>
                <a:cubicBezTo>
                  <a:pt x="15875" y="9500"/>
                  <a:pt x="15875" y="9508"/>
                  <a:pt x="15900" y="95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679920" y="3813120"/>
            <a:ext cx="1436760" cy="411120"/>
          </a:xfrm>
          <a:custGeom>
            <a:avLst/>
            <a:gdLst/>
            <a:ahLst/>
            <a:rect l="l" t="t" r="r" b="b"/>
            <a:pathLst>
              <a:path w="3994" h="1142">
                <a:moveTo>
                  <a:pt x="10418" y="11311"/>
                </a:moveTo>
                <a:cubicBezTo>
                  <a:pt x="10360" y="11447"/>
                  <a:pt x="10274" y="11580"/>
                  <a:pt x="10220" y="11708"/>
                </a:cubicBezTo>
              </a:path>
              <a:path w="3994" h="1142">
                <a:moveTo>
                  <a:pt x="11460" y="11485"/>
                </a:moveTo>
                <a:cubicBezTo>
                  <a:pt x="11569" y="11461"/>
                  <a:pt x="11671" y="11442"/>
                  <a:pt x="11782" y="11435"/>
                </a:cubicBezTo>
              </a:path>
              <a:path w="3994" h="1142">
                <a:moveTo>
                  <a:pt x="12378" y="10939"/>
                </a:moveTo>
                <a:cubicBezTo>
                  <a:pt x="12223" y="11158"/>
                  <a:pt x="12129" y="11372"/>
                  <a:pt x="12254" y="11633"/>
                </a:cubicBezTo>
                <a:cubicBezTo>
                  <a:pt x="12322" y="11702"/>
                  <a:pt x="12338" y="11724"/>
                  <a:pt x="12402" y="11733"/>
                </a:cubicBezTo>
              </a:path>
              <a:path w="3994" h="1142">
                <a:moveTo>
                  <a:pt x="13097" y="11162"/>
                </a:moveTo>
                <a:cubicBezTo>
                  <a:pt x="13136" y="11213"/>
                  <a:pt x="13270" y="11438"/>
                  <a:pt x="13295" y="11385"/>
                </a:cubicBezTo>
              </a:path>
              <a:path w="3994" h="1142">
                <a:moveTo>
                  <a:pt x="13742" y="10592"/>
                </a:moveTo>
                <a:cubicBezTo>
                  <a:pt x="13950" y="10808"/>
                  <a:pt x="14248" y="11046"/>
                  <a:pt x="14213" y="11385"/>
                </a:cubicBezTo>
                <a:cubicBezTo>
                  <a:pt x="14197" y="11539"/>
                  <a:pt x="14077" y="11573"/>
                  <a:pt x="13965" y="1163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67080" y="3963960"/>
            <a:ext cx="606600" cy="366840"/>
          </a:xfrm>
          <a:custGeom>
            <a:avLst/>
            <a:gdLst/>
            <a:ahLst/>
            <a:rect l="l" t="t" r="r" b="b"/>
            <a:pathLst>
              <a:path w="1688" h="1018">
                <a:moveTo>
                  <a:pt x="9525" y="11112"/>
                </a:moveTo>
                <a:cubicBezTo>
                  <a:pt x="9525" y="11089"/>
                  <a:pt x="9362" y="11521"/>
                  <a:pt x="9351" y="11584"/>
                </a:cubicBezTo>
                <a:cubicBezTo>
                  <a:pt x="9329" y="11706"/>
                  <a:pt x="9358" y="11897"/>
                  <a:pt x="9500" y="11857"/>
                </a:cubicBezTo>
              </a:path>
              <a:path w="1688" h="1018">
                <a:moveTo>
                  <a:pt x="9699" y="11286"/>
                </a:moveTo>
                <a:cubicBezTo>
                  <a:pt x="9642" y="11422"/>
                  <a:pt x="9560" y="11584"/>
                  <a:pt x="9624" y="11733"/>
                </a:cubicBezTo>
                <a:cubicBezTo>
                  <a:pt x="9693" y="11893"/>
                  <a:pt x="9889" y="11730"/>
                  <a:pt x="9922" y="11633"/>
                </a:cubicBezTo>
                <a:cubicBezTo>
                  <a:pt x="9922" y="11608"/>
                  <a:pt x="9922" y="11584"/>
                  <a:pt x="9922" y="11559"/>
                </a:cubicBezTo>
                <a:cubicBezTo>
                  <a:pt x="9823" y="11570"/>
                  <a:pt x="9723" y="11607"/>
                  <a:pt x="9723" y="11733"/>
                </a:cubicBezTo>
                <a:cubicBezTo>
                  <a:pt x="9764" y="11773"/>
                  <a:pt x="9794" y="11775"/>
                  <a:pt x="9847" y="11733"/>
                </a:cubicBezTo>
              </a:path>
              <a:path w="1688" h="1018">
                <a:moveTo>
                  <a:pt x="10145" y="11311"/>
                </a:moveTo>
                <a:cubicBezTo>
                  <a:pt x="10205" y="11424"/>
                  <a:pt x="10284" y="11537"/>
                  <a:pt x="10319" y="11658"/>
                </a:cubicBezTo>
              </a:path>
              <a:path w="1688" h="1018">
                <a:moveTo>
                  <a:pt x="10592" y="11460"/>
                </a:moveTo>
                <a:cubicBezTo>
                  <a:pt x="10554" y="11516"/>
                  <a:pt x="10537" y="11519"/>
                  <a:pt x="10542" y="11559"/>
                </a:cubicBezTo>
                <a:cubicBezTo>
                  <a:pt x="10639" y="11547"/>
                  <a:pt x="10693" y="11549"/>
                  <a:pt x="10790" y="11559"/>
                </a:cubicBezTo>
              </a:path>
              <a:path w="1688" h="1018">
                <a:moveTo>
                  <a:pt x="10740" y="11286"/>
                </a:moveTo>
                <a:cubicBezTo>
                  <a:pt x="10721" y="11453"/>
                  <a:pt x="10716" y="11613"/>
                  <a:pt x="10716" y="11782"/>
                </a:cubicBezTo>
                <a:cubicBezTo>
                  <a:pt x="10716" y="11766"/>
                  <a:pt x="10716" y="11749"/>
                  <a:pt x="10716" y="11733"/>
                </a:cubicBezTo>
              </a:path>
              <a:path w="1688" h="1018">
                <a:moveTo>
                  <a:pt x="10691" y="11013"/>
                </a:moveTo>
                <a:cubicBezTo>
                  <a:pt x="10924" y="11235"/>
                  <a:pt x="11113" y="11455"/>
                  <a:pt x="11013" y="11807"/>
                </a:cubicBezTo>
                <a:cubicBezTo>
                  <a:pt x="10997" y="11865"/>
                  <a:pt x="10893" y="11998"/>
                  <a:pt x="10840" y="120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179960" y="4037040"/>
            <a:ext cx="7920" cy="142920"/>
          </a:xfrm>
          <a:custGeom>
            <a:avLst/>
            <a:gdLst/>
            <a:ahLst/>
            <a:rect l="l" t="t" r="r" b="b"/>
            <a:pathLst>
              <a:path w="25" h="398">
                <a:moveTo>
                  <a:pt x="11609" y="11212"/>
                </a:moveTo>
                <a:cubicBezTo>
                  <a:pt x="11609" y="11339"/>
                  <a:pt x="11626" y="11458"/>
                  <a:pt x="11633" y="11584"/>
                </a:cubicBezTo>
                <a:cubicBezTo>
                  <a:pt x="11633" y="11592"/>
                  <a:pt x="11633" y="11601"/>
                  <a:pt x="11633" y="116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37080" y="3963960"/>
            <a:ext cx="428760" cy="206280"/>
          </a:xfrm>
          <a:custGeom>
            <a:avLst/>
            <a:gdLst/>
            <a:ahLst/>
            <a:rect l="l" t="t" r="r" b="b"/>
            <a:pathLst>
              <a:path w="1191" h="572">
                <a:moveTo>
                  <a:pt x="12650" y="11187"/>
                </a:moveTo>
                <a:cubicBezTo>
                  <a:pt x="12623" y="11285"/>
                  <a:pt x="12518" y="11535"/>
                  <a:pt x="12675" y="11584"/>
                </a:cubicBezTo>
                <a:cubicBezTo>
                  <a:pt x="12821" y="11630"/>
                  <a:pt x="12907" y="11460"/>
                  <a:pt x="12923" y="11361"/>
                </a:cubicBezTo>
                <a:cubicBezTo>
                  <a:pt x="12776" y="11383"/>
                  <a:pt x="12718" y="11405"/>
                  <a:pt x="12700" y="11559"/>
                </a:cubicBezTo>
                <a:cubicBezTo>
                  <a:pt x="12700" y="11594"/>
                  <a:pt x="12709" y="11598"/>
                  <a:pt x="12750" y="11559"/>
                </a:cubicBezTo>
              </a:path>
              <a:path w="1191" h="572">
                <a:moveTo>
                  <a:pt x="13370" y="11088"/>
                </a:moveTo>
                <a:cubicBezTo>
                  <a:pt x="13288" y="11217"/>
                  <a:pt x="13003" y="11429"/>
                  <a:pt x="13146" y="11485"/>
                </a:cubicBezTo>
                <a:cubicBezTo>
                  <a:pt x="13163" y="11477"/>
                  <a:pt x="13179" y="11468"/>
                  <a:pt x="13196" y="11460"/>
                </a:cubicBezTo>
              </a:path>
              <a:path w="1191" h="572">
                <a:moveTo>
                  <a:pt x="13543" y="11038"/>
                </a:moveTo>
                <a:cubicBezTo>
                  <a:pt x="13622" y="11038"/>
                  <a:pt x="13690" y="11020"/>
                  <a:pt x="13767" y="11013"/>
                </a:cubicBezTo>
                <a:cubicBezTo>
                  <a:pt x="13775" y="11013"/>
                  <a:pt x="13783" y="11013"/>
                  <a:pt x="13791" y="11013"/>
                </a:cubicBezTo>
                <a:cubicBezTo>
                  <a:pt x="13791" y="11127"/>
                  <a:pt x="13792" y="11202"/>
                  <a:pt x="13742" y="11311"/>
                </a:cubicBezTo>
                <a:cubicBezTo>
                  <a:pt x="13712" y="11376"/>
                  <a:pt x="13658" y="11390"/>
                  <a:pt x="13717" y="114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37000" y="4456080"/>
            <a:ext cx="249120" cy="169920"/>
          </a:xfrm>
          <a:custGeom>
            <a:avLst/>
            <a:gdLst/>
            <a:ahLst/>
            <a:rect l="l" t="t" r="r" b="b"/>
            <a:pathLst>
              <a:path w="695" h="472">
                <a:moveTo>
                  <a:pt x="9922" y="12452"/>
                </a:moveTo>
                <a:cubicBezTo>
                  <a:pt x="10049" y="12452"/>
                  <a:pt x="10192" y="12444"/>
                  <a:pt x="10145" y="12626"/>
                </a:cubicBezTo>
                <a:cubicBezTo>
                  <a:pt x="10100" y="12799"/>
                  <a:pt x="9949" y="12859"/>
                  <a:pt x="9823" y="12774"/>
                </a:cubicBezTo>
                <a:cubicBezTo>
                  <a:pt x="9898" y="12686"/>
                  <a:pt x="9993" y="12664"/>
                  <a:pt x="10096" y="12750"/>
                </a:cubicBezTo>
                <a:cubicBezTo>
                  <a:pt x="10096" y="12758"/>
                  <a:pt x="10096" y="12766"/>
                  <a:pt x="10096" y="12774"/>
                </a:cubicBezTo>
              </a:path>
              <a:path w="695" h="472">
                <a:moveTo>
                  <a:pt x="10294" y="12477"/>
                </a:moveTo>
                <a:cubicBezTo>
                  <a:pt x="10294" y="12554"/>
                  <a:pt x="10280" y="12616"/>
                  <a:pt x="10368" y="12626"/>
                </a:cubicBezTo>
                <a:cubicBezTo>
                  <a:pt x="10472" y="12626"/>
                  <a:pt x="10507" y="12623"/>
                  <a:pt x="10517" y="12526"/>
                </a:cubicBezTo>
              </a:path>
              <a:path w="695" h="472">
                <a:moveTo>
                  <a:pt x="10492" y="12378"/>
                </a:moveTo>
                <a:cubicBezTo>
                  <a:pt x="10483" y="12528"/>
                  <a:pt x="10468" y="12673"/>
                  <a:pt x="10468" y="12824"/>
                </a:cubicBezTo>
                <a:cubicBezTo>
                  <a:pt x="10468" y="12849"/>
                  <a:pt x="10468" y="12857"/>
                  <a:pt x="10492" y="128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179960" y="4456080"/>
            <a:ext cx="133200" cy="115920"/>
          </a:xfrm>
          <a:custGeom>
            <a:avLst/>
            <a:gdLst/>
            <a:ahLst/>
            <a:rect l="l" t="t" r="r" b="b"/>
            <a:pathLst>
              <a:path w="373" h="323">
                <a:moveTo>
                  <a:pt x="11733" y="12402"/>
                </a:moveTo>
                <a:cubicBezTo>
                  <a:pt x="11733" y="12319"/>
                  <a:pt x="11750" y="12518"/>
                  <a:pt x="11757" y="12601"/>
                </a:cubicBezTo>
                <a:cubicBezTo>
                  <a:pt x="11757" y="12659"/>
                  <a:pt x="11757" y="12667"/>
                  <a:pt x="11757" y="12700"/>
                </a:cubicBezTo>
              </a:path>
              <a:path w="373" h="323">
                <a:moveTo>
                  <a:pt x="11609" y="12526"/>
                </a:moveTo>
                <a:cubicBezTo>
                  <a:pt x="11739" y="12526"/>
                  <a:pt x="11855" y="12526"/>
                  <a:pt x="11981" y="125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572000" y="4411800"/>
            <a:ext cx="322200" cy="169560"/>
          </a:xfrm>
          <a:custGeom>
            <a:avLst/>
            <a:gdLst/>
            <a:ahLst/>
            <a:rect l="l" t="t" r="r" b="b"/>
            <a:pathLst>
              <a:path w="894" h="472">
                <a:moveTo>
                  <a:pt x="12700" y="12378"/>
                </a:moveTo>
                <a:cubicBezTo>
                  <a:pt x="12716" y="12452"/>
                  <a:pt x="12729" y="12635"/>
                  <a:pt x="12874" y="12551"/>
                </a:cubicBezTo>
                <a:cubicBezTo>
                  <a:pt x="12927" y="12471"/>
                  <a:pt x="12947" y="12440"/>
                  <a:pt x="12973" y="12378"/>
                </a:cubicBezTo>
              </a:path>
              <a:path w="894" h="472">
                <a:moveTo>
                  <a:pt x="12898" y="12254"/>
                </a:moveTo>
                <a:cubicBezTo>
                  <a:pt x="12898" y="12400"/>
                  <a:pt x="12871" y="12599"/>
                  <a:pt x="12898" y="12725"/>
                </a:cubicBezTo>
              </a:path>
              <a:path w="894" h="472">
                <a:moveTo>
                  <a:pt x="13221" y="12328"/>
                </a:moveTo>
                <a:cubicBezTo>
                  <a:pt x="13283" y="12300"/>
                  <a:pt x="13464" y="12222"/>
                  <a:pt x="13444" y="12378"/>
                </a:cubicBezTo>
                <a:cubicBezTo>
                  <a:pt x="13430" y="12486"/>
                  <a:pt x="13307" y="12553"/>
                  <a:pt x="13271" y="12626"/>
                </a:cubicBezTo>
                <a:cubicBezTo>
                  <a:pt x="13378" y="12626"/>
                  <a:pt x="13486" y="12626"/>
                  <a:pt x="13593" y="126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33960" y="4402080"/>
            <a:ext cx="117360" cy="46080"/>
          </a:xfrm>
          <a:custGeom>
            <a:avLst/>
            <a:gdLst/>
            <a:ahLst/>
            <a:rect l="l" t="t" r="r" b="b"/>
            <a:pathLst>
              <a:path w="323" h="125">
                <a:moveTo>
                  <a:pt x="14263" y="12229"/>
                </a:moveTo>
                <a:cubicBezTo>
                  <a:pt x="14338" y="12262"/>
                  <a:pt x="14421" y="12254"/>
                  <a:pt x="14511" y="12254"/>
                </a:cubicBezTo>
              </a:path>
              <a:path w="323" h="125">
                <a:moveTo>
                  <a:pt x="14387" y="12353"/>
                </a:moveTo>
                <a:cubicBezTo>
                  <a:pt x="14453" y="12353"/>
                  <a:pt x="14519" y="12353"/>
                  <a:pt x="14585" y="12353"/>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 name=""/>
          <p:cNvSpPr/>
          <p:nvPr/>
        </p:nvSpPr>
        <p:spPr>
          <a:xfrm>
            <a:off x="5500800" y="4313160"/>
            <a:ext cx="322200" cy="196920"/>
          </a:xfrm>
          <a:custGeom>
            <a:avLst/>
            <a:gdLst/>
            <a:ahLst/>
            <a:rect l="l" t="t" r="r" b="b"/>
            <a:pathLst>
              <a:path w="894" h="546">
                <a:moveTo>
                  <a:pt x="15379" y="12080"/>
                </a:moveTo>
                <a:cubicBezTo>
                  <a:pt x="15334" y="12204"/>
                  <a:pt x="15231" y="12369"/>
                  <a:pt x="15304" y="12502"/>
                </a:cubicBezTo>
                <a:cubicBezTo>
                  <a:pt x="15360" y="12605"/>
                  <a:pt x="15576" y="12484"/>
                  <a:pt x="15627" y="12452"/>
                </a:cubicBezTo>
                <a:cubicBezTo>
                  <a:pt x="15620" y="12413"/>
                  <a:pt x="15550" y="12226"/>
                  <a:pt x="15478" y="12353"/>
                </a:cubicBezTo>
                <a:cubicBezTo>
                  <a:pt x="15418" y="12458"/>
                  <a:pt x="15433" y="12489"/>
                  <a:pt x="15503" y="12477"/>
                </a:cubicBezTo>
              </a:path>
              <a:path w="894" h="546">
                <a:moveTo>
                  <a:pt x="15801" y="11981"/>
                </a:moveTo>
                <a:cubicBezTo>
                  <a:pt x="15739" y="12067"/>
                  <a:pt x="15685" y="12166"/>
                  <a:pt x="15701" y="12278"/>
                </a:cubicBezTo>
                <a:cubicBezTo>
                  <a:pt x="15720" y="12408"/>
                  <a:pt x="15780" y="12417"/>
                  <a:pt x="15900" y="12402"/>
                </a:cubicBezTo>
                <a:cubicBezTo>
                  <a:pt x="15991" y="12391"/>
                  <a:pt x="16116" y="12362"/>
                  <a:pt x="16173" y="12278"/>
                </a:cubicBezTo>
                <a:cubicBezTo>
                  <a:pt x="16173" y="12270"/>
                  <a:pt x="16173" y="12262"/>
                  <a:pt x="16173" y="12254"/>
                </a:cubicBezTo>
                <a:cubicBezTo>
                  <a:pt x="16123" y="12241"/>
                  <a:pt x="16087" y="12190"/>
                  <a:pt x="16024" y="12204"/>
                </a:cubicBezTo>
                <a:cubicBezTo>
                  <a:pt x="15936" y="12224"/>
                  <a:pt x="15930" y="12304"/>
                  <a:pt x="15925" y="12378"/>
                </a:cubicBezTo>
                <a:cubicBezTo>
                  <a:pt x="15925" y="12386"/>
                  <a:pt x="15925" y="12394"/>
                  <a:pt x="15925" y="124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491000" y="1303200"/>
            <a:ext cx="2144880" cy="71640"/>
          </a:xfrm>
          <a:custGeom>
            <a:avLst/>
            <a:gdLst/>
            <a:ahLst/>
            <a:rect l="l" t="t" r="r" b="b"/>
            <a:pathLst>
              <a:path w="5954" h="200">
                <a:moveTo>
                  <a:pt x="12477" y="3820"/>
                </a:moveTo>
                <a:cubicBezTo>
                  <a:pt x="12586" y="3810"/>
                  <a:pt x="12643" y="3801"/>
                  <a:pt x="12750" y="3770"/>
                </a:cubicBezTo>
                <a:cubicBezTo>
                  <a:pt x="12898" y="3727"/>
                  <a:pt x="13043" y="3682"/>
                  <a:pt x="13196" y="3671"/>
                </a:cubicBezTo>
                <a:cubicBezTo>
                  <a:pt x="13517" y="3648"/>
                  <a:pt x="13849" y="3678"/>
                  <a:pt x="14163" y="3696"/>
                </a:cubicBezTo>
                <a:cubicBezTo>
                  <a:pt x="14370" y="3708"/>
                  <a:pt x="14578" y="3718"/>
                  <a:pt x="14784" y="3721"/>
                </a:cubicBezTo>
                <a:cubicBezTo>
                  <a:pt x="15001" y="3724"/>
                  <a:pt x="15212" y="3696"/>
                  <a:pt x="15429" y="3696"/>
                </a:cubicBezTo>
                <a:cubicBezTo>
                  <a:pt x="15654" y="3696"/>
                  <a:pt x="15875" y="3658"/>
                  <a:pt x="16098" y="3646"/>
                </a:cubicBezTo>
                <a:cubicBezTo>
                  <a:pt x="16634" y="3618"/>
                  <a:pt x="17176" y="3644"/>
                  <a:pt x="17711" y="3621"/>
                </a:cubicBezTo>
                <a:cubicBezTo>
                  <a:pt x="17934" y="3611"/>
                  <a:pt x="18156" y="3646"/>
                  <a:pt x="18380" y="3646"/>
                </a:cubicBezTo>
                <a:cubicBezTo>
                  <a:pt x="18397" y="3646"/>
                  <a:pt x="18413" y="3646"/>
                  <a:pt x="18430" y="3646"/>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4" name=""/>
          <p:cNvSpPr/>
          <p:nvPr/>
        </p:nvSpPr>
        <p:spPr>
          <a:xfrm>
            <a:off x="1295280" y="1670040"/>
            <a:ext cx="1320840" cy="142920"/>
          </a:xfrm>
          <a:custGeom>
            <a:avLst/>
            <a:gdLst/>
            <a:ahLst/>
            <a:rect l="l" t="t" r="r" b="b"/>
            <a:pathLst>
              <a:path w="3672" h="398">
                <a:moveTo>
                  <a:pt x="3597" y="5035"/>
                </a:moveTo>
                <a:cubicBezTo>
                  <a:pt x="3674" y="5010"/>
                  <a:pt x="3735" y="4989"/>
                  <a:pt x="3820" y="4986"/>
                </a:cubicBezTo>
                <a:cubicBezTo>
                  <a:pt x="3986" y="4981"/>
                  <a:pt x="4149" y="4945"/>
                  <a:pt x="4316" y="4936"/>
                </a:cubicBezTo>
                <a:cubicBezTo>
                  <a:pt x="4572" y="4922"/>
                  <a:pt x="4832" y="4900"/>
                  <a:pt x="5085" y="4862"/>
                </a:cubicBezTo>
                <a:cubicBezTo>
                  <a:pt x="5278" y="4833"/>
                  <a:pt x="5464" y="4833"/>
                  <a:pt x="5655" y="4812"/>
                </a:cubicBezTo>
                <a:cubicBezTo>
                  <a:pt x="5837" y="4792"/>
                  <a:pt x="6019" y="4780"/>
                  <a:pt x="6201" y="4762"/>
                </a:cubicBezTo>
                <a:cubicBezTo>
                  <a:pt x="6455" y="4737"/>
                  <a:pt x="6718" y="4698"/>
                  <a:pt x="6970" y="4663"/>
                </a:cubicBezTo>
                <a:cubicBezTo>
                  <a:pt x="7073" y="4649"/>
                  <a:pt x="7163" y="4638"/>
                  <a:pt x="7268" y="46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1760" y="41907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en-US" sz="4400" spc="-1" strike="noStrike">
                <a:solidFill>
                  <a:srgbClr val="000000"/>
                </a:solidFill>
                <a:latin typeface="Comic Sans MS"/>
              </a:rPr>
              <a:t>Homework:</a:t>
            </a:r>
            <a:br>
              <a:rPr sz="4400"/>
            </a:br>
            <a:r>
              <a:rPr b="0" lang="en-US" sz="4400" spc="-1" strike="noStrike">
                <a:solidFill>
                  <a:srgbClr val="000000"/>
                </a:solidFill>
                <a:latin typeface="Comic Sans MS"/>
              </a:rPr>
              <a:t>Equations, Expressions and Inequalities…Oh My!</a:t>
            </a:r>
            <a:br>
              <a:rPr sz="4400"/>
            </a:br>
            <a:r>
              <a:rPr b="0" lang="en-US" sz="4400" spc="-1" strike="noStrike">
                <a:solidFill>
                  <a:srgbClr val="000000"/>
                </a:solidFill>
                <a:latin typeface="Comic Sans MS"/>
              </a:rPr>
              <a:t>(First two columns only)</a:t>
            </a:r>
            <a:br>
              <a:rPr sz="4400"/>
            </a:br>
            <a:br>
              <a:rPr sz="4400"/>
            </a:b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1980720"/>
            <a:ext cx="6400800" cy="2032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it 5</a:t>
            </a:r>
            <a:br>
              <a:rPr sz="4000"/>
            </a:br>
            <a:r>
              <a:rPr b="0" lang="en-US" sz="4000" spc="-1" strike="noStrike">
                <a:solidFill>
                  <a:srgbClr val="ff0000"/>
                </a:solidFill>
                <a:latin typeface="Comic Sans MS"/>
              </a:rPr>
              <a:t>Expressions, Equations and Integers</a:t>
            </a:r>
            <a:endParaRPr b="0" lang="en-US" sz="4000" spc="-1" strike="noStrike">
              <a:solidFill>
                <a:srgbClr val="ff0000"/>
              </a:solidFill>
              <a:latin typeface="Comic Sans MS"/>
            </a:endParaRPr>
          </a:p>
        </p:txBody>
      </p:sp>
      <p:sp>
        <p:nvSpPr>
          <p:cNvPr id="186" name="PlaceHolder 2"/>
          <p:cNvSpPr>
            <a:spLocks noGrp="1"/>
          </p:cNvSpPr>
          <p:nvPr>
            <p:ph type="subTitle"/>
          </p:nvPr>
        </p:nvSpPr>
        <p:spPr>
          <a:xfrm>
            <a:off x="1549080" y="4051080"/>
            <a:ext cx="6032520" cy="1282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ive:  Students will write equations and inequalitie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304920"/>
            <a:ext cx="6870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ive:  Students will write equations and inequalities</a:t>
            </a:r>
            <a:endParaRPr b="0" lang="en-US" sz="2000" spc="-1" strike="noStrike">
              <a:solidFill>
                <a:srgbClr val="000000"/>
              </a:solidFill>
              <a:latin typeface="Comic Sans MS"/>
            </a:endParaRPr>
          </a:p>
        </p:txBody>
      </p:sp>
      <p:sp>
        <p:nvSpPr>
          <p:cNvPr id="188" name="PlaceHolder 2"/>
          <p:cNvSpPr>
            <a:spLocks noGrp="1"/>
          </p:cNvSpPr>
          <p:nvPr>
            <p:ph/>
          </p:nvPr>
        </p:nvSpPr>
        <p:spPr>
          <a:xfrm>
            <a:off x="304920" y="1752120"/>
            <a:ext cx="8534160" cy="449604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00"/>
                </a:solidFill>
                <a:uFillTx/>
                <a:latin typeface="Comic Sans MS"/>
              </a:rPr>
              <a:t>Example 1: </a:t>
            </a:r>
            <a:br>
              <a:rPr sz="2800"/>
            </a:br>
            <a:r>
              <a:rPr b="0" lang="en-US" sz="2800" spc="-1" strike="noStrike" u="sng">
                <a:solidFill>
                  <a:srgbClr val="006600"/>
                </a:solidFill>
                <a:uFillTx/>
                <a:latin typeface="Comic Sans MS"/>
              </a:rPr>
              <a:t>	</a:t>
            </a:r>
            <a:r>
              <a:rPr b="0" lang="en-US" sz="2800" spc="-1" strike="noStrike" u="sng">
                <a:solidFill>
                  <a:srgbClr val="006600"/>
                </a:solidFill>
                <a:uFillTx/>
                <a:latin typeface="Comic Sans MS"/>
              </a:rPr>
              <a:t>	</a:t>
            </a:r>
            <a:r>
              <a:rPr b="0" lang="en-US" sz="2800" spc="-1" strike="noStrike" u="sng">
                <a:solidFill>
                  <a:srgbClr val="006600"/>
                </a:solidFill>
                <a:uFillTx/>
                <a:latin typeface="Comic Sans MS"/>
              </a:rPr>
              <a:t>	</a:t>
            </a:r>
            <a:r>
              <a:rPr b="0" lang="en-US" sz="2000" spc="-1" strike="noStrike">
                <a:solidFill>
                  <a:srgbClr val="006600"/>
                </a:solidFill>
                <a:latin typeface="Comic Sans MS"/>
              </a:rPr>
              <a:t>The sum of a number and 9 is 23.</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1: What are we trying to find?</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A number</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2: Assign a variable for that number.</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let’s call it n</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3: Write an equation based on what we know.</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We know that we have the sum of a number and 9 which will give us n + 9. We also know that our answer is 23. So, our equation will be n + 9 = 23</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endParaRPr b="0" lang="en-US" sz="2000" spc="-1" strike="noStrike">
              <a:solidFill>
                <a:srgbClr val="000000"/>
              </a:solidFill>
              <a:latin typeface="Comic Sans MS"/>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800" spc="-1" strike="noStrike">
                <a:solidFill>
                  <a:srgbClr val="006600"/>
                </a:solidFill>
                <a:latin typeface="Comic Sans MS"/>
              </a:rPr>
              <a:t>	</a:t>
            </a:r>
            <a:r>
              <a:rPr b="0" lang="en-US" sz="2800" spc="-1" strike="noStrike">
                <a:solidFill>
                  <a:srgbClr val="006600"/>
                </a:solidFill>
                <a:latin typeface="Comic Sans MS"/>
              </a:rPr>
              <a:t>	</a:t>
            </a:r>
            <a:endParaRPr b="0" lang="en-US" sz="2800" spc="-1" strike="noStrike">
              <a:solidFill>
                <a:srgbClr val="000000"/>
              </a:solidFill>
              <a:latin typeface="Comic Sans MS"/>
            </a:endParaRPr>
          </a:p>
        </p:txBody>
      </p:sp>
      <p:sp>
        <p:nvSpPr>
          <p:cNvPr id="189" name=""/>
          <p:cNvSpPr/>
          <p:nvPr/>
        </p:nvSpPr>
        <p:spPr>
          <a:xfrm>
            <a:off x="2367000" y="2867040"/>
            <a:ext cx="1724040" cy="2411280"/>
          </a:xfrm>
          <a:custGeom>
            <a:avLst/>
            <a:gdLst/>
            <a:ahLst/>
            <a:rect l="l" t="t" r="r" b="b"/>
            <a:pathLst>
              <a:path w="4789" h="6699">
                <a:moveTo>
                  <a:pt x="11361" y="7962"/>
                </a:moveTo>
                <a:cubicBezTo>
                  <a:pt x="11361" y="7970"/>
                  <a:pt x="11361" y="7979"/>
                  <a:pt x="11361" y="7987"/>
                </a:cubicBezTo>
              </a:path>
              <a:path w="4789" h="6699">
                <a:moveTo>
                  <a:pt x="6598" y="14660"/>
                </a:moveTo>
                <a:cubicBezTo>
                  <a:pt x="6598" y="14635"/>
                  <a:pt x="6598" y="14627"/>
                  <a:pt x="6573" y="146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170160" y="2027160"/>
            <a:ext cx="3902040" cy="588960"/>
          </a:xfrm>
          <a:custGeom>
            <a:avLst/>
            <a:gdLst/>
            <a:ahLst/>
            <a:rect l="l" t="t" r="r" b="b"/>
            <a:pathLst>
              <a:path w="10840" h="1638">
                <a:moveTo>
                  <a:pt x="8806" y="7069"/>
                </a:moveTo>
                <a:cubicBezTo>
                  <a:pt x="8916" y="7058"/>
                  <a:pt x="9016" y="7049"/>
                  <a:pt x="9128" y="7045"/>
                </a:cubicBezTo>
                <a:cubicBezTo>
                  <a:pt x="9320" y="7038"/>
                  <a:pt x="9512" y="7062"/>
                  <a:pt x="9699" y="7069"/>
                </a:cubicBezTo>
                <a:cubicBezTo>
                  <a:pt x="9828" y="7074"/>
                  <a:pt x="9945" y="7041"/>
                  <a:pt x="10071" y="7045"/>
                </a:cubicBezTo>
                <a:cubicBezTo>
                  <a:pt x="10178" y="7048"/>
                  <a:pt x="10286" y="7048"/>
                  <a:pt x="10393" y="7045"/>
                </a:cubicBezTo>
                <a:cubicBezTo>
                  <a:pt x="10767" y="7036"/>
                  <a:pt x="11143" y="7056"/>
                  <a:pt x="11509" y="7045"/>
                </a:cubicBezTo>
                <a:cubicBezTo>
                  <a:pt x="11645" y="7041"/>
                  <a:pt x="11771" y="7063"/>
                  <a:pt x="11906" y="7069"/>
                </a:cubicBezTo>
                <a:cubicBezTo>
                  <a:pt x="12075" y="7076"/>
                  <a:pt x="12233" y="7047"/>
                  <a:pt x="12402" y="7045"/>
                </a:cubicBezTo>
                <a:cubicBezTo>
                  <a:pt x="12662" y="7041"/>
                  <a:pt x="12894" y="7072"/>
                  <a:pt x="13146" y="7094"/>
                </a:cubicBezTo>
                <a:cubicBezTo>
                  <a:pt x="13247" y="7103"/>
                  <a:pt x="13347" y="7114"/>
                  <a:pt x="13444" y="7119"/>
                </a:cubicBezTo>
                <a:cubicBezTo>
                  <a:pt x="13608" y="7128"/>
                  <a:pt x="13754" y="7087"/>
                  <a:pt x="13915" y="7069"/>
                </a:cubicBezTo>
                <a:cubicBezTo>
                  <a:pt x="14062" y="7053"/>
                  <a:pt x="14195" y="7032"/>
                  <a:pt x="14337" y="6995"/>
                </a:cubicBezTo>
                <a:cubicBezTo>
                  <a:pt x="14427" y="6972"/>
                  <a:pt x="14517" y="6964"/>
                  <a:pt x="14610" y="6945"/>
                </a:cubicBezTo>
                <a:cubicBezTo>
                  <a:pt x="14793" y="6908"/>
                  <a:pt x="14971" y="6860"/>
                  <a:pt x="15156" y="6846"/>
                </a:cubicBezTo>
                <a:cubicBezTo>
                  <a:pt x="15226" y="6841"/>
                  <a:pt x="15238" y="6835"/>
                  <a:pt x="15329" y="6846"/>
                </a:cubicBezTo>
                <a:cubicBezTo>
                  <a:pt x="15471" y="6863"/>
                  <a:pt x="15607" y="6904"/>
                  <a:pt x="15751" y="6921"/>
                </a:cubicBezTo>
                <a:cubicBezTo>
                  <a:pt x="15958" y="6946"/>
                  <a:pt x="16161" y="6945"/>
                  <a:pt x="16371" y="6945"/>
                </a:cubicBezTo>
                <a:cubicBezTo>
                  <a:pt x="16492" y="6945"/>
                  <a:pt x="16599" y="6965"/>
                  <a:pt x="16718" y="6970"/>
                </a:cubicBezTo>
                <a:cubicBezTo>
                  <a:pt x="16906" y="6977"/>
                  <a:pt x="17109" y="6988"/>
                  <a:pt x="17289" y="6995"/>
                </a:cubicBezTo>
                <a:cubicBezTo>
                  <a:pt x="17401" y="6999"/>
                  <a:pt x="17502" y="7006"/>
                  <a:pt x="17611" y="7020"/>
                </a:cubicBezTo>
                <a:cubicBezTo>
                  <a:pt x="17679" y="7029"/>
                  <a:pt x="17741" y="7041"/>
                  <a:pt x="17810" y="7045"/>
                </a:cubicBezTo>
                <a:cubicBezTo>
                  <a:pt x="18204" y="7067"/>
                  <a:pt x="18607" y="7069"/>
                  <a:pt x="19000" y="7069"/>
                </a:cubicBezTo>
                <a:cubicBezTo>
                  <a:pt x="19215" y="7069"/>
                  <a:pt x="19430" y="7069"/>
                  <a:pt x="19645" y="7069"/>
                </a:cubicBezTo>
              </a:path>
              <a:path w="10840" h="1638">
                <a:moveTo>
                  <a:pt x="12601" y="7069"/>
                </a:moveTo>
                <a:cubicBezTo>
                  <a:pt x="12640" y="7095"/>
                  <a:pt x="12631" y="7105"/>
                  <a:pt x="12675" y="7119"/>
                </a:cubicBezTo>
                <a:cubicBezTo>
                  <a:pt x="12799" y="7159"/>
                  <a:pt x="12967" y="7182"/>
                  <a:pt x="13097" y="7193"/>
                </a:cubicBezTo>
                <a:cubicBezTo>
                  <a:pt x="13247" y="7206"/>
                  <a:pt x="13391" y="7218"/>
                  <a:pt x="13543" y="7218"/>
                </a:cubicBezTo>
                <a:cubicBezTo>
                  <a:pt x="13729" y="7218"/>
                  <a:pt x="13906" y="7206"/>
                  <a:pt x="14089" y="7193"/>
                </a:cubicBezTo>
                <a:cubicBezTo>
                  <a:pt x="14455" y="7168"/>
                  <a:pt x="15477" y="7293"/>
                  <a:pt x="15131" y="7169"/>
                </a:cubicBezTo>
                <a:cubicBezTo>
                  <a:pt x="15114" y="7169"/>
                  <a:pt x="15098" y="7169"/>
                  <a:pt x="15081" y="7169"/>
                </a:cubicBezTo>
              </a:path>
              <a:path w="10840" h="1638">
                <a:moveTo>
                  <a:pt x="12477" y="7094"/>
                </a:moveTo>
                <a:cubicBezTo>
                  <a:pt x="12611" y="7084"/>
                  <a:pt x="12738" y="7069"/>
                  <a:pt x="12874" y="7069"/>
                </a:cubicBezTo>
                <a:cubicBezTo>
                  <a:pt x="13228" y="7069"/>
                  <a:pt x="13593" y="7091"/>
                  <a:pt x="13940" y="7045"/>
                </a:cubicBezTo>
                <a:cubicBezTo>
                  <a:pt x="14110" y="7023"/>
                  <a:pt x="14292" y="7039"/>
                  <a:pt x="14461" y="7020"/>
                </a:cubicBezTo>
                <a:cubicBezTo>
                  <a:pt x="14536" y="7012"/>
                  <a:pt x="14590" y="7050"/>
                  <a:pt x="14660" y="7045"/>
                </a:cubicBezTo>
                <a:cubicBezTo>
                  <a:pt x="14737" y="7039"/>
                  <a:pt x="14822" y="7020"/>
                  <a:pt x="14908" y="7020"/>
                </a:cubicBezTo>
                <a:cubicBezTo>
                  <a:pt x="14971" y="7020"/>
                  <a:pt x="15057" y="7000"/>
                  <a:pt x="15081" y="6995"/>
                </a:cubicBezTo>
                <a:cubicBezTo>
                  <a:pt x="15145" y="6983"/>
                  <a:pt x="15192" y="6991"/>
                  <a:pt x="15255" y="6970"/>
                </a:cubicBezTo>
                <a:cubicBezTo>
                  <a:pt x="15122" y="6970"/>
                  <a:pt x="14990" y="6984"/>
                  <a:pt x="14858" y="6995"/>
                </a:cubicBezTo>
                <a:cubicBezTo>
                  <a:pt x="14536" y="7021"/>
                  <a:pt x="14214" y="7041"/>
                  <a:pt x="13891" y="7045"/>
                </a:cubicBezTo>
                <a:cubicBezTo>
                  <a:pt x="13656" y="7048"/>
                  <a:pt x="13430" y="7090"/>
                  <a:pt x="13196" y="7094"/>
                </a:cubicBezTo>
                <a:cubicBezTo>
                  <a:pt x="13083" y="7096"/>
                  <a:pt x="12946" y="7110"/>
                  <a:pt x="12849" y="7119"/>
                </a:cubicBezTo>
                <a:cubicBezTo>
                  <a:pt x="12776" y="7125"/>
                  <a:pt x="12699" y="7119"/>
                  <a:pt x="12626" y="7119"/>
                </a:cubicBezTo>
              </a:path>
              <a:path w="10840" h="1638">
                <a:moveTo>
                  <a:pt x="12626" y="7268"/>
                </a:moveTo>
                <a:cubicBezTo>
                  <a:pt x="12826" y="7268"/>
                  <a:pt x="13021" y="7246"/>
                  <a:pt x="13221" y="7243"/>
                </a:cubicBezTo>
                <a:cubicBezTo>
                  <a:pt x="13775" y="7233"/>
                  <a:pt x="14332" y="7262"/>
                  <a:pt x="14883" y="7218"/>
                </a:cubicBezTo>
                <a:cubicBezTo>
                  <a:pt x="15014" y="7208"/>
                  <a:pt x="15272" y="7242"/>
                  <a:pt x="15304" y="7193"/>
                </a:cubicBezTo>
              </a:path>
              <a:path w="10840" h="1638">
                <a:moveTo>
                  <a:pt x="13370" y="5680"/>
                </a:moveTo>
                <a:cubicBezTo>
                  <a:pt x="13387" y="5812"/>
                  <a:pt x="13428" y="5945"/>
                  <a:pt x="13444" y="6077"/>
                </a:cubicBezTo>
                <a:cubicBezTo>
                  <a:pt x="13451" y="6137"/>
                  <a:pt x="13469" y="6311"/>
                  <a:pt x="13469" y="6251"/>
                </a:cubicBezTo>
                <a:cubicBezTo>
                  <a:pt x="13469" y="6243"/>
                  <a:pt x="13469" y="6234"/>
                  <a:pt x="13469" y="6226"/>
                </a:cubicBezTo>
                <a:cubicBezTo>
                  <a:pt x="13458" y="6140"/>
                  <a:pt x="13463" y="6091"/>
                  <a:pt x="13469" y="6003"/>
                </a:cubicBezTo>
                <a:cubicBezTo>
                  <a:pt x="13474" y="5931"/>
                  <a:pt x="13459" y="5873"/>
                  <a:pt x="13494" y="5804"/>
                </a:cubicBezTo>
                <a:cubicBezTo>
                  <a:pt x="13512" y="5768"/>
                  <a:pt x="13553" y="5725"/>
                  <a:pt x="13568" y="5705"/>
                </a:cubicBezTo>
                <a:cubicBezTo>
                  <a:pt x="13607" y="5652"/>
                  <a:pt x="13644" y="5638"/>
                  <a:pt x="13717" y="5631"/>
                </a:cubicBezTo>
                <a:cubicBezTo>
                  <a:pt x="13799" y="5623"/>
                  <a:pt x="13811" y="5660"/>
                  <a:pt x="13841" y="5730"/>
                </a:cubicBezTo>
                <a:cubicBezTo>
                  <a:pt x="13882" y="5824"/>
                  <a:pt x="13869" y="5884"/>
                  <a:pt x="13891" y="5978"/>
                </a:cubicBezTo>
                <a:cubicBezTo>
                  <a:pt x="13903" y="6029"/>
                  <a:pt x="13927" y="6083"/>
                  <a:pt x="13940" y="6127"/>
                </a:cubicBezTo>
                <a:cubicBezTo>
                  <a:pt x="13959" y="6190"/>
                  <a:pt x="13998" y="6196"/>
                  <a:pt x="14064" y="6201"/>
                </a:cubicBezTo>
                <a:cubicBezTo>
                  <a:pt x="14120" y="6205"/>
                  <a:pt x="14139" y="6188"/>
                  <a:pt x="14163" y="6176"/>
                </a:cubicBezTo>
                <a:cubicBezTo>
                  <a:pt x="14171" y="6176"/>
                  <a:pt x="14180" y="6176"/>
                  <a:pt x="14188" y="61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894120" y="2044800"/>
            <a:ext cx="27000" cy="179280"/>
          </a:xfrm>
          <a:custGeom>
            <a:avLst/>
            <a:gdLst/>
            <a:ahLst/>
            <a:rect l="l" t="t" r="r" b="b"/>
            <a:pathLst>
              <a:path w="75" h="497">
                <a:moveTo>
                  <a:pt x="10815" y="5680"/>
                </a:moveTo>
                <a:cubicBezTo>
                  <a:pt x="10854" y="5827"/>
                  <a:pt x="10872" y="5977"/>
                  <a:pt x="10889" y="6127"/>
                </a:cubicBezTo>
                <a:cubicBezTo>
                  <a:pt x="10889" y="6143"/>
                  <a:pt x="10889" y="6160"/>
                  <a:pt x="10889" y="61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741840" y="1893960"/>
            <a:ext cx="1874880" cy="419040"/>
          </a:xfrm>
          <a:custGeom>
            <a:avLst/>
            <a:gdLst/>
            <a:ahLst/>
            <a:rect l="l" t="t" r="r" b="b"/>
            <a:pathLst>
              <a:path w="5210" h="1166">
                <a:moveTo>
                  <a:pt x="10641" y="5978"/>
                </a:moveTo>
                <a:cubicBezTo>
                  <a:pt x="10742" y="5988"/>
                  <a:pt x="10836" y="6003"/>
                  <a:pt x="10939" y="6003"/>
                </a:cubicBezTo>
                <a:cubicBezTo>
                  <a:pt x="10984" y="6003"/>
                  <a:pt x="11016" y="6028"/>
                  <a:pt x="11063" y="6028"/>
                </a:cubicBezTo>
              </a:path>
              <a:path w="5210" h="1166">
                <a:moveTo>
                  <a:pt x="10567" y="6201"/>
                </a:moveTo>
                <a:cubicBezTo>
                  <a:pt x="10608" y="6249"/>
                  <a:pt x="10649" y="6306"/>
                  <a:pt x="10716" y="6350"/>
                </a:cubicBezTo>
                <a:cubicBezTo>
                  <a:pt x="10796" y="6402"/>
                  <a:pt x="10896" y="6421"/>
                  <a:pt x="10988" y="6424"/>
                </a:cubicBezTo>
                <a:cubicBezTo>
                  <a:pt x="11078" y="6427"/>
                  <a:pt x="11178" y="6428"/>
                  <a:pt x="11261" y="6400"/>
                </a:cubicBezTo>
                <a:cubicBezTo>
                  <a:pt x="11343" y="6373"/>
                  <a:pt x="11363" y="6303"/>
                  <a:pt x="11385" y="6226"/>
                </a:cubicBezTo>
                <a:cubicBezTo>
                  <a:pt x="11418" y="6113"/>
                  <a:pt x="11414" y="5991"/>
                  <a:pt x="11385" y="5879"/>
                </a:cubicBezTo>
                <a:cubicBezTo>
                  <a:pt x="11369" y="5814"/>
                  <a:pt x="11309" y="5655"/>
                  <a:pt x="11261" y="5606"/>
                </a:cubicBezTo>
                <a:cubicBezTo>
                  <a:pt x="11218" y="5562"/>
                  <a:pt x="11173" y="5516"/>
                  <a:pt x="11112" y="5482"/>
                </a:cubicBezTo>
                <a:cubicBezTo>
                  <a:pt x="11058" y="5452"/>
                  <a:pt x="10992" y="5378"/>
                  <a:pt x="10939" y="5358"/>
                </a:cubicBezTo>
                <a:cubicBezTo>
                  <a:pt x="10862" y="5328"/>
                  <a:pt x="10681" y="5351"/>
                  <a:pt x="10616" y="5383"/>
                </a:cubicBezTo>
                <a:cubicBezTo>
                  <a:pt x="10562" y="5410"/>
                  <a:pt x="10551" y="5395"/>
                  <a:pt x="10517" y="5457"/>
                </a:cubicBezTo>
                <a:cubicBezTo>
                  <a:pt x="10490" y="5507"/>
                  <a:pt x="10433" y="5625"/>
                  <a:pt x="10418" y="5680"/>
                </a:cubicBezTo>
                <a:cubicBezTo>
                  <a:pt x="10405" y="5730"/>
                  <a:pt x="10402" y="5810"/>
                  <a:pt x="10393" y="5854"/>
                </a:cubicBezTo>
                <a:cubicBezTo>
                  <a:pt x="10378" y="5927"/>
                  <a:pt x="10408" y="5986"/>
                  <a:pt x="10418" y="6052"/>
                </a:cubicBezTo>
                <a:cubicBezTo>
                  <a:pt x="10425" y="6095"/>
                  <a:pt x="10446" y="6190"/>
                  <a:pt x="10468" y="6226"/>
                </a:cubicBezTo>
                <a:cubicBezTo>
                  <a:pt x="10472" y="6232"/>
                  <a:pt x="10523" y="6310"/>
                  <a:pt x="10542" y="6325"/>
                </a:cubicBezTo>
                <a:cubicBezTo>
                  <a:pt x="10576" y="6352"/>
                  <a:pt x="10599" y="6361"/>
                  <a:pt x="10616" y="6375"/>
                </a:cubicBezTo>
              </a:path>
              <a:path w="5210" h="1166">
                <a:moveTo>
                  <a:pt x="11237" y="5655"/>
                </a:moveTo>
                <a:cubicBezTo>
                  <a:pt x="11325" y="5547"/>
                  <a:pt x="11428" y="5450"/>
                  <a:pt x="11559" y="5383"/>
                </a:cubicBezTo>
                <a:cubicBezTo>
                  <a:pt x="11745" y="5288"/>
                  <a:pt x="11974" y="5263"/>
                  <a:pt x="12179" y="5259"/>
                </a:cubicBezTo>
                <a:cubicBezTo>
                  <a:pt x="12377" y="5255"/>
                  <a:pt x="12579" y="5261"/>
                  <a:pt x="12774" y="5283"/>
                </a:cubicBezTo>
                <a:cubicBezTo>
                  <a:pt x="12949" y="5303"/>
                  <a:pt x="13121" y="5315"/>
                  <a:pt x="13295" y="5333"/>
                </a:cubicBezTo>
                <a:cubicBezTo>
                  <a:pt x="13492" y="5354"/>
                  <a:pt x="13680" y="5395"/>
                  <a:pt x="13866" y="5457"/>
                </a:cubicBezTo>
                <a:cubicBezTo>
                  <a:pt x="14033" y="5513"/>
                  <a:pt x="14202" y="5575"/>
                  <a:pt x="14362" y="5631"/>
                </a:cubicBezTo>
                <a:cubicBezTo>
                  <a:pt x="14521" y="5687"/>
                  <a:pt x="14675" y="5747"/>
                  <a:pt x="14833" y="5804"/>
                </a:cubicBezTo>
                <a:cubicBezTo>
                  <a:pt x="14954" y="5848"/>
                  <a:pt x="15087" y="5875"/>
                  <a:pt x="15205" y="5928"/>
                </a:cubicBezTo>
                <a:cubicBezTo>
                  <a:pt x="15314" y="5977"/>
                  <a:pt x="15416" y="6018"/>
                  <a:pt x="15528" y="6052"/>
                </a:cubicBezTo>
                <a:cubicBezTo>
                  <a:pt x="15560" y="6062"/>
                  <a:pt x="15597" y="6110"/>
                  <a:pt x="15602" y="6077"/>
                </a:cubicBezTo>
                <a:cubicBezTo>
                  <a:pt x="15610" y="6020"/>
                  <a:pt x="15547" y="5937"/>
                  <a:pt x="15528" y="5879"/>
                </a:cubicBezTo>
                <a:cubicBezTo>
                  <a:pt x="15528" y="5871"/>
                  <a:pt x="15528" y="5862"/>
                  <a:pt x="15528" y="5854"/>
                </a:cubicBezTo>
                <a:cubicBezTo>
                  <a:pt x="15557" y="5952"/>
                  <a:pt x="15581" y="6053"/>
                  <a:pt x="15602" y="6152"/>
                </a:cubicBezTo>
                <a:cubicBezTo>
                  <a:pt x="15602" y="6160"/>
                  <a:pt x="15602" y="6168"/>
                  <a:pt x="15602" y="6176"/>
                </a:cubicBezTo>
                <a:cubicBezTo>
                  <a:pt x="15488" y="6159"/>
                  <a:pt x="15369" y="6144"/>
                  <a:pt x="15255" y="612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153120" y="2000160"/>
            <a:ext cx="768240" cy="258840"/>
          </a:xfrm>
          <a:custGeom>
            <a:avLst/>
            <a:gdLst/>
            <a:ahLst/>
            <a:rect l="l" t="t" r="r" b="b"/>
            <a:pathLst>
              <a:path w="2135" h="721">
                <a:moveTo>
                  <a:pt x="17388" y="5779"/>
                </a:moveTo>
                <a:cubicBezTo>
                  <a:pt x="17446" y="5760"/>
                  <a:pt x="17398" y="5699"/>
                  <a:pt x="17363" y="5655"/>
                </a:cubicBezTo>
                <a:cubicBezTo>
                  <a:pt x="17329" y="5613"/>
                  <a:pt x="17255" y="5531"/>
                  <a:pt x="17190" y="5556"/>
                </a:cubicBezTo>
                <a:cubicBezTo>
                  <a:pt x="17079" y="5600"/>
                  <a:pt x="17040" y="5813"/>
                  <a:pt x="17115" y="5904"/>
                </a:cubicBezTo>
                <a:cubicBezTo>
                  <a:pt x="17132" y="5912"/>
                  <a:pt x="17148" y="5920"/>
                  <a:pt x="17165" y="5928"/>
                </a:cubicBezTo>
                <a:cubicBezTo>
                  <a:pt x="17269" y="5868"/>
                  <a:pt x="17309" y="5768"/>
                  <a:pt x="17388" y="5705"/>
                </a:cubicBezTo>
                <a:cubicBezTo>
                  <a:pt x="17388" y="5895"/>
                  <a:pt x="17388" y="6086"/>
                  <a:pt x="17388" y="6276"/>
                </a:cubicBezTo>
              </a:path>
              <a:path w="2135" h="721">
                <a:moveTo>
                  <a:pt x="17810" y="5779"/>
                </a:moveTo>
                <a:cubicBezTo>
                  <a:pt x="17870" y="5769"/>
                  <a:pt x="17921" y="5755"/>
                  <a:pt x="17983" y="5755"/>
                </a:cubicBezTo>
                <a:cubicBezTo>
                  <a:pt x="17991" y="5755"/>
                  <a:pt x="18000" y="5755"/>
                  <a:pt x="18008" y="5755"/>
                </a:cubicBezTo>
              </a:path>
              <a:path w="2135" h="721">
                <a:moveTo>
                  <a:pt x="17810" y="5953"/>
                </a:moveTo>
                <a:cubicBezTo>
                  <a:pt x="17860" y="5953"/>
                  <a:pt x="17909" y="5953"/>
                  <a:pt x="17959" y="5953"/>
                </a:cubicBezTo>
              </a:path>
              <a:path w="2135" h="721">
                <a:moveTo>
                  <a:pt x="18604" y="5680"/>
                </a:moveTo>
                <a:cubicBezTo>
                  <a:pt x="18639" y="5653"/>
                  <a:pt x="18683" y="5612"/>
                  <a:pt x="18728" y="5606"/>
                </a:cubicBezTo>
                <a:cubicBezTo>
                  <a:pt x="18846" y="5590"/>
                  <a:pt x="18780" y="5776"/>
                  <a:pt x="18752" y="5829"/>
                </a:cubicBezTo>
                <a:cubicBezTo>
                  <a:pt x="18690" y="5947"/>
                  <a:pt x="18595" y="6078"/>
                  <a:pt x="18504" y="6176"/>
                </a:cubicBezTo>
                <a:cubicBezTo>
                  <a:pt x="18496" y="6184"/>
                  <a:pt x="18487" y="6193"/>
                  <a:pt x="18479" y="6201"/>
                </a:cubicBezTo>
                <a:cubicBezTo>
                  <a:pt x="18518" y="6195"/>
                  <a:pt x="18628" y="6099"/>
                  <a:pt x="18653" y="6127"/>
                </a:cubicBezTo>
                <a:cubicBezTo>
                  <a:pt x="18718" y="6198"/>
                  <a:pt x="18700" y="6188"/>
                  <a:pt x="18802" y="6127"/>
                </a:cubicBezTo>
              </a:path>
              <a:path w="2135" h="721">
                <a:moveTo>
                  <a:pt x="18976" y="5680"/>
                </a:moveTo>
                <a:cubicBezTo>
                  <a:pt x="19033" y="5641"/>
                  <a:pt x="19110" y="5603"/>
                  <a:pt x="19174" y="5581"/>
                </a:cubicBezTo>
                <a:cubicBezTo>
                  <a:pt x="19174" y="5689"/>
                  <a:pt x="19179" y="5793"/>
                  <a:pt x="19100" y="5879"/>
                </a:cubicBezTo>
                <a:cubicBezTo>
                  <a:pt x="19092" y="5879"/>
                  <a:pt x="19083" y="5879"/>
                  <a:pt x="19075" y="5879"/>
                </a:cubicBezTo>
                <a:cubicBezTo>
                  <a:pt x="19201" y="5879"/>
                  <a:pt x="19197" y="5900"/>
                  <a:pt x="19224" y="6028"/>
                </a:cubicBezTo>
                <a:cubicBezTo>
                  <a:pt x="19239" y="6098"/>
                  <a:pt x="19071" y="6155"/>
                  <a:pt x="19025" y="6152"/>
                </a:cubicBezTo>
                <a:cubicBezTo>
                  <a:pt x="19017" y="6144"/>
                  <a:pt x="19008" y="6135"/>
                  <a:pt x="19000" y="612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000240" y="5160960"/>
            <a:ext cx="1170000" cy="36360"/>
          </a:xfrm>
          <a:custGeom>
            <a:avLst/>
            <a:gdLst/>
            <a:ahLst/>
            <a:rect l="l" t="t" r="r" b="b"/>
            <a:pathLst>
              <a:path w="3251" h="100">
                <a:moveTo>
                  <a:pt x="8334" y="14436"/>
                </a:moveTo>
                <a:cubicBezTo>
                  <a:pt x="8414" y="14436"/>
                  <a:pt x="8484" y="14419"/>
                  <a:pt x="8558" y="14412"/>
                </a:cubicBezTo>
                <a:cubicBezTo>
                  <a:pt x="8618" y="14406"/>
                  <a:pt x="8676" y="14394"/>
                  <a:pt x="8731" y="14387"/>
                </a:cubicBezTo>
                <a:cubicBezTo>
                  <a:pt x="8780" y="14381"/>
                  <a:pt x="8836" y="14367"/>
                  <a:pt x="8880" y="14362"/>
                </a:cubicBezTo>
                <a:cubicBezTo>
                  <a:pt x="9015" y="14348"/>
                  <a:pt x="9147" y="14375"/>
                  <a:pt x="9277" y="14387"/>
                </a:cubicBezTo>
                <a:cubicBezTo>
                  <a:pt x="9344" y="14393"/>
                  <a:pt x="9414" y="14406"/>
                  <a:pt x="9475" y="14412"/>
                </a:cubicBezTo>
                <a:cubicBezTo>
                  <a:pt x="9581" y="14423"/>
                  <a:pt x="9698" y="14427"/>
                  <a:pt x="9798" y="14436"/>
                </a:cubicBezTo>
                <a:cubicBezTo>
                  <a:pt x="9936" y="14448"/>
                  <a:pt x="10063" y="14426"/>
                  <a:pt x="10195" y="14412"/>
                </a:cubicBezTo>
                <a:cubicBezTo>
                  <a:pt x="10290" y="14402"/>
                  <a:pt x="10413" y="14422"/>
                  <a:pt x="10492" y="14412"/>
                </a:cubicBezTo>
                <a:cubicBezTo>
                  <a:pt x="10569" y="14403"/>
                  <a:pt x="10636" y="14387"/>
                  <a:pt x="10716" y="14387"/>
                </a:cubicBezTo>
                <a:cubicBezTo>
                  <a:pt x="10901" y="14387"/>
                  <a:pt x="11081" y="14381"/>
                  <a:pt x="11261" y="14362"/>
                </a:cubicBezTo>
                <a:cubicBezTo>
                  <a:pt x="11315" y="14356"/>
                  <a:pt x="11358" y="14343"/>
                  <a:pt x="11410" y="14337"/>
                </a:cubicBezTo>
                <a:cubicBezTo>
                  <a:pt x="11466" y="14331"/>
                  <a:pt x="11527" y="14337"/>
                  <a:pt x="11584" y="14337"/>
                </a:cubicBezTo>
              </a:path>
            </a:pathLst>
          </a:custGeom>
          <a:noFill/>
          <a:ln cap="rnd" w="1908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8">
                                            <p:txEl>
                                              <p:pRg st="7" end="7"/>
                                            </p:txEl>
                                          </p:spTgt>
                                        </p:tgtEl>
                                        <p:attrNameLst>
                                          <p:attrName>style.visibility</p:attrName>
                                        </p:attrNameLst>
                                      </p:cBhvr>
                                      <p:to>
                                        <p:strVal val="visible"/>
                                      </p:to>
                                    </p:set>
                                    <p:anim calcmode="lin" valueType="num">
                                      <p:cBhvr additive="base">
                                        <p:cTn id="7" dur="500" fill="hold"/>
                                        <p:tgtEl>
                                          <p:spTgt spid="188">
                                            <p:txEl>
                                              <p:pRg st="7" end="7"/>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8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8">
                                            <p:txEl>
                                              <p:pRg st="0" end="0"/>
                                            </p:txEl>
                                          </p:spTgt>
                                        </p:tgtEl>
                                        <p:attrNameLst>
                                          <p:attrName>style.visibility</p:attrName>
                                        </p:attrNameLst>
                                      </p:cBhvr>
                                      <p:to>
                                        <p:strVal val="visible"/>
                                      </p:to>
                                    </p:set>
                                    <p:anim calcmode="lin" valueType="num">
                                      <p:cBhvr additive="base">
                                        <p:cTn id="13"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8">
                                            <p:txEl>
                                              <p:pRg st="1" end="1"/>
                                            </p:txEl>
                                          </p:spTgt>
                                        </p:tgtEl>
                                        <p:attrNameLst>
                                          <p:attrName>style.visibility</p:attrName>
                                        </p:attrNameLst>
                                      </p:cBhvr>
                                      <p:to>
                                        <p:strVal val="visible"/>
                                      </p:to>
                                    </p:set>
                                    <p:anim calcmode="lin" valueType="num">
                                      <p:cBhvr additive="base">
                                        <p:cTn id="19"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88">
                                            <p:txEl>
                                              <p:pRg st="2" end="2"/>
                                            </p:txEl>
                                          </p:spTgt>
                                        </p:tgtEl>
                                        <p:attrNameLst>
                                          <p:attrName>style.visibility</p:attrName>
                                        </p:attrNameLst>
                                      </p:cBhvr>
                                      <p:to>
                                        <p:strVal val="visible"/>
                                      </p:to>
                                    </p:set>
                                    <p:anim calcmode="lin" valueType="num">
                                      <p:cBhvr additive="base">
                                        <p:cTn id="25"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88">
                                            <p:txEl>
                                              <p:pRg st="3" end="3"/>
                                            </p:txEl>
                                          </p:spTgt>
                                        </p:tgtEl>
                                        <p:attrNameLst>
                                          <p:attrName>style.visibility</p:attrName>
                                        </p:attrNameLst>
                                      </p:cBhvr>
                                      <p:to>
                                        <p:strVal val="visible"/>
                                      </p:to>
                                    </p:set>
                                    <p:anim calcmode="lin" valueType="num">
                                      <p:cBhvr additive="base">
                                        <p:cTn id="31"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88">
                                            <p:txEl>
                                              <p:pRg st="4" end="4"/>
                                            </p:txEl>
                                          </p:spTgt>
                                        </p:tgtEl>
                                        <p:attrNameLst>
                                          <p:attrName>style.visibility</p:attrName>
                                        </p:attrNameLst>
                                      </p:cBhvr>
                                      <p:to>
                                        <p:strVal val="visible"/>
                                      </p:to>
                                    </p:set>
                                    <p:anim calcmode="lin" valueType="num">
                                      <p:cBhvr additive="base">
                                        <p:cTn id="37"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88">
                                            <p:txEl>
                                              <p:pRg st="5" end="5"/>
                                            </p:txEl>
                                          </p:spTgt>
                                        </p:tgtEl>
                                        <p:attrNameLst>
                                          <p:attrName>style.visibility</p:attrName>
                                        </p:attrNameLst>
                                      </p:cBhvr>
                                      <p:to>
                                        <p:strVal val="visible"/>
                                      </p:to>
                                    </p:set>
                                    <p:anim calcmode="lin" valueType="num">
                                      <p:cBhvr additive="base">
                                        <p:cTn id="43"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88">
                                            <p:txEl>
                                              <p:pRg st="6" end="6"/>
                                            </p:txEl>
                                          </p:spTgt>
                                        </p:tgtEl>
                                        <p:attrNameLst>
                                          <p:attrName>style.visibility</p:attrName>
                                        </p:attrNameLst>
                                      </p:cBhvr>
                                      <p:to>
                                        <p:strVal val="visible"/>
                                      </p:to>
                                    </p:set>
                                    <p:anim calcmode="lin" valueType="num">
                                      <p:cBhvr additive="base">
                                        <p:cTn id="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8">
                                            <p:txEl>
                                              <p:pRg st="7" end="7"/>
                                            </p:txEl>
                                          </p:spTgt>
                                        </p:tgtEl>
                                        <p:attrNameLst>
                                          <p:attrName>style.visibility</p:attrName>
                                        </p:attrNameLst>
                                      </p:cBhvr>
                                      <p:to>
                                        <p:strVal val="visible"/>
                                      </p:to>
                                    </p:set>
                                    <p:anim calcmode="lin" valueType="num">
                                      <p:cBhvr additive="base">
                                        <p:cTn id="55" dur="500" fill="hold"/>
                                        <p:tgtEl>
                                          <p:spTgt spid="188">
                                            <p:txEl>
                                              <p:pRg st="7" end="7"/>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8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52280"/>
            <a:ext cx="8382240" cy="54864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bjective:  Students will write equations and inequalities</a:t>
            </a:r>
            <a:endParaRPr b="0" lang="en-US" sz="1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Write an equation for each sentenc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The product of 3 and h is 18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n minus 8 is 12</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The sum of a number and 12 is 20</a:t>
            </a:r>
            <a:endParaRPr b="0" lang="en-US" sz="3200" spc="-1" strike="noStrike">
              <a:solidFill>
                <a:srgbClr val="000000"/>
              </a:solidFill>
              <a:latin typeface="Comic Sans MS"/>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1955880" y="1795320"/>
            <a:ext cx="1938240" cy="71640"/>
          </a:xfrm>
          <a:custGeom>
            <a:avLst/>
            <a:gdLst/>
            <a:ahLst/>
            <a:rect l="l" t="t" r="r" b="b"/>
            <a:pathLst>
              <a:path w="5384" h="199">
                <a:moveTo>
                  <a:pt x="5432" y="5110"/>
                </a:moveTo>
                <a:cubicBezTo>
                  <a:pt x="5436" y="5111"/>
                  <a:pt x="5505" y="5156"/>
                  <a:pt x="5531" y="5159"/>
                </a:cubicBezTo>
                <a:cubicBezTo>
                  <a:pt x="5662" y="5172"/>
                  <a:pt x="5809" y="5129"/>
                  <a:pt x="5928" y="5135"/>
                </a:cubicBezTo>
                <a:cubicBezTo>
                  <a:pt x="6005" y="5139"/>
                  <a:pt x="6092" y="5157"/>
                  <a:pt x="6176" y="5159"/>
                </a:cubicBezTo>
                <a:cubicBezTo>
                  <a:pt x="6303" y="5162"/>
                  <a:pt x="6429" y="5142"/>
                  <a:pt x="6548" y="5135"/>
                </a:cubicBezTo>
                <a:cubicBezTo>
                  <a:pt x="6738" y="5125"/>
                  <a:pt x="6932" y="5137"/>
                  <a:pt x="7119" y="5159"/>
                </a:cubicBezTo>
                <a:cubicBezTo>
                  <a:pt x="7244" y="5173"/>
                  <a:pt x="7363" y="5184"/>
                  <a:pt x="7491" y="5184"/>
                </a:cubicBezTo>
                <a:cubicBezTo>
                  <a:pt x="7806" y="5184"/>
                  <a:pt x="8150" y="5142"/>
                  <a:pt x="8458" y="5159"/>
                </a:cubicBezTo>
                <a:cubicBezTo>
                  <a:pt x="8606" y="5167"/>
                  <a:pt x="8753" y="5184"/>
                  <a:pt x="8905" y="5184"/>
                </a:cubicBezTo>
                <a:cubicBezTo>
                  <a:pt x="9071" y="5184"/>
                  <a:pt x="9233" y="5159"/>
                  <a:pt x="9401" y="5159"/>
                </a:cubicBezTo>
                <a:cubicBezTo>
                  <a:pt x="9611" y="5159"/>
                  <a:pt x="9812" y="5098"/>
                  <a:pt x="10021" y="5085"/>
                </a:cubicBezTo>
                <a:cubicBezTo>
                  <a:pt x="10231" y="5072"/>
                  <a:pt x="10433" y="5053"/>
                  <a:pt x="10641" y="5011"/>
                </a:cubicBezTo>
                <a:cubicBezTo>
                  <a:pt x="10707" y="4998"/>
                  <a:pt x="10738" y="4944"/>
                  <a:pt x="10790" y="4986"/>
                </a:cubicBezTo>
                <a:cubicBezTo>
                  <a:pt x="10782" y="4994"/>
                  <a:pt x="10773" y="5003"/>
                  <a:pt x="10765" y="5011"/>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
          <p:cNvSpPr/>
          <p:nvPr/>
        </p:nvSpPr>
        <p:spPr>
          <a:xfrm>
            <a:off x="2830680" y="1000080"/>
            <a:ext cx="1733400" cy="544680"/>
          </a:xfrm>
          <a:custGeom>
            <a:avLst/>
            <a:gdLst/>
            <a:ahLst/>
            <a:rect l="l" t="t" r="r" b="b"/>
            <a:pathLst>
              <a:path w="4813" h="1514">
                <a:moveTo>
                  <a:pt x="8235" y="3547"/>
                </a:moveTo>
                <a:cubicBezTo>
                  <a:pt x="8173" y="3578"/>
                  <a:pt x="8441" y="3750"/>
                  <a:pt x="8483" y="3795"/>
                </a:cubicBezTo>
                <a:cubicBezTo>
                  <a:pt x="8523" y="3855"/>
                  <a:pt x="8526" y="3867"/>
                  <a:pt x="8558" y="3894"/>
                </a:cubicBezTo>
              </a:path>
              <a:path w="4813" h="1514">
                <a:moveTo>
                  <a:pt x="8558" y="3497"/>
                </a:moveTo>
                <a:cubicBezTo>
                  <a:pt x="8456" y="3582"/>
                  <a:pt x="8376" y="3747"/>
                  <a:pt x="8260" y="3845"/>
                </a:cubicBezTo>
                <a:cubicBezTo>
                  <a:pt x="8212" y="3886"/>
                  <a:pt x="8201" y="3882"/>
                  <a:pt x="8186" y="3944"/>
                </a:cubicBezTo>
              </a:path>
              <a:path w="4813" h="1514">
                <a:moveTo>
                  <a:pt x="11237" y="3349"/>
                </a:moveTo>
                <a:cubicBezTo>
                  <a:pt x="11255" y="3272"/>
                  <a:pt x="11316" y="3256"/>
                  <a:pt x="11385" y="3225"/>
                </a:cubicBezTo>
                <a:cubicBezTo>
                  <a:pt x="11404" y="3307"/>
                  <a:pt x="11396" y="3391"/>
                  <a:pt x="11311" y="3448"/>
                </a:cubicBezTo>
                <a:cubicBezTo>
                  <a:pt x="11307" y="3450"/>
                  <a:pt x="11216" y="3448"/>
                  <a:pt x="11286" y="3448"/>
                </a:cubicBezTo>
                <a:cubicBezTo>
                  <a:pt x="11378" y="3458"/>
                  <a:pt x="11454" y="3456"/>
                  <a:pt x="11435" y="3572"/>
                </a:cubicBezTo>
                <a:cubicBezTo>
                  <a:pt x="11413" y="3711"/>
                  <a:pt x="11252" y="3723"/>
                  <a:pt x="11137" y="3696"/>
                </a:cubicBezTo>
                <a:cubicBezTo>
                  <a:pt x="11129" y="3688"/>
                  <a:pt x="11120" y="3679"/>
                  <a:pt x="11112" y="3671"/>
                </a:cubicBezTo>
              </a:path>
              <a:path w="4813" h="1514">
                <a:moveTo>
                  <a:pt x="7863" y="4043"/>
                </a:moveTo>
                <a:cubicBezTo>
                  <a:pt x="7889" y="4066"/>
                  <a:pt x="7937" y="4110"/>
                  <a:pt x="7987" y="4142"/>
                </a:cubicBezTo>
                <a:cubicBezTo>
                  <a:pt x="8100" y="4216"/>
                  <a:pt x="8195" y="4276"/>
                  <a:pt x="8334" y="4291"/>
                </a:cubicBezTo>
                <a:cubicBezTo>
                  <a:pt x="8448" y="4304"/>
                  <a:pt x="8599" y="4304"/>
                  <a:pt x="8706" y="4266"/>
                </a:cubicBezTo>
                <a:cubicBezTo>
                  <a:pt x="8846" y="4216"/>
                  <a:pt x="8913" y="4143"/>
                  <a:pt x="8979" y="4018"/>
                </a:cubicBezTo>
                <a:cubicBezTo>
                  <a:pt x="9055" y="3875"/>
                  <a:pt x="9079" y="3810"/>
                  <a:pt x="9079" y="3646"/>
                </a:cubicBezTo>
                <a:cubicBezTo>
                  <a:pt x="9079" y="3517"/>
                  <a:pt x="9045" y="3502"/>
                  <a:pt x="8979" y="3398"/>
                </a:cubicBezTo>
                <a:cubicBezTo>
                  <a:pt x="8916" y="3299"/>
                  <a:pt x="8799" y="3231"/>
                  <a:pt x="8706" y="3175"/>
                </a:cubicBezTo>
                <a:cubicBezTo>
                  <a:pt x="8583" y="3101"/>
                  <a:pt x="8472" y="3119"/>
                  <a:pt x="8334" y="3150"/>
                </a:cubicBezTo>
                <a:cubicBezTo>
                  <a:pt x="8215" y="3177"/>
                  <a:pt x="8092" y="3228"/>
                  <a:pt x="8012" y="3324"/>
                </a:cubicBezTo>
                <a:cubicBezTo>
                  <a:pt x="7913" y="3442"/>
                  <a:pt x="7938" y="3577"/>
                  <a:pt x="7938" y="3721"/>
                </a:cubicBezTo>
                <a:cubicBezTo>
                  <a:pt x="7938" y="3814"/>
                  <a:pt x="7884" y="4045"/>
                  <a:pt x="7962" y="3994"/>
                </a:cubicBezTo>
                <a:cubicBezTo>
                  <a:pt x="8061" y="3994"/>
                  <a:pt x="8121" y="3942"/>
                  <a:pt x="8161" y="3820"/>
                </a:cubicBezTo>
              </a:path>
              <a:path w="4813" h="1514">
                <a:moveTo>
                  <a:pt x="8979" y="3349"/>
                </a:moveTo>
                <a:cubicBezTo>
                  <a:pt x="8981" y="3345"/>
                  <a:pt x="9003" y="3247"/>
                  <a:pt x="9103" y="3200"/>
                </a:cubicBezTo>
                <a:cubicBezTo>
                  <a:pt x="9256" y="3128"/>
                  <a:pt x="9439" y="3084"/>
                  <a:pt x="9599" y="3026"/>
                </a:cubicBezTo>
                <a:cubicBezTo>
                  <a:pt x="9853" y="2934"/>
                  <a:pt x="10102" y="2873"/>
                  <a:pt x="10368" y="2828"/>
                </a:cubicBezTo>
                <a:cubicBezTo>
                  <a:pt x="10519" y="2802"/>
                  <a:pt x="10662" y="2778"/>
                  <a:pt x="10815" y="2778"/>
                </a:cubicBezTo>
                <a:cubicBezTo>
                  <a:pt x="10965" y="2778"/>
                  <a:pt x="11117" y="2763"/>
                  <a:pt x="11261" y="2803"/>
                </a:cubicBezTo>
                <a:cubicBezTo>
                  <a:pt x="11328" y="2822"/>
                  <a:pt x="11388" y="2826"/>
                  <a:pt x="11460" y="2853"/>
                </a:cubicBezTo>
                <a:cubicBezTo>
                  <a:pt x="11614" y="2911"/>
                  <a:pt x="11779" y="2939"/>
                  <a:pt x="11931" y="3001"/>
                </a:cubicBezTo>
                <a:cubicBezTo>
                  <a:pt x="12015" y="3035"/>
                  <a:pt x="12126" y="3079"/>
                  <a:pt x="12204" y="3125"/>
                </a:cubicBezTo>
                <a:cubicBezTo>
                  <a:pt x="12250" y="3152"/>
                  <a:pt x="12303" y="3191"/>
                  <a:pt x="12353" y="3225"/>
                </a:cubicBezTo>
                <a:cubicBezTo>
                  <a:pt x="12423" y="3272"/>
                  <a:pt x="12459" y="3317"/>
                  <a:pt x="12502" y="3373"/>
                </a:cubicBezTo>
                <a:cubicBezTo>
                  <a:pt x="12527" y="3406"/>
                  <a:pt x="12550" y="3439"/>
                  <a:pt x="12576" y="3473"/>
                </a:cubicBezTo>
                <a:cubicBezTo>
                  <a:pt x="12612" y="3365"/>
                  <a:pt x="12627" y="3285"/>
                  <a:pt x="12650" y="3175"/>
                </a:cubicBezTo>
                <a:cubicBezTo>
                  <a:pt x="12670" y="3115"/>
                  <a:pt x="12689" y="3080"/>
                  <a:pt x="12650" y="3125"/>
                </a:cubicBezTo>
                <a:cubicBezTo>
                  <a:pt x="12643" y="3217"/>
                  <a:pt x="12632" y="3305"/>
                  <a:pt x="12626" y="3398"/>
                </a:cubicBezTo>
                <a:cubicBezTo>
                  <a:pt x="12549" y="3392"/>
                  <a:pt x="12474" y="3358"/>
                  <a:pt x="12402" y="3398"/>
                </a:cubicBezTo>
                <a:cubicBezTo>
                  <a:pt x="12386" y="3415"/>
                  <a:pt x="12369" y="3431"/>
                  <a:pt x="12353" y="34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232240" y="1125360"/>
            <a:ext cx="135000" cy="196920"/>
          </a:xfrm>
          <a:custGeom>
            <a:avLst/>
            <a:gdLst/>
            <a:ahLst/>
            <a:rect l="l" t="t" r="r" b="b"/>
            <a:pathLst>
              <a:path w="373" h="547">
                <a:moveTo>
                  <a:pt x="14536" y="3150"/>
                </a:moveTo>
                <a:cubicBezTo>
                  <a:pt x="14536" y="3075"/>
                  <a:pt x="14527" y="3250"/>
                  <a:pt x="14536" y="3324"/>
                </a:cubicBezTo>
                <a:cubicBezTo>
                  <a:pt x="14549" y="3434"/>
                  <a:pt x="14560" y="3535"/>
                  <a:pt x="14560" y="3646"/>
                </a:cubicBezTo>
                <a:cubicBezTo>
                  <a:pt x="14560" y="3577"/>
                  <a:pt x="14571" y="3506"/>
                  <a:pt x="14585" y="3473"/>
                </a:cubicBezTo>
                <a:cubicBezTo>
                  <a:pt x="14613" y="3409"/>
                  <a:pt x="14659" y="3413"/>
                  <a:pt x="14709" y="3423"/>
                </a:cubicBezTo>
                <a:cubicBezTo>
                  <a:pt x="14770" y="3435"/>
                  <a:pt x="14741" y="3425"/>
                  <a:pt x="14784" y="3473"/>
                </a:cubicBezTo>
                <a:cubicBezTo>
                  <a:pt x="14803" y="3494"/>
                  <a:pt x="14796" y="3578"/>
                  <a:pt x="14784" y="3621"/>
                </a:cubicBezTo>
                <a:cubicBezTo>
                  <a:pt x="14763" y="3697"/>
                  <a:pt x="14776" y="3671"/>
                  <a:pt x="14858" y="3671"/>
                </a:cubicBezTo>
                <a:cubicBezTo>
                  <a:pt x="14883" y="3671"/>
                  <a:pt x="14891" y="3671"/>
                  <a:pt x="14908" y="367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589720" y="1170000"/>
            <a:ext cx="107640" cy="54000"/>
          </a:xfrm>
          <a:custGeom>
            <a:avLst/>
            <a:gdLst/>
            <a:ahLst/>
            <a:rect l="l" t="t" r="r" b="b"/>
            <a:pathLst>
              <a:path w="298" h="150">
                <a:moveTo>
                  <a:pt x="15528" y="3299"/>
                </a:moveTo>
                <a:cubicBezTo>
                  <a:pt x="15542" y="3258"/>
                  <a:pt x="15670" y="3255"/>
                  <a:pt x="15726" y="3249"/>
                </a:cubicBezTo>
                <a:cubicBezTo>
                  <a:pt x="15751" y="3249"/>
                  <a:pt x="15776" y="3249"/>
                  <a:pt x="15801" y="3249"/>
                </a:cubicBezTo>
              </a:path>
              <a:path w="298" h="150">
                <a:moveTo>
                  <a:pt x="15553" y="3398"/>
                </a:moveTo>
                <a:cubicBezTo>
                  <a:pt x="15644" y="3398"/>
                  <a:pt x="15734" y="3398"/>
                  <a:pt x="15825" y="3398"/>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3" name=""/>
          <p:cNvSpPr/>
          <p:nvPr/>
        </p:nvSpPr>
        <p:spPr>
          <a:xfrm>
            <a:off x="5965920" y="1143000"/>
            <a:ext cx="7920" cy="160200"/>
          </a:xfrm>
          <a:custGeom>
            <a:avLst/>
            <a:gdLst/>
            <a:ahLst/>
            <a:rect l="l" t="t" r="r" b="b"/>
            <a:pathLst>
              <a:path w="25" h="447">
                <a:moveTo>
                  <a:pt x="16594" y="3175"/>
                </a:moveTo>
                <a:cubicBezTo>
                  <a:pt x="16569" y="3315"/>
                  <a:pt x="16570" y="3453"/>
                  <a:pt x="16570" y="3597"/>
                </a:cubicBezTo>
                <a:cubicBezTo>
                  <a:pt x="16570" y="3605"/>
                  <a:pt x="16570" y="3613"/>
                  <a:pt x="16570" y="362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081840" y="1108080"/>
            <a:ext cx="98280" cy="187200"/>
          </a:xfrm>
          <a:custGeom>
            <a:avLst/>
            <a:gdLst/>
            <a:ahLst/>
            <a:rect l="l" t="t" r="r" b="b"/>
            <a:pathLst>
              <a:path w="274" h="522">
                <a:moveTo>
                  <a:pt x="17165" y="3101"/>
                </a:moveTo>
                <a:cubicBezTo>
                  <a:pt x="17147" y="3046"/>
                  <a:pt x="17017" y="3110"/>
                  <a:pt x="16966" y="3125"/>
                </a:cubicBezTo>
                <a:cubicBezTo>
                  <a:pt x="16941" y="3133"/>
                  <a:pt x="16917" y="3142"/>
                  <a:pt x="16892" y="3150"/>
                </a:cubicBezTo>
                <a:cubicBezTo>
                  <a:pt x="16892" y="3295"/>
                  <a:pt x="16968" y="3275"/>
                  <a:pt x="17066" y="3373"/>
                </a:cubicBezTo>
                <a:cubicBezTo>
                  <a:pt x="17129" y="3436"/>
                  <a:pt x="17185" y="3522"/>
                  <a:pt x="17090" y="3572"/>
                </a:cubicBezTo>
                <a:cubicBezTo>
                  <a:pt x="17016" y="3597"/>
                  <a:pt x="16991" y="3605"/>
                  <a:pt x="16942" y="3572"/>
                </a:cubicBezTo>
                <a:cubicBezTo>
                  <a:pt x="16942" y="3403"/>
                  <a:pt x="16970" y="3374"/>
                  <a:pt x="17090" y="3249"/>
                </a:cubicBezTo>
                <a:cubicBezTo>
                  <a:pt x="17151" y="3186"/>
                  <a:pt x="17165" y="3162"/>
                  <a:pt x="17165" y="30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044880" y="1946160"/>
            <a:ext cx="652320" cy="268560"/>
          </a:xfrm>
          <a:custGeom>
            <a:avLst/>
            <a:gdLst/>
            <a:ahLst/>
            <a:rect l="l" t="t" r="r" b="b"/>
            <a:pathLst>
              <a:path w="1812" h="746">
                <a:moveTo>
                  <a:pt x="8483" y="5482"/>
                </a:moveTo>
                <a:cubicBezTo>
                  <a:pt x="8418" y="5482"/>
                  <a:pt x="8542" y="5412"/>
                  <a:pt x="8607" y="5407"/>
                </a:cubicBezTo>
                <a:cubicBezTo>
                  <a:pt x="8751" y="5397"/>
                  <a:pt x="8676" y="5598"/>
                  <a:pt x="8632" y="5655"/>
                </a:cubicBezTo>
                <a:cubicBezTo>
                  <a:pt x="8597" y="5700"/>
                  <a:pt x="8582" y="5703"/>
                  <a:pt x="8582" y="5680"/>
                </a:cubicBezTo>
                <a:cubicBezTo>
                  <a:pt x="8783" y="5663"/>
                  <a:pt x="8832" y="5808"/>
                  <a:pt x="8756" y="6003"/>
                </a:cubicBezTo>
                <a:cubicBezTo>
                  <a:pt x="8710" y="6120"/>
                  <a:pt x="8576" y="6169"/>
                  <a:pt x="8508" y="6077"/>
                </a:cubicBezTo>
              </a:path>
              <a:path w="1812" h="746">
                <a:moveTo>
                  <a:pt x="8855" y="5680"/>
                </a:moveTo>
                <a:cubicBezTo>
                  <a:pt x="8914" y="5759"/>
                  <a:pt x="8935" y="5882"/>
                  <a:pt x="8979" y="5978"/>
                </a:cubicBezTo>
                <a:cubicBezTo>
                  <a:pt x="9020" y="6067"/>
                  <a:pt x="9029" y="6115"/>
                  <a:pt x="9029" y="5978"/>
                </a:cubicBezTo>
              </a:path>
              <a:path w="1812" h="746">
                <a:moveTo>
                  <a:pt x="9103" y="5655"/>
                </a:moveTo>
                <a:cubicBezTo>
                  <a:pt x="9013" y="5678"/>
                  <a:pt x="8890" y="5895"/>
                  <a:pt x="8855" y="5978"/>
                </a:cubicBezTo>
                <a:cubicBezTo>
                  <a:pt x="8829" y="6040"/>
                  <a:pt x="8821" y="6160"/>
                  <a:pt x="8880" y="6127"/>
                </a:cubicBezTo>
                <a:cubicBezTo>
                  <a:pt x="8888" y="6119"/>
                  <a:pt x="8897" y="6110"/>
                  <a:pt x="8905" y="6102"/>
                </a:cubicBezTo>
              </a:path>
              <a:path w="1812" h="746">
                <a:moveTo>
                  <a:pt x="9302" y="5482"/>
                </a:moveTo>
                <a:cubicBezTo>
                  <a:pt x="9239" y="5503"/>
                  <a:pt x="9277" y="5728"/>
                  <a:pt x="9277" y="5755"/>
                </a:cubicBezTo>
                <a:cubicBezTo>
                  <a:pt x="9277" y="5921"/>
                  <a:pt x="9269" y="5956"/>
                  <a:pt x="9302" y="6052"/>
                </a:cubicBezTo>
                <a:cubicBezTo>
                  <a:pt x="9302" y="6199"/>
                  <a:pt x="9327" y="5880"/>
                  <a:pt x="9327" y="5879"/>
                </a:cubicBezTo>
                <a:cubicBezTo>
                  <a:pt x="9356" y="5739"/>
                  <a:pt x="9394" y="5679"/>
                  <a:pt x="9525" y="5655"/>
                </a:cubicBezTo>
                <a:cubicBezTo>
                  <a:pt x="9591" y="5808"/>
                  <a:pt x="9547" y="5938"/>
                  <a:pt x="9575" y="6102"/>
                </a:cubicBezTo>
                <a:cubicBezTo>
                  <a:pt x="9598" y="6233"/>
                  <a:pt x="9732" y="6108"/>
                  <a:pt x="9773" y="6077"/>
                </a:cubicBezTo>
              </a:path>
              <a:path w="1812" h="746">
                <a:moveTo>
                  <a:pt x="10021" y="5755"/>
                </a:moveTo>
                <a:cubicBezTo>
                  <a:pt x="10087" y="5755"/>
                  <a:pt x="10154" y="5755"/>
                  <a:pt x="10220" y="5755"/>
                </a:cubicBezTo>
              </a:path>
              <a:path w="1812" h="746">
                <a:moveTo>
                  <a:pt x="9922" y="5978"/>
                </a:moveTo>
                <a:cubicBezTo>
                  <a:pt x="10041" y="5971"/>
                  <a:pt x="10159" y="5965"/>
                  <a:pt x="10269" y="59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840120" y="1963800"/>
            <a:ext cx="196920" cy="243000"/>
          </a:xfrm>
          <a:custGeom>
            <a:avLst/>
            <a:gdLst/>
            <a:ahLst/>
            <a:rect l="l" t="t" r="r" b="b"/>
            <a:pathLst>
              <a:path w="547" h="671">
                <a:moveTo>
                  <a:pt x="10691" y="5482"/>
                </a:moveTo>
                <a:cubicBezTo>
                  <a:pt x="10660" y="5604"/>
                  <a:pt x="10655" y="5767"/>
                  <a:pt x="10666" y="5904"/>
                </a:cubicBezTo>
                <a:cubicBezTo>
                  <a:pt x="10674" y="5995"/>
                  <a:pt x="10683" y="6187"/>
                  <a:pt x="10716" y="6102"/>
                </a:cubicBezTo>
                <a:cubicBezTo>
                  <a:pt x="10732" y="6061"/>
                  <a:pt x="10749" y="6019"/>
                  <a:pt x="10765" y="5978"/>
                </a:cubicBezTo>
              </a:path>
              <a:path w="547" h="671">
                <a:moveTo>
                  <a:pt x="11187" y="5457"/>
                </a:moveTo>
                <a:cubicBezTo>
                  <a:pt x="11045" y="5501"/>
                  <a:pt x="10973" y="5530"/>
                  <a:pt x="10889" y="5655"/>
                </a:cubicBezTo>
                <a:cubicBezTo>
                  <a:pt x="10965" y="5725"/>
                  <a:pt x="11163" y="5827"/>
                  <a:pt x="11187" y="5928"/>
                </a:cubicBezTo>
                <a:cubicBezTo>
                  <a:pt x="11218" y="6057"/>
                  <a:pt x="11177" y="6043"/>
                  <a:pt x="11088" y="6052"/>
                </a:cubicBezTo>
                <a:cubicBezTo>
                  <a:pt x="10992" y="5894"/>
                  <a:pt x="11080" y="5791"/>
                  <a:pt x="11162" y="5631"/>
                </a:cubicBezTo>
                <a:cubicBezTo>
                  <a:pt x="11199" y="5557"/>
                  <a:pt x="11216" y="5553"/>
                  <a:pt x="11212" y="55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973760" y="1911240"/>
            <a:ext cx="884160" cy="339840"/>
          </a:xfrm>
          <a:custGeom>
            <a:avLst/>
            <a:gdLst/>
            <a:ahLst/>
            <a:rect l="l" t="t" r="r" b="b"/>
            <a:pathLst>
              <a:path w="2457" h="944">
                <a:moveTo>
                  <a:pt x="13816" y="5531"/>
                </a:moveTo>
                <a:cubicBezTo>
                  <a:pt x="13893" y="5397"/>
                  <a:pt x="13996" y="5358"/>
                  <a:pt x="14139" y="5308"/>
                </a:cubicBezTo>
                <a:cubicBezTo>
                  <a:pt x="14224" y="5516"/>
                  <a:pt x="14097" y="5586"/>
                  <a:pt x="13940" y="5730"/>
                </a:cubicBezTo>
                <a:cubicBezTo>
                  <a:pt x="13932" y="5738"/>
                  <a:pt x="13923" y="5747"/>
                  <a:pt x="13915" y="5755"/>
                </a:cubicBezTo>
                <a:cubicBezTo>
                  <a:pt x="14077" y="5701"/>
                  <a:pt x="14277" y="5700"/>
                  <a:pt x="14238" y="5953"/>
                </a:cubicBezTo>
                <a:cubicBezTo>
                  <a:pt x="14203" y="6178"/>
                  <a:pt x="13958" y="6247"/>
                  <a:pt x="13816" y="6176"/>
                </a:cubicBezTo>
              </a:path>
              <a:path w="2457" h="944">
                <a:moveTo>
                  <a:pt x="14213" y="5358"/>
                </a:moveTo>
                <a:cubicBezTo>
                  <a:pt x="14236" y="5564"/>
                  <a:pt x="14317" y="5751"/>
                  <a:pt x="14362" y="5953"/>
                </a:cubicBezTo>
                <a:cubicBezTo>
                  <a:pt x="14370" y="6003"/>
                  <a:pt x="14379" y="6052"/>
                  <a:pt x="14387" y="6102"/>
                </a:cubicBezTo>
                <a:cubicBezTo>
                  <a:pt x="14387" y="6230"/>
                  <a:pt x="14375" y="5856"/>
                  <a:pt x="14387" y="5804"/>
                </a:cubicBezTo>
                <a:cubicBezTo>
                  <a:pt x="14432" y="5689"/>
                  <a:pt x="14439" y="5650"/>
                  <a:pt x="14536" y="5655"/>
                </a:cubicBezTo>
                <a:cubicBezTo>
                  <a:pt x="14706" y="5788"/>
                  <a:pt x="14682" y="5900"/>
                  <a:pt x="14709" y="6102"/>
                </a:cubicBezTo>
                <a:cubicBezTo>
                  <a:pt x="14733" y="6279"/>
                  <a:pt x="14700" y="6247"/>
                  <a:pt x="14858" y="6226"/>
                </a:cubicBezTo>
              </a:path>
              <a:path w="2457" h="944">
                <a:moveTo>
                  <a:pt x="14908" y="5680"/>
                </a:moveTo>
                <a:cubicBezTo>
                  <a:pt x="15051" y="5663"/>
                  <a:pt x="15185" y="5655"/>
                  <a:pt x="15329" y="5655"/>
                </a:cubicBezTo>
              </a:path>
              <a:path w="2457" h="944">
                <a:moveTo>
                  <a:pt x="14957" y="5904"/>
                </a:moveTo>
                <a:cubicBezTo>
                  <a:pt x="15116" y="5904"/>
                  <a:pt x="15249" y="5887"/>
                  <a:pt x="15404" y="5854"/>
                </a:cubicBezTo>
              </a:path>
              <a:path w="2457" h="944">
                <a:moveTo>
                  <a:pt x="15478" y="5482"/>
                </a:moveTo>
                <a:cubicBezTo>
                  <a:pt x="15561" y="5708"/>
                  <a:pt x="15617" y="5910"/>
                  <a:pt x="15627" y="6152"/>
                </a:cubicBezTo>
                <a:cubicBezTo>
                  <a:pt x="15627" y="6160"/>
                  <a:pt x="15627" y="6168"/>
                  <a:pt x="15627" y="6176"/>
                </a:cubicBezTo>
              </a:path>
              <a:path w="2457" h="944">
                <a:moveTo>
                  <a:pt x="16222" y="5432"/>
                </a:moveTo>
                <a:cubicBezTo>
                  <a:pt x="16032" y="5409"/>
                  <a:pt x="15974" y="5433"/>
                  <a:pt x="15850" y="5581"/>
                </a:cubicBezTo>
                <a:cubicBezTo>
                  <a:pt x="15947" y="5720"/>
                  <a:pt x="16206" y="5817"/>
                  <a:pt x="16247" y="6003"/>
                </a:cubicBezTo>
                <a:cubicBezTo>
                  <a:pt x="16226" y="6108"/>
                  <a:pt x="16231" y="6136"/>
                  <a:pt x="16173" y="6176"/>
                </a:cubicBezTo>
                <a:cubicBezTo>
                  <a:pt x="16013" y="6003"/>
                  <a:pt x="16103" y="5843"/>
                  <a:pt x="16197" y="5631"/>
                </a:cubicBezTo>
                <a:cubicBezTo>
                  <a:pt x="16236" y="5542"/>
                  <a:pt x="16307" y="5307"/>
                  <a:pt x="16247" y="5383"/>
                </a:cubicBezTo>
                <a:cubicBezTo>
                  <a:pt x="16247" y="5391"/>
                  <a:pt x="16247" y="5399"/>
                  <a:pt x="16247" y="54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20880" y="2670120"/>
            <a:ext cx="144360" cy="9720"/>
          </a:xfrm>
          <a:custGeom>
            <a:avLst/>
            <a:gdLst/>
            <a:ahLst/>
            <a:rect l="l" t="t" r="r" b="b"/>
            <a:pathLst>
              <a:path w="398" h="25">
                <a:moveTo>
                  <a:pt x="5085" y="7441"/>
                </a:moveTo>
                <a:cubicBezTo>
                  <a:pt x="5009" y="7405"/>
                  <a:pt x="5243" y="7417"/>
                  <a:pt x="5259" y="7417"/>
                </a:cubicBezTo>
                <a:cubicBezTo>
                  <a:pt x="5325" y="7417"/>
                  <a:pt x="5391" y="7417"/>
                  <a:pt x="5457" y="7417"/>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9" name=""/>
          <p:cNvSpPr/>
          <p:nvPr/>
        </p:nvSpPr>
        <p:spPr>
          <a:xfrm>
            <a:off x="2554200" y="2509920"/>
            <a:ext cx="169920" cy="249120"/>
          </a:xfrm>
          <a:custGeom>
            <a:avLst/>
            <a:gdLst/>
            <a:ahLst/>
            <a:rect l="l" t="t" r="r" b="b"/>
            <a:pathLst>
              <a:path w="472" h="696">
                <a:moveTo>
                  <a:pt x="7565" y="7069"/>
                </a:moveTo>
                <a:cubicBezTo>
                  <a:pt x="7549" y="6955"/>
                  <a:pt x="7451" y="6952"/>
                  <a:pt x="7342" y="6995"/>
                </a:cubicBezTo>
                <a:cubicBezTo>
                  <a:pt x="7195" y="7053"/>
                  <a:pt x="7152" y="7118"/>
                  <a:pt x="7094" y="7243"/>
                </a:cubicBezTo>
                <a:cubicBezTo>
                  <a:pt x="7227" y="7312"/>
                  <a:pt x="7556" y="7369"/>
                  <a:pt x="7516" y="7565"/>
                </a:cubicBezTo>
                <a:cubicBezTo>
                  <a:pt x="7490" y="7694"/>
                  <a:pt x="7374" y="7653"/>
                  <a:pt x="7293" y="7640"/>
                </a:cubicBezTo>
                <a:cubicBezTo>
                  <a:pt x="7303" y="7465"/>
                  <a:pt x="7327" y="7333"/>
                  <a:pt x="7441" y="7193"/>
                </a:cubicBezTo>
                <a:cubicBezTo>
                  <a:pt x="7506" y="7113"/>
                  <a:pt x="7541" y="7147"/>
                  <a:pt x="7541" y="70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054240" y="2660760"/>
            <a:ext cx="108000" cy="63360"/>
          </a:xfrm>
          <a:custGeom>
            <a:avLst/>
            <a:gdLst/>
            <a:ahLst/>
            <a:rect l="l" t="t" r="r" b="b"/>
            <a:pathLst>
              <a:path w="299" h="174">
                <a:moveTo>
                  <a:pt x="8483" y="7417"/>
                </a:moveTo>
                <a:cubicBezTo>
                  <a:pt x="8527" y="7413"/>
                  <a:pt x="8753" y="7352"/>
                  <a:pt x="8781" y="7392"/>
                </a:cubicBezTo>
                <a:cubicBezTo>
                  <a:pt x="8781" y="7408"/>
                  <a:pt x="8781" y="7425"/>
                  <a:pt x="8781" y="7441"/>
                </a:cubicBezTo>
              </a:path>
              <a:path w="299" h="174">
                <a:moveTo>
                  <a:pt x="8483" y="7565"/>
                </a:moveTo>
                <a:cubicBezTo>
                  <a:pt x="8582" y="7565"/>
                  <a:pt x="8682" y="7565"/>
                  <a:pt x="8781" y="7565"/>
                </a:cubicBezTo>
              </a:path>
            </a:pathLst>
          </a:custGeom>
          <a:noFill/>
          <a:ln cap="rnd" w="19080">
            <a:solidFill>
              <a:srgbClr val="ff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1" name=""/>
          <p:cNvSpPr/>
          <p:nvPr/>
        </p:nvSpPr>
        <p:spPr>
          <a:xfrm>
            <a:off x="3456000" y="2562120"/>
            <a:ext cx="258840" cy="233640"/>
          </a:xfrm>
          <a:custGeom>
            <a:avLst/>
            <a:gdLst/>
            <a:ahLst/>
            <a:rect l="l" t="t" r="r" b="b"/>
            <a:pathLst>
              <a:path w="721" h="646">
                <a:moveTo>
                  <a:pt x="9599" y="7169"/>
                </a:moveTo>
                <a:cubicBezTo>
                  <a:pt x="9599" y="7327"/>
                  <a:pt x="9620" y="7481"/>
                  <a:pt x="9624" y="7640"/>
                </a:cubicBezTo>
                <a:cubicBezTo>
                  <a:pt x="9625" y="7673"/>
                  <a:pt x="9624" y="7706"/>
                  <a:pt x="9624" y="7739"/>
                </a:cubicBezTo>
              </a:path>
              <a:path w="721" h="646">
                <a:moveTo>
                  <a:pt x="9823" y="7268"/>
                </a:moveTo>
                <a:cubicBezTo>
                  <a:pt x="9865" y="7253"/>
                  <a:pt x="9852" y="7197"/>
                  <a:pt x="9897" y="7169"/>
                </a:cubicBezTo>
                <a:cubicBezTo>
                  <a:pt x="9939" y="7143"/>
                  <a:pt x="10044" y="7101"/>
                  <a:pt x="10096" y="7119"/>
                </a:cubicBezTo>
                <a:cubicBezTo>
                  <a:pt x="10184" y="7149"/>
                  <a:pt x="10190" y="7244"/>
                  <a:pt x="10145" y="7317"/>
                </a:cubicBezTo>
                <a:cubicBezTo>
                  <a:pt x="10081" y="7422"/>
                  <a:pt x="9942" y="7446"/>
                  <a:pt x="9872" y="7565"/>
                </a:cubicBezTo>
                <a:cubicBezTo>
                  <a:pt x="9829" y="7639"/>
                  <a:pt x="9808" y="7686"/>
                  <a:pt x="9798" y="7764"/>
                </a:cubicBezTo>
                <a:cubicBezTo>
                  <a:pt x="9825" y="7726"/>
                  <a:pt x="9880" y="7569"/>
                  <a:pt x="9947" y="7590"/>
                </a:cubicBezTo>
                <a:cubicBezTo>
                  <a:pt x="10062" y="7625"/>
                  <a:pt x="10013" y="7728"/>
                  <a:pt x="10170" y="7714"/>
                </a:cubicBezTo>
                <a:cubicBezTo>
                  <a:pt x="10269" y="7705"/>
                  <a:pt x="10308" y="7682"/>
                  <a:pt x="10294" y="76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884840" y="3036960"/>
            <a:ext cx="901440" cy="268200"/>
          </a:xfrm>
          <a:custGeom>
            <a:avLst/>
            <a:gdLst/>
            <a:ahLst/>
            <a:rect l="l" t="t" r="r" b="b"/>
            <a:pathLst>
              <a:path w="2506" h="745">
                <a:moveTo>
                  <a:pt x="13568" y="8706"/>
                </a:moveTo>
                <a:cubicBezTo>
                  <a:pt x="13617" y="8829"/>
                  <a:pt x="13640" y="8974"/>
                  <a:pt x="13618" y="9103"/>
                </a:cubicBezTo>
                <a:cubicBezTo>
                  <a:pt x="13570" y="8929"/>
                  <a:pt x="13619" y="8800"/>
                  <a:pt x="13767" y="8682"/>
                </a:cubicBezTo>
                <a:cubicBezTo>
                  <a:pt x="13974" y="8516"/>
                  <a:pt x="14044" y="8774"/>
                  <a:pt x="14039" y="8930"/>
                </a:cubicBezTo>
                <a:cubicBezTo>
                  <a:pt x="14018" y="9059"/>
                  <a:pt x="13999" y="9091"/>
                  <a:pt x="14064" y="9153"/>
                </a:cubicBezTo>
                <a:cubicBezTo>
                  <a:pt x="14179" y="9160"/>
                  <a:pt x="14310" y="9172"/>
                  <a:pt x="14288" y="9029"/>
                </a:cubicBezTo>
              </a:path>
              <a:path w="2506" h="745">
                <a:moveTo>
                  <a:pt x="14635" y="8880"/>
                </a:moveTo>
                <a:cubicBezTo>
                  <a:pt x="14709" y="8880"/>
                  <a:pt x="14784" y="8880"/>
                  <a:pt x="14858" y="8880"/>
                </a:cubicBezTo>
              </a:path>
              <a:path w="2506" h="745">
                <a:moveTo>
                  <a:pt x="15354" y="8434"/>
                </a:moveTo>
                <a:cubicBezTo>
                  <a:pt x="15223" y="8434"/>
                  <a:pt x="15176" y="8437"/>
                  <a:pt x="15106" y="8508"/>
                </a:cubicBezTo>
                <a:cubicBezTo>
                  <a:pt x="15106" y="8731"/>
                  <a:pt x="15303" y="8797"/>
                  <a:pt x="15354" y="9004"/>
                </a:cubicBezTo>
                <a:cubicBezTo>
                  <a:pt x="15395" y="9169"/>
                  <a:pt x="15170" y="9066"/>
                  <a:pt x="15131" y="9054"/>
                </a:cubicBezTo>
                <a:cubicBezTo>
                  <a:pt x="15206" y="8919"/>
                  <a:pt x="15392" y="8736"/>
                  <a:pt x="15404" y="8582"/>
                </a:cubicBezTo>
                <a:cubicBezTo>
                  <a:pt x="15376" y="8527"/>
                  <a:pt x="15361" y="8511"/>
                  <a:pt x="15304" y="8533"/>
                </a:cubicBezTo>
              </a:path>
              <a:path w="2506" h="745">
                <a:moveTo>
                  <a:pt x="15776" y="8657"/>
                </a:moveTo>
                <a:cubicBezTo>
                  <a:pt x="15863" y="8642"/>
                  <a:pt x="16032" y="8604"/>
                  <a:pt x="16073" y="8632"/>
                </a:cubicBezTo>
              </a:path>
              <a:path w="2506" h="745">
                <a:moveTo>
                  <a:pt x="15726" y="8830"/>
                </a:moveTo>
                <a:cubicBezTo>
                  <a:pt x="15892" y="8830"/>
                  <a:pt x="15941" y="8830"/>
                  <a:pt x="16049" y="88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929200" y="3027240"/>
            <a:ext cx="277920" cy="250920"/>
          </a:xfrm>
          <a:custGeom>
            <a:avLst/>
            <a:gdLst/>
            <a:ahLst/>
            <a:rect l="l" t="t" r="r" b="b"/>
            <a:pathLst>
              <a:path w="770" h="695">
                <a:moveTo>
                  <a:pt x="16470" y="8434"/>
                </a:moveTo>
                <a:cubicBezTo>
                  <a:pt x="16470" y="8627"/>
                  <a:pt x="16482" y="8813"/>
                  <a:pt x="16495" y="9004"/>
                </a:cubicBezTo>
              </a:path>
              <a:path w="770" h="695">
                <a:moveTo>
                  <a:pt x="16793" y="8483"/>
                </a:moveTo>
                <a:cubicBezTo>
                  <a:pt x="16819" y="8379"/>
                  <a:pt x="16912" y="8429"/>
                  <a:pt x="16991" y="8434"/>
                </a:cubicBezTo>
                <a:cubicBezTo>
                  <a:pt x="17059" y="8434"/>
                  <a:pt x="17078" y="8431"/>
                  <a:pt x="17115" y="8458"/>
                </a:cubicBezTo>
                <a:cubicBezTo>
                  <a:pt x="17143" y="8668"/>
                  <a:pt x="17105" y="8744"/>
                  <a:pt x="16942" y="8880"/>
                </a:cubicBezTo>
                <a:cubicBezTo>
                  <a:pt x="16888" y="8925"/>
                  <a:pt x="16733" y="9082"/>
                  <a:pt x="16694" y="9103"/>
                </a:cubicBezTo>
                <a:cubicBezTo>
                  <a:pt x="16694" y="9095"/>
                  <a:pt x="16694" y="9087"/>
                  <a:pt x="16694" y="9079"/>
                </a:cubicBezTo>
                <a:cubicBezTo>
                  <a:pt x="16766" y="8995"/>
                  <a:pt x="16804" y="8959"/>
                  <a:pt x="16917" y="8930"/>
                </a:cubicBezTo>
                <a:cubicBezTo>
                  <a:pt x="16988" y="8912"/>
                  <a:pt x="16980" y="9044"/>
                  <a:pt x="17041" y="9054"/>
                </a:cubicBezTo>
                <a:cubicBezTo>
                  <a:pt x="17144" y="9054"/>
                  <a:pt x="17181" y="9052"/>
                  <a:pt x="17239" y="900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010200" y="4205160"/>
            <a:ext cx="44640" cy="179640"/>
          </a:xfrm>
          <a:custGeom>
            <a:avLst/>
            <a:gdLst/>
            <a:ahLst/>
            <a:rect l="l" t="t" r="r" b="b"/>
            <a:pathLst>
              <a:path w="125" h="497">
                <a:moveTo>
                  <a:pt x="16694" y="11683"/>
                </a:moveTo>
                <a:cubicBezTo>
                  <a:pt x="16799" y="11763"/>
                  <a:pt x="16773" y="11952"/>
                  <a:pt x="16793" y="12080"/>
                </a:cubicBezTo>
                <a:cubicBezTo>
                  <a:pt x="16801" y="12113"/>
                  <a:pt x="16810" y="12146"/>
                  <a:pt x="16818" y="1217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411280" y="3894120"/>
            <a:ext cx="2625840" cy="1054080"/>
          </a:xfrm>
          <a:custGeom>
            <a:avLst/>
            <a:gdLst/>
            <a:ahLst/>
            <a:rect l="l" t="t" r="r" b="b"/>
            <a:pathLst>
              <a:path w="7294" h="2928">
                <a:moveTo>
                  <a:pt x="9500" y="13742"/>
                </a:moveTo>
                <a:cubicBezTo>
                  <a:pt x="9537" y="13723"/>
                  <a:pt x="9570" y="13694"/>
                  <a:pt x="9649" y="13692"/>
                </a:cubicBezTo>
                <a:cubicBezTo>
                  <a:pt x="10022" y="13682"/>
                  <a:pt x="10394" y="13685"/>
                  <a:pt x="10765" y="13667"/>
                </a:cubicBezTo>
                <a:cubicBezTo>
                  <a:pt x="10958" y="13658"/>
                  <a:pt x="11144" y="13623"/>
                  <a:pt x="11336" y="13618"/>
                </a:cubicBezTo>
                <a:cubicBezTo>
                  <a:pt x="11488" y="13614"/>
                  <a:pt x="11631" y="13639"/>
                  <a:pt x="11782" y="13643"/>
                </a:cubicBezTo>
                <a:cubicBezTo>
                  <a:pt x="12024" y="13650"/>
                  <a:pt x="12263" y="13632"/>
                  <a:pt x="12502" y="13618"/>
                </a:cubicBezTo>
                <a:cubicBezTo>
                  <a:pt x="12718" y="13605"/>
                  <a:pt x="12933" y="13611"/>
                  <a:pt x="13146" y="13593"/>
                </a:cubicBezTo>
                <a:cubicBezTo>
                  <a:pt x="13262" y="13583"/>
                  <a:pt x="13380" y="13572"/>
                  <a:pt x="13494" y="13568"/>
                </a:cubicBezTo>
                <a:cubicBezTo>
                  <a:pt x="13560" y="13566"/>
                  <a:pt x="13626" y="13568"/>
                  <a:pt x="13692" y="13568"/>
                </a:cubicBezTo>
              </a:path>
              <a:path w="7294" h="2928">
                <a:moveTo>
                  <a:pt x="11038" y="12080"/>
                </a:moveTo>
                <a:cubicBezTo>
                  <a:pt x="11038" y="12018"/>
                  <a:pt x="11111" y="12200"/>
                  <a:pt x="11112" y="12204"/>
                </a:cubicBezTo>
                <a:cubicBezTo>
                  <a:pt x="11132" y="12303"/>
                  <a:pt x="11140" y="12319"/>
                  <a:pt x="11137" y="12378"/>
                </a:cubicBezTo>
                <a:cubicBezTo>
                  <a:pt x="11137" y="12425"/>
                  <a:pt x="11087" y="12236"/>
                  <a:pt x="11088" y="12204"/>
                </a:cubicBezTo>
                <a:cubicBezTo>
                  <a:pt x="11090" y="12168"/>
                  <a:pt x="11160" y="12054"/>
                  <a:pt x="11187" y="12030"/>
                </a:cubicBezTo>
                <a:cubicBezTo>
                  <a:pt x="11200" y="12018"/>
                  <a:pt x="11328" y="11942"/>
                  <a:pt x="11361" y="11981"/>
                </a:cubicBezTo>
                <a:cubicBezTo>
                  <a:pt x="11408" y="12037"/>
                  <a:pt x="11390" y="12147"/>
                  <a:pt x="11385" y="12204"/>
                </a:cubicBezTo>
                <a:cubicBezTo>
                  <a:pt x="11383" y="12227"/>
                  <a:pt x="11379" y="12393"/>
                  <a:pt x="11410" y="12402"/>
                </a:cubicBezTo>
                <a:cubicBezTo>
                  <a:pt x="11493" y="12427"/>
                  <a:pt x="11575" y="12402"/>
                  <a:pt x="11633" y="12353"/>
                </a:cubicBezTo>
                <a:cubicBezTo>
                  <a:pt x="11663" y="12328"/>
                  <a:pt x="11675" y="12302"/>
                  <a:pt x="11683" y="12278"/>
                </a:cubicBezTo>
              </a:path>
              <a:path w="7294" h="2928">
                <a:moveTo>
                  <a:pt x="6896" y="12477"/>
                </a:moveTo>
                <a:cubicBezTo>
                  <a:pt x="6996" y="12527"/>
                  <a:pt x="7080" y="12605"/>
                  <a:pt x="7193" y="12650"/>
                </a:cubicBezTo>
                <a:cubicBezTo>
                  <a:pt x="7459" y="12754"/>
                  <a:pt x="7708" y="12728"/>
                  <a:pt x="7962" y="12601"/>
                </a:cubicBezTo>
                <a:cubicBezTo>
                  <a:pt x="8195" y="12485"/>
                  <a:pt x="8424" y="12265"/>
                  <a:pt x="8384" y="11981"/>
                </a:cubicBezTo>
                <a:cubicBezTo>
                  <a:pt x="8360" y="11815"/>
                  <a:pt x="8256" y="11657"/>
                  <a:pt x="8111" y="11584"/>
                </a:cubicBezTo>
                <a:cubicBezTo>
                  <a:pt x="7960" y="11508"/>
                  <a:pt x="7758" y="11471"/>
                  <a:pt x="7590" y="11485"/>
                </a:cubicBezTo>
                <a:cubicBezTo>
                  <a:pt x="7431" y="11498"/>
                  <a:pt x="7179" y="11548"/>
                  <a:pt x="7045" y="11633"/>
                </a:cubicBezTo>
                <a:cubicBezTo>
                  <a:pt x="6923" y="11711"/>
                  <a:pt x="6770" y="11891"/>
                  <a:pt x="6722" y="12030"/>
                </a:cubicBezTo>
                <a:cubicBezTo>
                  <a:pt x="6649" y="12243"/>
                  <a:pt x="6810" y="12436"/>
                  <a:pt x="6921" y="12601"/>
                </a:cubicBezTo>
                <a:cubicBezTo>
                  <a:pt x="7028" y="12759"/>
                  <a:pt x="6993" y="12699"/>
                  <a:pt x="7169" y="12576"/>
                </a:cubicBezTo>
              </a:path>
              <a:path w="7294" h="2928">
                <a:moveTo>
                  <a:pt x="8310" y="11832"/>
                </a:moveTo>
                <a:cubicBezTo>
                  <a:pt x="8334" y="11791"/>
                  <a:pt x="8371" y="11718"/>
                  <a:pt x="8409" y="11658"/>
                </a:cubicBezTo>
                <a:cubicBezTo>
                  <a:pt x="8520" y="11485"/>
                  <a:pt x="8674" y="11336"/>
                  <a:pt x="8855" y="11237"/>
                </a:cubicBezTo>
                <a:cubicBezTo>
                  <a:pt x="9137" y="11083"/>
                  <a:pt x="9463" y="10990"/>
                  <a:pt x="9773" y="10914"/>
                </a:cubicBezTo>
                <a:cubicBezTo>
                  <a:pt x="10085" y="10837"/>
                  <a:pt x="10419" y="10843"/>
                  <a:pt x="10740" y="10840"/>
                </a:cubicBezTo>
                <a:cubicBezTo>
                  <a:pt x="11201" y="10836"/>
                  <a:pt x="11647" y="10792"/>
                  <a:pt x="12105" y="10864"/>
                </a:cubicBezTo>
                <a:cubicBezTo>
                  <a:pt x="12244" y="10886"/>
                  <a:pt x="12321" y="10943"/>
                  <a:pt x="12452" y="10988"/>
                </a:cubicBezTo>
                <a:cubicBezTo>
                  <a:pt x="12585" y="11033"/>
                  <a:pt x="12819" y="11077"/>
                  <a:pt x="12923" y="11187"/>
                </a:cubicBezTo>
                <a:cubicBezTo>
                  <a:pt x="12995" y="11264"/>
                  <a:pt x="13011" y="11339"/>
                  <a:pt x="13097" y="11410"/>
                </a:cubicBezTo>
                <a:cubicBezTo>
                  <a:pt x="13235" y="11524"/>
                  <a:pt x="13395" y="11633"/>
                  <a:pt x="13543" y="11733"/>
                </a:cubicBezTo>
                <a:cubicBezTo>
                  <a:pt x="13720" y="11853"/>
                  <a:pt x="13857" y="11968"/>
                  <a:pt x="13990" y="12129"/>
                </a:cubicBezTo>
                <a:cubicBezTo>
                  <a:pt x="13958" y="11978"/>
                  <a:pt x="13916" y="11832"/>
                  <a:pt x="13866" y="11683"/>
                </a:cubicBezTo>
                <a:cubicBezTo>
                  <a:pt x="13858" y="11658"/>
                  <a:pt x="13849" y="11634"/>
                  <a:pt x="13841" y="11609"/>
                </a:cubicBezTo>
                <a:cubicBezTo>
                  <a:pt x="13856" y="11642"/>
                  <a:pt x="13970" y="11849"/>
                  <a:pt x="13965" y="11857"/>
                </a:cubicBezTo>
                <a:cubicBezTo>
                  <a:pt x="13909" y="11942"/>
                  <a:pt x="13752" y="11907"/>
                  <a:pt x="13667" y="12005"/>
                </a:cubicBezTo>
                <a:cubicBezTo>
                  <a:pt x="13647" y="12046"/>
                  <a:pt x="13639" y="12052"/>
                  <a:pt x="13643" y="120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911840" y="5224320"/>
            <a:ext cx="857160" cy="27000"/>
          </a:xfrm>
          <a:custGeom>
            <a:avLst/>
            <a:gdLst/>
            <a:ahLst/>
            <a:rect l="l" t="t" r="r" b="b"/>
            <a:pathLst>
              <a:path w="2382" h="75">
                <a:moveTo>
                  <a:pt x="13643" y="14560"/>
                </a:moveTo>
                <a:cubicBezTo>
                  <a:pt x="13796" y="14579"/>
                  <a:pt x="13912" y="14584"/>
                  <a:pt x="14064" y="14560"/>
                </a:cubicBezTo>
              </a:path>
              <a:path w="2382" h="75">
                <a:moveTo>
                  <a:pt x="15726" y="14560"/>
                </a:moveTo>
                <a:cubicBezTo>
                  <a:pt x="15878" y="14560"/>
                  <a:pt x="15930" y="14559"/>
                  <a:pt x="16024" y="14511"/>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7" name=""/>
          <p:cNvSpPr/>
          <p:nvPr/>
        </p:nvSpPr>
        <p:spPr>
          <a:xfrm>
            <a:off x="4429080" y="5160960"/>
            <a:ext cx="527040" cy="196920"/>
          </a:xfrm>
          <a:custGeom>
            <a:avLst/>
            <a:gdLst/>
            <a:ahLst/>
            <a:rect l="l" t="t" r="r" b="b"/>
            <a:pathLst>
              <a:path w="1465" h="547">
                <a:moveTo>
                  <a:pt x="12303" y="14387"/>
                </a:moveTo>
                <a:cubicBezTo>
                  <a:pt x="12385" y="14549"/>
                  <a:pt x="12432" y="14715"/>
                  <a:pt x="12502" y="14883"/>
                </a:cubicBezTo>
                <a:cubicBezTo>
                  <a:pt x="12476" y="14704"/>
                  <a:pt x="12435" y="14587"/>
                  <a:pt x="12576" y="14436"/>
                </a:cubicBezTo>
                <a:cubicBezTo>
                  <a:pt x="12803" y="14193"/>
                  <a:pt x="12906" y="14433"/>
                  <a:pt x="12948" y="14635"/>
                </a:cubicBezTo>
                <a:cubicBezTo>
                  <a:pt x="12978" y="14779"/>
                  <a:pt x="13046" y="14996"/>
                  <a:pt x="13246" y="14858"/>
                </a:cubicBezTo>
                <a:cubicBezTo>
                  <a:pt x="13316" y="14810"/>
                  <a:pt x="13313" y="14787"/>
                  <a:pt x="13295" y="14759"/>
                </a:cubicBezTo>
              </a:path>
              <a:path w="1465" h="547">
                <a:moveTo>
                  <a:pt x="13667" y="14337"/>
                </a:moveTo>
                <a:cubicBezTo>
                  <a:pt x="13709" y="14472"/>
                  <a:pt x="13728" y="14623"/>
                  <a:pt x="13767" y="14759"/>
                </a:cubicBezTo>
                <a:cubicBezTo>
                  <a:pt x="13767" y="14751"/>
                  <a:pt x="13767" y="14742"/>
                  <a:pt x="13767" y="1473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187960" y="5089680"/>
            <a:ext cx="304920" cy="233280"/>
          </a:xfrm>
          <a:custGeom>
            <a:avLst/>
            <a:gdLst/>
            <a:ahLst/>
            <a:rect l="l" t="t" r="r" b="b"/>
            <a:pathLst>
              <a:path w="844" h="646">
                <a:moveTo>
                  <a:pt x="14412" y="14139"/>
                </a:moveTo>
                <a:cubicBezTo>
                  <a:pt x="14423" y="14334"/>
                  <a:pt x="14446" y="14546"/>
                  <a:pt x="14486" y="14734"/>
                </a:cubicBezTo>
                <a:cubicBezTo>
                  <a:pt x="14518" y="14799"/>
                  <a:pt x="14538" y="14804"/>
                  <a:pt x="14585" y="14709"/>
                </a:cubicBezTo>
              </a:path>
              <a:path w="844" h="646">
                <a:moveTo>
                  <a:pt x="14833" y="14213"/>
                </a:moveTo>
                <a:cubicBezTo>
                  <a:pt x="15077" y="14166"/>
                  <a:pt x="15239" y="14231"/>
                  <a:pt x="15205" y="14536"/>
                </a:cubicBezTo>
                <a:cubicBezTo>
                  <a:pt x="15181" y="14744"/>
                  <a:pt x="14961" y="14756"/>
                  <a:pt x="14808" y="14734"/>
                </a:cubicBezTo>
                <a:cubicBezTo>
                  <a:pt x="14909" y="14562"/>
                  <a:pt x="15009" y="14536"/>
                  <a:pt x="15180" y="14660"/>
                </a:cubicBezTo>
                <a:cubicBezTo>
                  <a:pt x="15205" y="14685"/>
                  <a:pt x="15230" y="14709"/>
                  <a:pt x="15255" y="1473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643720" y="5153040"/>
            <a:ext cx="107640" cy="1440"/>
          </a:xfrm>
          <a:custGeom>
            <a:avLst/>
            <a:gdLst/>
            <a:ahLst/>
            <a:rect l="l" t="t" r="r" b="b"/>
            <a:pathLst>
              <a:path w="298" h="1">
                <a:moveTo>
                  <a:pt x="15677" y="14312"/>
                </a:moveTo>
                <a:cubicBezTo>
                  <a:pt x="15776" y="14312"/>
                  <a:pt x="15875" y="14312"/>
                  <a:pt x="15974" y="14312"/>
                </a:cubicBez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5911920" y="5133960"/>
            <a:ext cx="392040" cy="216000"/>
          </a:xfrm>
          <a:custGeom>
            <a:avLst/>
            <a:gdLst/>
            <a:ahLst/>
            <a:rect l="l" t="t" r="r" b="b"/>
            <a:pathLst>
              <a:path w="1092" h="596">
                <a:moveTo>
                  <a:pt x="16495" y="14288"/>
                </a:moveTo>
                <a:cubicBezTo>
                  <a:pt x="16662" y="14225"/>
                  <a:pt x="16793" y="14338"/>
                  <a:pt x="16793" y="14536"/>
                </a:cubicBezTo>
                <a:cubicBezTo>
                  <a:pt x="16793" y="14783"/>
                  <a:pt x="16606" y="14875"/>
                  <a:pt x="16421" y="14808"/>
                </a:cubicBezTo>
                <a:cubicBezTo>
                  <a:pt x="16500" y="14606"/>
                  <a:pt x="16572" y="14555"/>
                  <a:pt x="16768" y="14709"/>
                </a:cubicBezTo>
                <a:cubicBezTo>
                  <a:pt x="16824" y="14753"/>
                  <a:pt x="16843" y="14809"/>
                  <a:pt x="16892" y="14833"/>
                </a:cubicBezTo>
              </a:path>
              <a:path w="1092" h="596">
                <a:moveTo>
                  <a:pt x="17388" y="14263"/>
                </a:moveTo>
                <a:cubicBezTo>
                  <a:pt x="17209" y="14326"/>
                  <a:pt x="17025" y="14422"/>
                  <a:pt x="17090" y="14660"/>
                </a:cubicBezTo>
                <a:cubicBezTo>
                  <a:pt x="17115" y="14693"/>
                  <a:pt x="17140" y="14726"/>
                  <a:pt x="17165" y="14759"/>
                </a:cubicBezTo>
                <a:cubicBezTo>
                  <a:pt x="17412" y="14759"/>
                  <a:pt x="17583" y="14683"/>
                  <a:pt x="17462" y="14387"/>
                </a:cubicBezTo>
                <a:cubicBezTo>
                  <a:pt x="17389" y="14313"/>
                  <a:pt x="17365" y="14288"/>
                  <a:pt x="17289" y="142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09800" y="2598840"/>
            <a:ext cx="241200" cy="169920"/>
          </a:xfrm>
          <a:custGeom>
            <a:avLst/>
            <a:gdLst/>
            <a:ahLst/>
            <a:rect l="l" t="t" r="r" b="b"/>
            <a:pathLst>
              <a:path w="671" h="472">
                <a:moveTo>
                  <a:pt x="2828" y="7243"/>
                </a:moveTo>
                <a:cubicBezTo>
                  <a:pt x="2795" y="7308"/>
                  <a:pt x="2864" y="7482"/>
                  <a:pt x="2877" y="7590"/>
                </a:cubicBezTo>
                <a:cubicBezTo>
                  <a:pt x="2877" y="7648"/>
                  <a:pt x="2877" y="7690"/>
                  <a:pt x="2877" y="7640"/>
                </a:cubicBezTo>
                <a:cubicBezTo>
                  <a:pt x="2877" y="7549"/>
                  <a:pt x="2857" y="7448"/>
                  <a:pt x="2902" y="7367"/>
                </a:cubicBezTo>
                <a:cubicBezTo>
                  <a:pt x="2939" y="7299"/>
                  <a:pt x="3055" y="7177"/>
                  <a:pt x="3150" y="7218"/>
                </a:cubicBezTo>
                <a:cubicBezTo>
                  <a:pt x="3249" y="7261"/>
                  <a:pt x="3263" y="7373"/>
                  <a:pt x="3249" y="7466"/>
                </a:cubicBezTo>
                <a:cubicBezTo>
                  <a:pt x="3237" y="7543"/>
                  <a:pt x="3225" y="7589"/>
                  <a:pt x="3225" y="7665"/>
                </a:cubicBezTo>
                <a:cubicBezTo>
                  <a:pt x="3336" y="7685"/>
                  <a:pt x="3381" y="7652"/>
                  <a:pt x="3473" y="76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973160" y="4241880"/>
            <a:ext cx="1206720" cy="768240"/>
          </a:xfrm>
          <a:custGeom>
            <a:avLst/>
            <a:gdLst/>
            <a:ahLst/>
            <a:rect l="l" t="t" r="r" b="b"/>
            <a:pathLst>
              <a:path w="3349" h="2134">
                <a:moveTo>
                  <a:pt x="5482" y="13866"/>
                </a:moveTo>
                <a:cubicBezTo>
                  <a:pt x="5534" y="13866"/>
                  <a:pt x="5554" y="13864"/>
                  <a:pt x="5606" y="13866"/>
                </a:cubicBezTo>
                <a:cubicBezTo>
                  <a:pt x="5750" y="13871"/>
                  <a:pt x="5889" y="13857"/>
                  <a:pt x="6028" y="13841"/>
                </a:cubicBezTo>
                <a:cubicBezTo>
                  <a:pt x="6158" y="13826"/>
                  <a:pt x="6294" y="13819"/>
                  <a:pt x="6424" y="13816"/>
                </a:cubicBezTo>
                <a:cubicBezTo>
                  <a:pt x="6594" y="13812"/>
                  <a:pt x="6754" y="13828"/>
                  <a:pt x="6921" y="13841"/>
                </a:cubicBezTo>
                <a:cubicBezTo>
                  <a:pt x="7062" y="13852"/>
                  <a:pt x="7203" y="13854"/>
                  <a:pt x="7342" y="13866"/>
                </a:cubicBezTo>
                <a:cubicBezTo>
                  <a:pt x="7451" y="13875"/>
                  <a:pt x="7557" y="13888"/>
                  <a:pt x="7665" y="13891"/>
                </a:cubicBezTo>
                <a:cubicBezTo>
                  <a:pt x="7822" y="13896"/>
                  <a:pt x="7978" y="13934"/>
                  <a:pt x="8136" y="13915"/>
                </a:cubicBezTo>
                <a:cubicBezTo>
                  <a:pt x="8233" y="13903"/>
                  <a:pt x="8341" y="13874"/>
                  <a:pt x="8434" y="13866"/>
                </a:cubicBezTo>
                <a:cubicBezTo>
                  <a:pt x="8503" y="13860"/>
                  <a:pt x="8568" y="13846"/>
                  <a:pt x="8632" y="13841"/>
                </a:cubicBezTo>
                <a:cubicBezTo>
                  <a:pt x="8706" y="13835"/>
                  <a:pt x="8732" y="13841"/>
                  <a:pt x="8806" y="13841"/>
                </a:cubicBezTo>
              </a:path>
              <a:path w="3349" h="2134">
                <a:moveTo>
                  <a:pt x="7466" y="11807"/>
                </a:moveTo>
                <a:cubicBezTo>
                  <a:pt x="7458" y="11799"/>
                  <a:pt x="7449" y="11790"/>
                  <a:pt x="7441" y="11782"/>
                </a:cubicBezTo>
                <a:cubicBezTo>
                  <a:pt x="7441" y="11892"/>
                  <a:pt x="7402" y="11994"/>
                  <a:pt x="7417" y="12105"/>
                </a:cubicBezTo>
                <a:cubicBezTo>
                  <a:pt x="7417" y="12107"/>
                  <a:pt x="7441" y="12246"/>
                  <a:pt x="7441" y="12179"/>
                </a:cubicBezTo>
              </a:path>
              <a:path w="3349" h="2134">
                <a:moveTo>
                  <a:pt x="7243" y="12005"/>
                </a:moveTo>
                <a:cubicBezTo>
                  <a:pt x="7278" y="11971"/>
                  <a:pt x="7393" y="11959"/>
                  <a:pt x="7466" y="11956"/>
                </a:cubicBezTo>
                <a:cubicBezTo>
                  <a:pt x="7519" y="11954"/>
                  <a:pt x="7573" y="11906"/>
                  <a:pt x="7590" y="11956"/>
                </a:cubicBezTo>
                <a:cubicBezTo>
                  <a:pt x="7590" y="11964"/>
                  <a:pt x="7590" y="11973"/>
                  <a:pt x="7590" y="119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134040" y="4197240"/>
            <a:ext cx="144360" cy="187560"/>
          </a:xfrm>
          <a:custGeom>
            <a:avLst/>
            <a:gdLst/>
            <a:ahLst/>
            <a:rect l="l" t="t" r="r" b="b"/>
            <a:pathLst>
              <a:path w="398" h="522">
                <a:moveTo>
                  <a:pt x="17041" y="11708"/>
                </a:moveTo>
                <a:cubicBezTo>
                  <a:pt x="17109" y="11694"/>
                  <a:pt x="17167" y="11663"/>
                  <a:pt x="17239" y="11658"/>
                </a:cubicBezTo>
                <a:cubicBezTo>
                  <a:pt x="17247" y="11658"/>
                  <a:pt x="17256" y="11658"/>
                  <a:pt x="17264" y="11658"/>
                </a:cubicBezTo>
                <a:cubicBezTo>
                  <a:pt x="17249" y="11803"/>
                  <a:pt x="17181" y="11901"/>
                  <a:pt x="17115" y="12030"/>
                </a:cubicBezTo>
                <a:cubicBezTo>
                  <a:pt x="17075" y="12111"/>
                  <a:pt x="17059" y="12124"/>
                  <a:pt x="17066" y="12179"/>
                </a:cubicBezTo>
                <a:cubicBezTo>
                  <a:pt x="17168" y="12128"/>
                  <a:pt x="17211" y="12087"/>
                  <a:pt x="17338" y="12080"/>
                </a:cubicBezTo>
                <a:cubicBezTo>
                  <a:pt x="17374" y="12078"/>
                  <a:pt x="17404" y="12098"/>
                  <a:pt x="17438" y="121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589800" y="4232160"/>
            <a:ext cx="135000" cy="90720"/>
          </a:xfrm>
          <a:custGeom>
            <a:avLst/>
            <a:gdLst/>
            <a:ahLst/>
            <a:rect l="l" t="t" r="r" b="b"/>
            <a:pathLst>
              <a:path w="373" h="249">
                <a:moveTo>
                  <a:pt x="18306" y="11782"/>
                </a:moveTo>
                <a:cubicBezTo>
                  <a:pt x="18359" y="11782"/>
                  <a:pt x="18379" y="11766"/>
                  <a:pt x="18430" y="11757"/>
                </a:cubicBezTo>
                <a:cubicBezTo>
                  <a:pt x="18483" y="11747"/>
                  <a:pt x="18549" y="11757"/>
                  <a:pt x="18604" y="11757"/>
                </a:cubicBezTo>
              </a:path>
              <a:path w="373" h="249">
                <a:moveTo>
                  <a:pt x="18306" y="12005"/>
                </a:moveTo>
                <a:cubicBezTo>
                  <a:pt x="18314" y="11982"/>
                  <a:pt x="18367" y="11961"/>
                  <a:pt x="18405" y="11956"/>
                </a:cubicBezTo>
                <a:cubicBezTo>
                  <a:pt x="18486" y="11945"/>
                  <a:pt x="18551" y="11949"/>
                  <a:pt x="18628" y="11931"/>
                </a:cubicBezTo>
                <a:cubicBezTo>
                  <a:pt x="18653" y="11931"/>
                  <a:pt x="18661" y="11931"/>
                  <a:pt x="18678" y="11931"/>
                </a:cubicBezTo>
              </a:path>
            </a:pathLst>
          </a:custGeom>
          <a:noFill/>
          <a:ln cap="rnd" w="1908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5" name=""/>
          <p:cNvSpPr/>
          <p:nvPr/>
        </p:nvSpPr>
        <p:spPr>
          <a:xfrm>
            <a:off x="7062840" y="4143240"/>
            <a:ext cx="384120" cy="223920"/>
          </a:xfrm>
          <a:custGeom>
            <a:avLst/>
            <a:gdLst/>
            <a:ahLst/>
            <a:rect l="l" t="t" r="r" b="b"/>
            <a:pathLst>
              <a:path w="1067" h="621">
                <a:moveTo>
                  <a:pt x="19621" y="11633"/>
                </a:moveTo>
                <a:cubicBezTo>
                  <a:pt x="19731" y="11606"/>
                  <a:pt x="19846" y="11533"/>
                  <a:pt x="19968" y="11509"/>
                </a:cubicBezTo>
                <a:cubicBezTo>
                  <a:pt x="19993" y="11509"/>
                  <a:pt x="20017" y="11509"/>
                  <a:pt x="20042" y="11509"/>
                </a:cubicBezTo>
                <a:cubicBezTo>
                  <a:pt x="19980" y="11712"/>
                  <a:pt x="19837" y="11868"/>
                  <a:pt x="19695" y="12030"/>
                </a:cubicBezTo>
                <a:cubicBezTo>
                  <a:pt x="19656" y="12069"/>
                  <a:pt x="19624" y="12086"/>
                  <a:pt x="19670" y="12080"/>
                </a:cubicBezTo>
                <a:cubicBezTo>
                  <a:pt x="19798" y="12066"/>
                  <a:pt x="19912" y="12030"/>
                  <a:pt x="20042" y="12030"/>
                </a:cubicBezTo>
                <a:cubicBezTo>
                  <a:pt x="20082" y="12030"/>
                  <a:pt x="20101" y="12019"/>
                  <a:pt x="20117" y="11981"/>
                </a:cubicBezTo>
              </a:path>
              <a:path w="1067" h="621">
                <a:moveTo>
                  <a:pt x="20464" y="11534"/>
                </a:moveTo>
                <a:cubicBezTo>
                  <a:pt x="20319" y="11606"/>
                  <a:pt x="20220" y="11774"/>
                  <a:pt x="20216" y="11956"/>
                </a:cubicBezTo>
                <a:cubicBezTo>
                  <a:pt x="20224" y="11997"/>
                  <a:pt x="20233" y="12039"/>
                  <a:pt x="20241" y="12080"/>
                </a:cubicBezTo>
                <a:cubicBezTo>
                  <a:pt x="20459" y="12131"/>
                  <a:pt x="20621" y="12030"/>
                  <a:pt x="20687" y="11782"/>
                </a:cubicBezTo>
                <a:cubicBezTo>
                  <a:pt x="20751" y="11544"/>
                  <a:pt x="20551" y="11543"/>
                  <a:pt x="20389" y="1153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5">
                                            <p:txEl>
                                              <p:pRg st="1" end="1"/>
                                            </p:txEl>
                                          </p:spTgt>
                                        </p:tgtEl>
                                        <p:attrNameLst>
                                          <p:attrName>style.visibility</p:attrName>
                                        </p:attrNameLst>
                                      </p:cBhvr>
                                      <p:to>
                                        <p:strVal val="visible"/>
                                      </p:to>
                                    </p:set>
                                    <p:anim calcmode="lin" valueType="num">
                                      <p:cBhvr additive="base">
                                        <p:cTn id="63"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95">
                                            <p:txEl>
                                              <p:pRg st="2" end="2"/>
                                            </p:txEl>
                                          </p:spTgt>
                                        </p:tgtEl>
                                        <p:attrNameLst>
                                          <p:attrName>style.visibility</p:attrName>
                                        </p:attrNameLst>
                                      </p:cBhvr>
                                      <p:to>
                                        <p:strVal val="visible"/>
                                      </p:to>
                                    </p:set>
                                    <p:anim calcmode="lin" valueType="num">
                                      <p:cBhvr additive="base">
                                        <p:cTn id="69"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5">
                                            <p:txEl>
                                              <p:pRg st="3" end="3"/>
                                            </p:txEl>
                                          </p:spTgt>
                                        </p:tgtEl>
                                        <p:attrNameLst>
                                          <p:attrName>style.visibility</p:attrName>
                                        </p:attrNameLst>
                                      </p:cBhvr>
                                      <p:to>
                                        <p:strVal val="visible"/>
                                      </p:to>
                                    </p:set>
                                    <p:anim calcmode="lin" valueType="num">
                                      <p:cBhvr additive="base">
                                        <p:cTn id="75"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9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80520" y="151920"/>
            <a:ext cx="8458200" cy="52578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bjective:  Students will write equations and inequalities</a:t>
            </a:r>
            <a:endParaRPr b="0" lang="en-US" sz="1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Write an equation for each sentenc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x divided by 6 is 4</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18 minus a number is 11</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The quotient of 24 and a number is 6</a:t>
            </a:r>
            <a:endParaRPr b="0" lang="en-US" sz="3200" spc="-1" strike="noStrike">
              <a:solidFill>
                <a:srgbClr val="000000"/>
              </a:solidFill>
              <a:latin typeface="Comic Sans MS"/>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1177920" y="1455840"/>
            <a:ext cx="117360" cy="152280"/>
          </a:xfrm>
          <a:custGeom>
            <a:avLst/>
            <a:gdLst/>
            <a:ahLst/>
            <a:rect l="l" t="t" r="r" b="b"/>
            <a:pathLst>
              <a:path w="324" h="423">
                <a:moveTo>
                  <a:pt x="3274" y="4068"/>
                </a:moveTo>
                <a:cubicBezTo>
                  <a:pt x="3316" y="4082"/>
                  <a:pt x="3391" y="4220"/>
                  <a:pt x="3423" y="4266"/>
                </a:cubicBezTo>
                <a:cubicBezTo>
                  <a:pt x="3484" y="4354"/>
                  <a:pt x="3474" y="4319"/>
                  <a:pt x="3522" y="4390"/>
                </a:cubicBezTo>
              </a:path>
              <a:path w="324" h="423">
                <a:moveTo>
                  <a:pt x="3597" y="4043"/>
                </a:moveTo>
                <a:cubicBezTo>
                  <a:pt x="3511" y="4086"/>
                  <a:pt x="3460" y="4256"/>
                  <a:pt x="3398" y="4341"/>
                </a:cubicBezTo>
                <a:cubicBezTo>
                  <a:pt x="3349" y="4407"/>
                  <a:pt x="3349" y="4391"/>
                  <a:pt x="3349" y="44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347920" y="1500120"/>
            <a:ext cx="169920" cy="9720"/>
          </a:xfrm>
          <a:custGeom>
            <a:avLst/>
            <a:gdLst/>
            <a:ahLst/>
            <a:rect l="l" t="t" r="r" b="b"/>
            <a:pathLst>
              <a:path w="472" h="26">
                <a:moveTo>
                  <a:pt x="6524" y="4167"/>
                </a:moveTo>
                <a:cubicBezTo>
                  <a:pt x="6659" y="4167"/>
                  <a:pt x="6786" y="4187"/>
                  <a:pt x="6921" y="4192"/>
                </a:cubicBezTo>
                <a:cubicBezTo>
                  <a:pt x="6962" y="4192"/>
                  <a:pt x="6970" y="4192"/>
                  <a:pt x="6995" y="4192"/>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 name=""/>
          <p:cNvSpPr/>
          <p:nvPr/>
        </p:nvSpPr>
        <p:spPr>
          <a:xfrm>
            <a:off x="2143080" y="2527200"/>
            <a:ext cx="125280" cy="36720"/>
          </a:xfrm>
          <a:custGeom>
            <a:avLst/>
            <a:gdLst/>
            <a:ahLst/>
            <a:rect l="l" t="t" r="r" b="b"/>
            <a:pathLst>
              <a:path w="348" h="100">
                <a:moveTo>
                  <a:pt x="5953" y="7119"/>
                </a:moveTo>
                <a:cubicBezTo>
                  <a:pt x="6004" y="7051"/>
                  <a:pt x="6153" y="7039"/>
                  <a:pt x="6251" y="7020"/>
                </a:cubicBezTo>
                <a:cubicBezTo>
                  <a:pt x="6276" y="7020"/>
                  <a:pt x="6284" y="7020"/>
                  <a:pt x="6300" y="7020"/>
                </a:cubicBezTo>
              </a:path>
            </a:pathLst>
          </a:custGeom>
          <a:noFill/>
          <a:ln cap="rnd" w="1908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3" name=""/>
          <p:cNvSpPr/>
          <p:nvPr/>
        </p:nvSpPr>
        <p:spPr>
          <a:xfrm>
            <a:off x="2463840" y="1411200"/>
            <a:ext cx="3903480" cy="374760"/>
          </a:xfrm>
          <a:custGeom>
            <a:avLst/>
            <a:gdLst/>
            <a:ahLst/>
            <a:rect l="l" t="t" r="r" b="b"/>
            <a:pathLst>
              <a:path w="10841" h="1043">
                <a:moveTo>
                  <a:pt x="6846" y="3919"/>
                </a:moveTo>
                <a:lnTo>
                  <a:pt x="6846" y="3919"/>
                </a:lnTo>
              </a:path>
              <a:path w="10841" h="1043">
                <a:moveTo>
                  <a:pt x="6871" y="4341"/>
                </a:moveTo>
                <a:lnTo>
                  <a:pt x="6871" y="4341"/>
                </a:lnTo>
              </a:path>
              <a:path w="10841" h="1043">
                <a:moveTo>
                  <a:pt x="16371" y="4415"/>
                </a:moveTo>
                <a:lnTo>
                  <a:pt x="16371" y="4415"/>
                </a:lnTo>
              </a:path>
              <a:path w="10841" h="1043">
                <a:moveTo>
                  <a:pt x="16321" y="4961"/>
                </a:moveTo>
                <a:lnTo>
                  <a:pt x="16321" y="4961"/>
                </a:lnTo>
                <a:lnTo>
                  <a:pt x="16321" y="4961"/>
                </a:lnTo>
              </a:path>
              <a:path w="10841" h="1043">
                <a:moveTo>
                  <a:pt x="17462" y="4961"/>
                </a:moveTo>
                <a:cubicBezTo>
                  <a:pt x="17537" y="4953"/>
                  <a:pt x="17611" y="4944"/>
                  <a:pt x="17686" y="4936"/>
                </a:cubicBezTo>
              </a:path>
              <a:path w="10841" h="1043">
                <a:moveTo>
                  <a:pt x="17686" y="4936"/>
                </a:moveTo>
                <a:lnTo>
                  <a:pt x="17686" y="4936"/>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490920" y="1320840"/>
            <a:ext cx="152280" cy="223920"/>
          </a:xfrm>
          <a:custGeom>
            <a:avLst/>
            <a:gdLst/>
            <a:ahLst/>
            <a:rect l="l" t="t" r="r" b="b"/>
            <a:pathLst>
              <a:path w="422" h="621">
                <a:moveTo>
                  <a:pt x="9773" y="3671"/>
                </a:moveTo>
                <a:cubicBezTo>
                  <a:pt x="9758" y="3763"/>
                  <a:pt x="9745" y="3853"/>
                  <a:pt x="9723" y="3944"/>
                </a:cubicBezTo>
                <a:cubicBezTo>
                  <a:pt x="9706" y="4017"/>
                  <a:pt x="9653" y="4187"/>
                  <a:pt x="9748" y="4242"/>
                </a:cubicBezTo>
                <a:cubicBezTo>
                  <a:pt x="9869" y="4312"/>
                  <a:pt x="9932" y="4251"/>
                  <a:pt x="10021" y="4192"/>
                </a:cubicBezTo>
                <a:cubicBezTo>
                  <a:pt x="10084" y="4150"/>
                  <a:pt x="10089" y="4114"/>
                  <a:pt x="10120" y="4043"/>
                </a:cubicBezTo>
                <a:cubicBezTo>
                  <a:pt x="10059" y="4027"/>
                  <a:pt x="10022" y="3958"/>
                  <a:pt x="9947" y="4018"/>
                </a:cubicBezTo>
                <a:cubicBezTo>
                  <a:pt x="9904" y="4053"/>
                  <a:pt x="9834" y="4206"/>
                  <a:pt x="9872" y="4266"/>
                </a:cubicBezTo>
                <a:cubicBezTo>
                  <a:pt x="9897" y="4266"/>
                  <a:pt x="9905" y="4266"/>
                  <a:pt x="9897" y="42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919680" y="1393920"/>
            <a:ext cx="107640" cy="71280"/>
          </a:xfrm>
          <a:custGeom>
            <a:avLst/>
            <a:gdLst/>
            <a:ahLst/>
            <a:rect l="l" t="t" r="r" b="b"/>
            <a:pathLst>
              <a:path w="299" h="199">
                <a:moveTo>
                  <a:pt x="10889" y="3894"/>
                </a:moveTo>
                <a:cubicBezTo>
                  <a:pt x="10965" y="3894"/>
                  <a:pt x="11036" y="3874"/>
                  <a:pt x="11112" y="3870"/>
                </a:cubicBezTo>
                <a:cubicBezTo>
                  <a:pt x="11137" y="3870"/>
                  <a:pt x="11145" y="3870"/>
                  <a:pt x="11162" y="3870"/>
                </a:cubicBezTo>
              </a:path>
              <a:path w="299" h="199">
                <a:moveTo>
                  <a:pt x="10988" y="4068"/>
                </a:moveTo>
                <a:cubicBezTo>
                  <a:pt x="10964" y="4068"/>
                  <a:pt x="10955" y="4068"/>
                  <a:pt x="10939" y="4068"/>
                </a:cubicBezTo>
                <a:cubicBezTo>
                  <a:pt x="11022" y="4068"/>
                  <a:pt x="11085" y="4039"/>
                  <a:pt x="11162" y="4018"/>
                </a:cubicBezTo>
                <a:cubicBezTo>
                  <a:pt x="11170" y="4018"/>
                  <a:pt x="11179" y="4018"/>
                  <a:pt x="11187" y="4018"/>
                </a:cubicBezTo>
              </a:path>
            </a:pathLst>
          </a:custGeom>
          <a:noFill/>
          <a:ln cap="rnd" w="1908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6" name=""/>
          <p:cNvSpPr/>
          <p:nvPr/>
        </p:nvSpPr>
        <p:spPr>
          <a:xfrm>
            <a:off x="4295880" y="1251000"/>
            <a:ext cx="160200" cy="231840"/>
          </a:xfrm>
          <a:custGeom>
            <a:avLst/>
            <a:gdLst/>
            <a:ahLst/>
            <a:rect l="l" t="t" r="r" b="b"/>
            <a:pathLst>
              <a:path w="448" h="646">
                <a:moveTo>
                  <a:pt x="11956" y="3646"/>
                </a:moveTo>
                <a:cubicBezTo>
                  <a:pt x="11956" y="3725"/>
                  <a:pt x="11932" y="3847"/>
                  <a:pt x="11956" y="3894"/>
                </a:cubicBezTo>
                <a:cubicBezTo>
                  <a:pt x="12088" y="3894"/>
                  <a:pt x="12221" y="3894"/>
                  <a:pt x="12353" y="3894"/>
                </a:cubicBezTo>
              </a:path>
              <a:path w="448" h="646">
                <a:moveTo>
                  <a:pt x="12378" y="3473"/>
                </a:moveTo>
                <a:cubicBezTo>
                  <a:pt x="12378" y="3688"/>
                  <a:pt x="12378" y="3903"/>
                  <a:pt x="12378" y="411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554800" y="1598760"/>
            <a:ext cx="768240" cy="223560"/>
          </a:xfrm>
          <a:custGeom>
            <a:avLst/>
            <a:gdLst/>
            <a:ahLst/>
            <a:rect l="l" t="t" r="r" b="b"/>
            <a:pathLst>
              <a:path w="2134" h="621">
                <a:moveTo>
                  <a:pt x="15453" y="4663"/>
                </a:moveTo>
                <a:cubicBezTo>
                  <a:pt x="15445" y="4663"/>
                  <a:pt x="15437" y="4663"/>
                  <a:pt x="15429" y="4663"/>
                </a:cubicBezTo>
                <a:cubicBezTo>
                  <a:pt x="15509" y="4764"/>
                  <a:pt x="15698" y="4861"/>
                  <a:pt x="15825" y="4936"/>
                </a:cubicBezTo>
                <a:cubicBezTo>
                  <a:pt x="15876" y="4966"/>
                  <a:pt x="15886" y="4977"/>
                  <a:pt x="15900" y="4936"/>
                </a:cubicBezTo>
              </a:path>
              <a:path w="2134" h="621">
                <a:moveTo>
                  <a:pt x="15776" y="4465"/>
                </a:moveTo>
                <a:cubicBezTo>
                  <a:pt x="15650" y="4639"/>
                  <a:pt x="15582" y="4789"/>
                  <a:pt x="15503" y="4986"/>
                </a:cubicBezTo>
                <a:cubicBezTo>
                  <a:pt x="15479" y="5034"/>
                  <a:pt x="15469" y="5050"/>
                  <a:pt x="15528" y="5035"/>
                </a:cubicBezTo>
              </a:path>
              <a:path w="2134" h="621">
                <a:moveTo>
                  <a:pt x="16049" y="4738"/>
                </a:moveTo>
                <a:cubicBezTo>
                  <a:pt x="16156" y="4738"/>
                  <a:pt x="16264" y="4738"/>
                  <a:pt x="16371" y="4738"/>
                </a:cubicBezTo>
              </a:path>
              <a:path w="2134" h="621">
                <a:moveTo>
                  <a:pt x="16768" y="4440"/>
                </a:moveTo>
                <a:cubicBezTo>
                  <a:pt x="16739" y="4586"/>
                  <a:pt x="16682" y="4813"/>
                  <a:pt x="16718" y="4961"/>
                </a:cubicBezTo>
                <a:cubicBezTo>
                  <a:pt x="16769" y="5170"/>
                  <a:pt x="17029" y="5020"/>
                  <a:pt x="17090" y="4911"/>
                </a:cubicBezTo>
                <a:cubicBezTo>
                  <a:pt x="17110" y="4834"/>
                  <a:pt x="17134" y="4816"/>
                  <a:pt x="17090" y="4787"/>
                </a:cubicBezTo>
                <a:cubicBezTo>
                  <a:pt x="17070" y="4795"/>
                  <a:pt x="16734" y="4984"/>
                  <a:pt x="16892" y="5035"/>
                </a:cubicBezTo>
                <a:cubicBezTo>
                  <a:pt x="16917" y="5027"/>
                  <a:pt x="16941" y="5019"/>
                  <a:pt x="16966" y="5011"/>
                </a:cubicBezTo>
              </a:path>
              <a:path w="2134" h="621">
                <a:moveTo>
                  <a:pt x="17338" y="4713"/>
                </a:moveTo>
                <a:cubicBezTo>
                  <a:pt x="17413" y="4713"/>
                  <a:pt x="17487" y="4713"/>
                  <a:pt x="17562" y="47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518160" y="1625760"/>
            <a:ext cx="117720" cy="268200"/>
          </a:xfrm>
          <a:custGeom>
            <a:avLst/>
            <a:gdLst/>
            <a:ahLst/>
            <a:rect l="l" t="t" r="r" b="b"/>
            <a:pathLst>
              <a:path w="324" h="746">
                <a:moveTo>
                  <a:pt x="18157" y="4589"/>
                </a:moveTo>
                <a:cubicBezTo>
                  <a:pt x="18131" y="4658"/>
                  <a:pt x="18038" y="4838"/>
                  <a:pt x="18157" y="4887"/>
                </a:cubicBezTo>
                <a:cubicBezTo>
                  <a:pt x="18288" y="4912"/>
                  <a:pt x="18337" y="4920"/>
                  <a:pt x="18430" y="4911"/>
                </a:cubicBezTo>
              </a:path>
              <a:path w="324" h="746">
                <a:moveTo>
                  <a:pt x="18405" y="4514"/>
                </a:moveTo>
                <a:cubicBezTo>
                  <a:pt x="18382" y="4742"/>
                  <a:pt x="18396" y="4985"/>
                  <a:pt x="18355" y="5209"/>
                </a:cubicBezTo>
                <a:cubicBezTo>
                  <a:pt x="18347" y="5226"/>
                  <a:pt x="18339" y="5242"/>
                  <a:pt x="18331" y="52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214280" y="4010040"/>
            <a:ext cx="27000" cy="27000"/>
          </a:xfrm>
          <a:custGeom>
            <a:avLst/>
            <a:gdLst/>
            <a:ahLst/>
            <a:rect l="l" t="t" r="r" b="b"/>
            <a:pathLst>
              <a:path w="76" h="76">
                <a:moveTo>
                  <a:pt x="3373" y="11212"/>
                </a:moveTo>
                <a:cubicBezTo>
                  <a:pt x="3420" y="11212"/>
                  <a:pt x="3440" y="11194"/>
                  <a:pt x="3448" y="11137"/>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0" name=""/>
          <p:cNvSpPr/>
          <p:nvPr/>
        </p:nvSpPr>
        <p:spPr>
          <a:xfrm>
            <a:off x="1241280" y="2367000"/>
            <a:ext cx="223920" cy="231840"/>
          </a:xfrm>
          <a:custGeom>
            <a:avLst/>
            <a:gdLst/>
            <a:ahLst/>
            <a:rect l="l" t="t" r="r" b="b"/>
            <a:pathLst>
              <a:path w="621" h="646">
                <a:moveTo>
                  <a:pt x="3448" y="6648"/>
                </a:moveTo>
                <a:cubicBezTo>
                  <a:pt x="3464" y="6821"/>
                  <a:pt x="3483" y="6995"/>
                  <a:pt x="3497" y="7169"/>
                </a:cubicBezTo>
                <a:cubicBezTo>
                  <a:pt x="3497" y="7220"/>
                  <a:pt x="3498" y="7235"/>
                  <a:pt x="3522" y="7169"/>
                </a:cubicBezTo>
              </a:path>
              <a:path w="621" h="646">
                <a:moveTo>
                  <a:pt x="3969" y="6573"/>
                </a:moveTo>
                <a:cubicBezTo>
                  <a:pt x="3921" y="6605"/>
                  <a:pt x="3737" y="6722"/>
                  <a:pt x="3770" y="6796"/>
                </a:cubicBezTo>
                <a:cubicBezTo>
                  <a:pt x="3854" y="6984"/>
                  <a:pt x="4044" y="6956"/>
                  <a:pt x="4043" y="7169"/>
                </a:cubicBezTo>
                <a:cubicBezTo>
                  <a:pt x="3835" y="7167"/>
                  <a:pt x="3936" y="6987"/>
                  <a:pt x="3969" y="6821"/>
                </a:cubicBezTo>
                <a:cubicBezTo>
                  <a:pt x="3980" y="6767"/>
                  <a:pt x="4028" y="6643"/>
                  <a:pt x="3969" y="662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490920" y="2463840"/>
            <a:ext cx="393840" cy="144360"/>
          </a:xfrm>
          <a:custGeom>
            <a:avLst/>
            <a:gdLst/>
            <a:ahLst/>
            <a:rect l="l" t="t" r="r" b="b"/>
            <a:pathLst>
              <a:path w="1092" h="398">
                <a:moveTo>
                  <a:pt x="9699" y="6846"/>
                </a:moveTo>
                <a:cubicBezTo>
                  <a:pt x="9712" y="6979"/>
                  <a:pt x="9738" y="7109"/>
                  <a:pt x="9748" y="7243"/>
                </a:cubicBezTo>
                <a:cubicBezTo>
                  <a:pt x="9748" y="7235"/>
                  <a:pt x="9748" y="7226"/>
                  <a:pt x="9748" y="7218"/>
                </a:cubicBezTo>
                <a:cubicBezTo>
                  <a:pt x="9748" y="7102"/>
                  <a:pt x="9730" y="6897"/>
                  <a:pt x="9897" y="6871"/>
                </a:cubicBezTo>
                <a:cubicBezTo>
                  <a:pt x="10041" y="6849"/>
                  <a:pt x="10171" y="7073"/>
                  <a:pt x="10170" y="7193"/>
                </a:cubicBezTo>
                <a:cubicBezTo>
                  <a:pt x="10162" y="7177"/>
                  <a:pt x="10153" y="7160"/>
                  <a:pt x="10145" y="7144"/>
                </a:cubicBezTo>
                <a:cubicBezTo>
                  <a:pt x="10171" y="7031"/>
                  <a:pt x="10176" y="6822"/>
                  <a:pt x="10344" y="6846"/>
                </a:cubicBezTo>
                <a:cubicBezTo>
                  <a:pt x="10504" y="6869"/>
                  <a:pt x="10449" y="7087"/>
                  <a:pt x="10542" y="7169"/>
                </a:cubicBezTo>
                <a:cubicBezTo>
                  <a:pt x="10660" y="7274"/>
                  <a:pt x="10713" y="7196"/>
                  <a:pt x="10790" y="71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419200" y="3384720"/>
            <a:ext cx="2778120" cy="571320"/>
          </a:xfrm>
          <a:custGeom>
            <a:avLst/>
            <a:gdLst/>
            <a:ahLst/>
            <a:rect l="l" t="t" r="r" b="b"/>
            <a:pathLst>
              <a:path w="7715" h="1588">
                <a:moveTo>
                  <a:pt x="7193" y="10319"/>
                </a:moveTo>
                <a:cubicBezTo>
                  <a:pt x="7351" y="10319"/>
                  <a:pt x="7509" y="10292"/>
                  <a:pt x="7665" y="10269"/>
                </a:cubicBezTo>
                <a:cubicBezTo>
                  <a:pt x="7876" y="10238"/>
                  <a:pt x="7758" y="10243"/>
                  <a:pt x="7863" y="10269"/>
                </a:cubicBezTo>
              </a:path>
              <a:path w="7715" h="1588">
                <a:moveTo>
                  <a:pt x="7615" y="9971"/>
                </a:moveTo>
                <a:cubicBezTo>
                  <a:pt x="7596" y="10029"/>
                  <a:pt x="7587" y="10036"/>
                  <a:pt x="7590" y="10071"/>
                </a:cubicBezTo>
                <a:cubicBezTo>
                  <a:pt x="7627" y="10059"/>
                  <a:pt x="7627" y="10033"/>
                  <a:pt x="7590" y="10021"/>
                </a:cubicBezTo>
              </a:path>
              <a:path w="7715" h="1588">
                <a:moveTo>
                  <a:pt x="7615" y="10492"/>
                </a:moveTo>
                <a:cubicBezTo>
                  <a:pt x="7608" y="10513"/>
                  <a:pt x="7558" y="10551"/>
                  <a:pt x="7565" y="10592"/>
                </a:cubicBezTo>
                <a:cubicBezTo>
                  <a:pt x="7573" y="10600"/>
                  <a:pt x="7582" y="10608"/>
                  <a:pt x="7590" y="10616"/>
                </a:cubicBezTo>
                <a:cubicBezTo>
                  <a:pt x="7612" y="10589"/>
                  <a:pt x="7639" y="10468"/>
                  <a:pt x="7590" y="10517"/>
                </a:cubicBezTo>
                <a:cubicBezTo>
                  <a:pt x="7568" y="10561"/>
                  <a:pt x="7555" y="10573"/>
                  <a:pt x="7590" y="10592"/>
                </a:cubicBezTo>
              </a:path>
              <a:path w="7715" h="1588">
                <a:moveTo>
                  <a:pt x="12080" y="10244"/>
                </a:moveTo>
                <a:cubicBezTo>
                  <a:pt x="12080" y="10163"/>
                  <a:pt x="12072" y="10208"/>
                  <a:pt x="12179" y="10145"/>
                </a:cubicBezTo>
                <a:cubicBezTo>
                  <a:pt x="12442" y="10284"/>
                  <a:pt x="12362" y="10515"/>
                  <a:pt x="12105" y="10691"/>
                </a:cubicBezTo>
                <a:cubicBezTo>
                  <a:pt x="11977" y="10733"/>
                  <a:pt x="11946" y="10762"/>
                  <a:pt x="11881" y="10691"/>
                </a:cubicBezTo>
                <a:cubicBezTo>
                  <a:pt x="11918" y="10506"/>
                  <a:pt x="12004" y="10447"/>
                  <a:pt x="12204" y="10542"/>
                </a:cubicBezTo>
                <a:cubicBezTo>
                  <a:pt x="12286" y="10581"/>
                  <a:pt x="12312" y="10657"/>
                  <a:pt x="12328" y="10641"/>
                </a:cubicBezTo>
              </a:path>
              <a:path w="7715" h="1588">
                <a:moveTo>
                  <a:pt x="12477" y="10244"/>
                </a:moveTo>
                <a:cubicBezTo>
                  <a:pt x="12484" y="10286"/>
                  <a:pt x="12499" y="10427"/>
                  <a:pt x="12551" y="10443"/>
                </a:cubicBezTo>
                <a:cubicBezTo>
                  <a:pt x="12651" y="10474"/>
                  <a:pt x="12743" y="10409"/>
                  <a:pt x="12824" y="10368"/>
                </a:cubicBezTo>
              </a:path>
              <a:path w="7715" h="1588">
                <a:moveTo>
                  <a:pt x="12700" y="10071"/>
                </a:moveTo>
                <a:cubicBezTo>
                  <a:pt x="12720" y="10270"/>
                  <a:pt x="12713" y="10443"/>
                  <a:pt x="12700" y="10641"/>
                </a:cubicBezTo>
                <a:cubicBezTo>
                  <a:pt x="12700" y="10715"/>
                  <a:pt x="12700" y="10724"/>
                  <a:pt x="12700" y="10765"/>
                </a:cubicBezTo>
              </a:path>
              <a:path w="7715" h="1588">
                <a:moveTo>
                  <a:pt x="6945" y="10616"/>
                </a:moveTo>
                <a:cubicBezTo>
                  <a:pt x="6970" y="10647"/>
                  <a:pt x="7005" y="10718"/>
                  <a:pt x="7045" y="10765"/>
                </a:cubicBezTo>
                <a:cubicBezTo>
                  <a:pt x="7153" y="10893"/>
                  <a:pt x="7298" y="10973"/>
                  <a:pt x="7466" y="10988"/>
                </a:cubicBezTo>
                <a:cubicBezTo>
                  <a:pt x="7700" y="11009"/>
                  <a:pt x="7890" y="10902"/>
                  <a:pt x="8086" y="10790"/>
                </a:cubicBezTo>
                <a:cubicBezTo>
                  <a:pt x="8277" y="10681"/>
                  <a:pt x="8343" y="10499"/>
                  <a:pt x="8409" y="10294"/>
                </a:cubicBezTo>
                <a:cubicBezTo>
                  <a:pt x="8484" y="10059"/>
                  <a:pt x="8389" y="9873"/>
                  <a:pt x="8235" y="9699"/>
                </a:cubicBezTo>
                <a:cubicBezTo>
                  <a:pt x="8115" y="9564"/>
                  <a:pt x="7918" y="9471"/>
                  <a:pt x="7739" y="9451"/>
                </a:cubicBezTo>
                <a:cubicBezTo>
                  <a:pt x="7504" y="9425"/>
                  <a:pt x="7289" y="9564"/>
                  <a:pt x="7094" y="9674"/>
                </a:cubicBezTo>
                <a:cubicBezTo>
                  <a:pt x="6917" y="9774"/>
                  <a:pt x="6804" y="9896"/>
                  <a:pt x="6747" y="10096"/>
                </a:cubicBezTo>
                <a:cubicBezTo>
                  <a:pt x="6669" y="10372"/>
                  <a:pt x="6849" y="10531"/>
                  <a:pt x="7045" y="10691"/>
                </a:cubicBezTo>
                <a:cubicBezTo>
                  <a:pt x="7131" y="10748"/>
                  <a:pt x="7170" y="10759"/>
                  <a:pt x="7243" y="10691"/>
                </a:cubicBezTo>
              </a:path>
              <a:path w="7715" h="1588">
                <a:moveTo>
                  <a:pt x="8434" y="9922"/>
                </a:moveTo>
                <a:cubicBezTo>
                  <a:pt x="8502" y="9866"/>
                  <a:pt x="8532" y="9845"/>
                  <a:pt x="8607" y="9798"/>
                </a:cubicBezTo>
                <a:cubicBezTo>
                  <a:pt x="8812" y="9671"/>
                  <a:pt x="9065" y="9589"/>
                  <a:pt x="9302" y="9550"/>
                </a:cubicBezTo>
                <a:cubicBezTo>
                  <a:pt x="9671" y="9489"/>
                  <a:pt x="10046" y="9464"/>
                  <a:pt x="10418" y="9426"/>
                </a:cubicBezTo>
                <a:cubicBezTo>
                  <a:pt x="10732" y="9394"/>
                  <a:pt x="11045" y="9401"/>
                  <a:pt x="11361" y="9401"/>
                </a:cubicBezTo>
                <a:cubicBezTo>
                  <a:pt x="11751" y="9401"/>
                  <a:pt x="12137" y="9414"/>
                  <a:pt x="12526" y="9426"/>
                </a:cubicBezTo>
                <a:cubicBezTo>
                  <a:pt x="12776" y="9434"/>
                  <a:pt x="13051" y="9428"/>
                  <a:pt x="13295" y="9500"/>
                </a:cubicBezTo>
                <a:cubicBezTo>
                  <a:pt x="13444" y="9544"/>
                  <a:pt x="13596" y="9598"/>
                  <a:pt x="13717" y="9699"/>
                </a:cubicBezTo>
                <a:cubicBezTo>
                  <a:pt x="13858" y="9817"/>
                  <a:pt x="13988" y="9941"/>
                  <a:pt x="14089" y="10096"/>
                </a:cubicBezTo>
                <a:cubicBezTo>
                  <a:pt x="14150" y="10189"/>
                  <a:pt x="14205" y="10309"/>
                  <a:pt x="14263" y="10393"/>
                </a:cubicBezTo>
                <a:cubicBezTo>
                  <a:pt x="14314" y="10467"/>
                  <a:pt x="14299" y="10483"/>
                  <a:pt x="14362" y="10393"/>
                </a:cubicBezTo>
                <a:cubicBezTo>
                  <a:pt x="14400" y="10339"/>
                  <a:pt x="14416" y="10185"/>
                  <a:pt x="14436" y="10120"/>
                </a:cubicBezTo>
                <a:cubicBezTo>
                  <a:pt x="14436" y="10128"/>
                  <a:pt x="14436" y="10137"/>
                  <a:pt x="14436" y="10145"/>
                </a:cubicBezTo>
                <a:cubicBezTo>
                  <a:pt x="14436" y="10253"/>
                  <a:pt x="14436" y="10360"/>
                  <a:pt x="14436" y="10468"/>
                </a:cubicBezTo>
                <a:cubicBezTo>
                  <a:pt x="14319" y="10417"/>
                  <a:pt x="14222" y="10363"/>
                  <a:pt x="14089" y="10344"/>
                </a:cubicBezTo>
                <a:cubicBezTo>
                  <a:pt x="14056" y="10344"/>
                  <a:pt x="14023" y="10344"/>
                  <a:pt x="13990" y="103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099120" y="3670200"/>
            <a:ext cx="241200" cy="160560"/>
          </a:xfrm>
          <a:custGeom>
            <a:avLst/>
            <a:gdLst/>
            <a:ahLst/>
            <a:rect l="l" t="t" r="r" b="b"/>
            <a:pathLst>
              <a:path w="670" h="447">
                <a:moveTo>
                  <a:pt x="16942" y="10294"/>
                </a:moveTo>
                <a:cubicBezTo>
                  <a:pt x="16970" y="10413"/>
                  <a:pt x="17002" y="10525"/>
                  <a:pt x="17041" y="10641"/>
                </a:cubicBezTo>
                <a:cubicBezTo>
                  <a:pt x="17028" y="10550"/>
                  <a:pt x="16975" y="10383"/>
                  <a:pt x="17016" y="10294"/>
                </a:cubicBezTo>
                <a:cubicBezTo>
                  <a:pt x="17096" y="10123"/>
                  <a:pt x="17259" y="10216"/>
                  <a:pt x="17338" y="10319"/>
                </a:cubicBezTo>
                <a:cubicBezTo>
                  <a:pt x="17392" y="10390"/>
                  <a:pt x="17406" y="10486"/>
                  <a:pt x="17438" y="10567"/>
                </a:cubicBezTo>
                <a:cubicBezTo>
                  <a:pt x="17552" y="10557"/>
                  <a:pt x="17617" y="10566"/>
                  <a:pt x="17587" y="104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741920" y="4589640"/>
            <a:ext cx="849240" cy="268200"/>
          </a:xfrm>
          <a:custGeom>
            <a:avLst/>
            <a:gdLst/>
            <a:ahLst/>
            <a:rect l="l" t="t" r="r" b="b"/>
            <a:pathLst>
              <a:path w="2358" h="745">
                <a:moveTo>
                  <a:pt x="13171" y="13146"/>
                </a:moveTo>
                <a:cubicBezTo>
                  <a:pt x="13311" y="13141"/>
                  <a:pt x="13432" y="13131"/>
                  <a:pt x="13568" y="13097"/>
                </a:cubicBezTo>
              </a:path>
              <a:path w="2358" h="745">
                <a:moveTo>
                  <a:pt x="13345" y="12750"/>
                </a:moveTo>
                <a:lnTo>
                  <a:pt x="13345" y="12750"/>
                </a:lnTo>
                <a:lnTo>
                  <a:pt x="13345" y="12750"/>
                </a:lnTo>
              </a:path>
              <a:path w="2358" h="745">
                <a:moveTo>
                  <a:pt x="13345" y="12750"/>
                </a:moveTo>
                <a:lnTo>
                  <a:pt x="13345" y="12750"/>
                </a:lnTo>
              </a:path>
              <a:path w="2358" h="745">
                <a:moveTo>
                  <a:pt x="13370" y="13469"/>
                </a:moveTo>
                <a:cubicBezTo>
                  <a:pt x="13370" y="13497"/>
                  <a:pt x="13372" y="13503"/>
                  <a:pt x="13395" y="13469"/>
                </a:cubicBezTo>
              </a:path>
              <a:path w="2358" h="745">
                <a:moveTo>
                  <a:pt x="15280" y="13047"/>
                </a:moveTo>
                <a:cubicBezTo>
                  <a:pt x="15393" y="13052"/>
                  <a:pt x="15487" y="13030"/>
                  <a:pt x="15503" y="13097"/>
                </a:cubicBezTo>
              </a:path>
              <a:path w="2358" h="745">
                <a:moveTo>
                  <a:pt x="15354" y="13295"/>
                </a:moveTo>
                <a:cubicBezTo>
                  <a:pt x="15404" y="13287"/>
                  <a:pt x="15453" y="13279"/>
                  <a:pt x="15503" y="13271"/>
                </a:cubicBezTo>
              </a:path>
              <a:path w="2358" h="745">
                <a:moveTo>
                  <a:pt x="15503" y="13271"/>
                </a:moveTo>
                <a:lnTo>
                  <a:pt x="15503" y="13271"/>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241880" y="4572000"/>
            <a:ext cx="411120" cy="295200"/>
          </a:xfrm>
          <a:custGeom>
            <a:avLst/>
            <a:gdLst/>
            <a:ahLst/>
            <a:rect l="l" t="t" r="r" b="b"/>
            <a:pathLst>
              <a:path w="1142" h="820">
                <a:moveTo>
                  <a:pt x="11782" y="12774"/>
                </a:moveTo>
                <a:cubicBezTo>
                  <a:pt x="12051" y="12742"/>
                  <a:pt x="12278" y="12838"/>
                  <a:pt x="12204" y="13171"/>
                </a:cubicBezTo>
                <a:cubicBezTo>
                  <a:pt x="12150" y="13415"/>
                  <a:pt x="12000" y="13455"/>
                  <a:pt x="11807" y="13519"/>
                </a:cubicBezTo>
                <a:cubicBezTo>
                  <a:pt x="11807" y="13311"/>
                  <a:pt x="11871" y="13088"/>
                  <a:pt x="12129" y="13271"/>
                </a:cubicBezTo>
                <a:cubicBezTo>
                  <a:pt x="12258" y="13363"/>
                  <a:pt x="12169" y="13447"/>
                  <a:pt x="12278" y="13320"/>
                </a:cubicBezTo>
              </a:path>
              <a:path w="1142" h="820">
                <a:moveTo>
                  <a:pt x="12427" y="12898"/>
                </a:moveTo>
                <a:cubicBezTo>
                  <a:pt x="12451" y="12969"/>
                  <a:pt x="12509" y="13131"/>
                  <a:pt x="12601" y="13146"/>
                </a:cubicBezTo>
                <a:cubicBezTo>
                  <a:pt x="12710" y="13120"/>
                  <a:pt x="12747" y="13102"/>
                  <a:pt x="12750" y="12998"/>
                </a:cubicBezTo>
              </a:path>
              <a:path w="1142" h="820">
                <a:moveTo>
                  <a:pt x="12725" y="12700"/>
                </a:moveTo>
                <a:cubicBezTo>
                  <a:pt x="12725" y="12893"/>
                  <a:pt x="12644" y="13269"/>
                  <a:pt x="12700" y="13444"/>
                </a:cubicBezTo>
                <a:cubicBezTo>
                  <a:pt x="12804" y="13444"/>
                  <a:pt x="12865" y="13412"/>
                  <a:pt x="12923" y="1332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18040" y="4697280"/>
            <a:ext cx="322200" cy="169920"/>
          </a:xfrm>
          <a:custGeom>
            <a:avLst/>
            <a:gdLst/>
            <a:ahLst/>
            <a:rect l="l" t="t" r="r" b="b"/>
            <a:pathLst>
              <a:path w="894" h="473">
                <a:moveTo>
                  <a:pt x="13940" y="13047"/>
                </a:moveTo>
                <a:cubicBezTo>
                  <a:pt x="13987" y="13205"/>
                  <a:pt x="14053" y="13360"/>
                  <a:pt x="14089" y="13519"/>
                </a:cubicBezTo>
                <a:cubicBezTo>
                  <a:pt x="14071" y="13377"/>
                  <a:pt x="14008" y="13233"/>
                  <a:pt x="14139" y="13122"/>
                </a:cubicBezTo>
                <a:cubicBezTo>
                  <a:pt x="14358" y="12937"/>
                  <a:pt x="14510" y="13119"/>
                  <a:pt x="14560" y="13320"/>
                </a:cubicBezTo>
                <a:cubicBezTo>
                  <a:pt x="14614" y="13535"/>
                  <a:pt x="14668" y="13548"/>
                  <a:pt x="14833" y="134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776920" y="4572000"/>
            <a:ext cx="250920" cy="268200"/>
          </a:xfrm>
          <a:custGeom>
            <a:avLst/>
            <a:gdLst/>
            <a:ahLst/>
            <a:rect l="l" t="t" r="r" b="b"/>
            <a:pathLst>
              <a:path w="695" h="745">
                <a:moveTo>
                  <a:pt x="16073" y="12700"/>
                </a:moveTo>
                <a:cubicBezTo>
                  <a:pt x="16073" y="12870"/>
                  <a:pt x="16022" y="13056"/>
                  <a:pt x="16073" y="13221"/>
                </a:cubicBezTo>
                <a:cubicBezTo>
                  <a:pt x="16143" y="13446"/>
                  <a:pt x="16395" y="13491"/>
                  <a:pt x="16594" y="13395"/>
                </a:cubicBezTo>
                <a:cubicBezTo>
                  <a:pt x="16751" y="13319"/>
                  <a:pt x="16739" y="13256"/>
                  <a:pt x="16718" y="13122"/>
                </a:cubicBezTo>
                <a:cubicBezTo>
                  <a:pt x="16548" y="13110"/>
                  <a:pt x="16454" y="13193"/>
                  <a:pt x="16446" y="13395"/>
                </a:cubicBezTo>
                <a:cubicBezTo>
                  <a:pt x="16454" y="13411"/>
                  <a:pt x="16462" y="13428"/>
                  <a:pt x="16470" y="134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606920" y="2490840"/>
            <a:ext cx="152280" cy="73080"/>
          </a:xfrm>
          <a:custGeom>
            <a:avLst/>
            <a:gdLst/>
            <a:ahLst/>
            <a:rect l="l" t="t" r="r" b="b"/>
            <a:pathLst>
              <a:path w="423" h="199">
                <a:moveTo>
                  <a:pt x="12799" y="6921"/>
                </a:moveTo>
                <a:cubicBezTo>
                  <a:pt x="12898" y="6921"/>
                  <a:pt x="13175" y="6879"/>
                  <a:pt x="13221" y="6945"/>
                </a:cubicBezTo>
              </a:path>
              <a:path w="423" h="199">
                <a:moveTo>
                  <a:pt x="12898" y="7119"/>
                </a:moveTo>
                <a:cubicBezTo>
                  <a:pt x="12987" y="7119"/>
                  <a:pt x="13156" y="7109"/>
                  <a:pt x="13196" y="7119"/>
                </a:cubicBezTo>
                <a:cubicBezTo>
                  <a:pt x="13204" y="7119"/>
                  <a:pt x="13213" y="7119"/>
                  <a:pt x="13221" y="7119"/>
                </a:cubicBezTo>
              </a:path>
            </a:pathLst>
          </a:custGeom>
          <a:noFill/>
          <a:ln cap="rnd" w="1908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9" name=""/>
          <p:cNvSpPr/>
          <p:nvPr/>
        </p:nvSpPr>
        <p:spPr>
          <a:xfrm>
            <a:off x="5099040" y="2428920"/>
            <a:ext cx="179280" cy="206280"/>
          </a:xfrm>
          <a:custGeom>
            <a:avLst/>
            <a:gdLst/>
            <a:ahLst/>
            <a:rect l="l" t="t" r="r" b="b"/>
            <a:pathLst>
              <a:path w="498" h="571">
                <a:moveTo>
                  <a:pt x="14163" y="6747"/>
                </a:moveTo>
                <a:cubicBezTo>
                  <a:pt x="14184" y="6912"/>
                  <a:pt x="14222" y="7077"/>
                  <a:pt x="14238" y="7243"/>
                </a:cubicBezTo>
                <a:cubicBezTo>
                  <a:pt x="14238" y="7301"/>
                  <a:pt x="14222" y="7325"/>
                  <a:pt x="14263" y="7317"/>
                </a:cubicBezTo>
              </a:path>
              <a:path w="498" h="571">
                <a:moveTo>
                  <a:pt x="14536" y="6772"/>
                </a:moveTo>
                <a:cubicBezTo>
                  <a:pt x="14598" y="6914"/>
                  <a:pt x="14635" y="7107"/>
                  <a:pt x="14660" y="7268"/>
                </a:cubicBezTo>
                <a:cubicBezTo>
                  <a:pt x="14660" y="7284"/>
                  <a:pt x="14660" y="7301"/>
                  <a:pt x="14660" y="731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134040" y="2732040"/>
            <a:ext cx="1233720" cy="285840"/>
          </a:xfrm>
          <a:custGeom>
            <a:avLst/>
            <a:gdLst/>
            <a:ahLst/>
            <a:rect l="l" t="t" r="r" b="b"/>
            <a:pathLst>
              <a:path w="3424" h="795">
                <a:moveTo>
                  <a:pt x="17041" y="7640"/>
                </a:moveTo>
                <a:cubicBezTo>
                  <a:pt x="17118" y="7871"/>
                  <a:pt x="17125" y="8099"/>
                  <a:pt x="17165" y="8334"/>
                </a:cubicBezTo>
                <a:cubicBezTo>
                  <a:pt x="17173" y="8351"/>
                  <a:pt x="17182" y="8367"/>
                  <a:pt x="17190" y="8384"/>
                </a:cubicBezTo>
              </a:path>
              <a:path w="3424" h="795">
                <a:moveTo>
                  <a:pt x="18107" y="7962"/>
                </a:moveTo>
                <a:cubicBezTo>
                  <a:pt x="18183" y="7962"/>
                  <a:pt x="18209" y="7962"/>
                  <a:pt x="18256" y="7987"/>
                </a:cubicBezTo>
              </a:path>
              <a:path w="3424" h="795">
                <a:moveTo>
                  <a:pt x="18256" y="7987"/>
                </a:moveTo>
                <a:lnTo>
                  <a:pt x="18256" y="7987"/>
                </a:lnTo>
              </a:path>
              <a:path w="3424" h="795">
                <a:moveTo>
                  <a:pt x="19769" y="8037"/>
                </a:moveTo>
                <a:cubicBezTo>
                  <a:pt x="19892" y="8063"/>
                  <a:pt x="19966" y="8056"/>
                  <a:pt x="20092" y="8037"/>
                </a:cubicBezTo>
              </a:path>
              <a:path w="3424" h="795">
                <a:moveTo>
                  <a:pt x="20092" y="8037"/>
                </a:moveTo>
                <a:lnTo>
                  <a:pt x="20092" y="8037"/>
                </a:lnTo>
              </a:path>
              <a:path w="3424" h="795">
                <a:moveTo>
                  <a:pt x="20389" y="7590"/>
                </a:moveTo>
                <a:cubicBezTo>
                  <a:pt x="20417" y="7804"/>
                  <a:pt x="20447" y="8020"/>
                  <a:pt x="20464" y="82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313320" y="2751120"/>
            <a:ext cx="125640" cy="249120"/>
          </a:xfrm>
          <a:custGeom>
            <a:avLst/>
            <a:gdLst/>
            <a:ahLst/>
            <a:rect l="l" t="t" r="r" b="b"/>
            <a:pathLst>
              <a:path w="348" h="695">
                <a:moveTo>
                  <a:pt x="17785" y="7640"/>
                </a:moveTo>
                <a:cubicBezTo>
                  <a:pt x="17655" y="7696"/>
                  <a:pt x="17618" y="7729"/>
                  <a:pt x="17537" y="7838"/>
                </a:cubicBezTo>
                <a:cubicBezTo>
                  <a:pt x="17598" y="8032"/>
                  <a:pt x="17756" y="8103"/>
                  <a:pt x="17884" y="8285"/>
                </a:cubicBezTo>
                <a:cubicBezTo>
                  <a:pt x="17672" y="8366"/>
                  <a:pt x="17604" y="8230"/>
                  <a:pt x="17686" y="8012"/>
                </a:cubicBezTo>
                <a:cubicBezTo>
                  <a:pt x="17695" y="7989"/>
                  <a:pt x="18008" y="7569"/>
                  <a:pt x="17835" y="77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688080" y="2830680"/>
            <a:ext cx="330120" cy="161640"/>
          </a:xfrm>
          <a:custGeom>
            <a:avLst/>
            <a:gdLst/>
            <a:ahLst/>
            <a:rect l="l" t="t" r="r" b="b"/>
            <a:pathLst>
              <a:path w="918" h="448">
                <a:moveTo>
                  <a:pt x="18579" y="7888"/>
                </a:moveTo>
                <a:cubicBezTo>
                  <a:pt x="18579" y="8025"/>
                  <a:pt x="18583" y="8151"/>
                  <a:pt x="18604" y="8285"/>
                </a:cubicBezTo>
                <a:cubicBezTo>
                  <a:pt x="18671" y="8192"/>
                  <a:pt x="18603" y="8072"/>
                  <a:pt x="18678" y="7962"/>
                </a:cubicBezTo>
                <a:cubicBezTo>
                  <a:pt x="18833" y="7734"/>
                  <a:pt x="18929" y="8145"/>
                  <a:pt x="18951" y="8210"/>
                </a:cubicBezTo>
                <a:cubicBezTo>
                  <a:pt x="18959" y="8227"/>
                  <a:pt x="18968" y="8243"/>
                  <a:pt x="18976" y="8260"/>
                </a:cubicBezTo>
                <a:cubicBezTo>
                  <a:pt x="18976" y="8143"/>
                  <a:pt x="18962" y="8046"/>
                  <a:pt x="19025" y="7938"/>
                </a:cubicBezTo>
                <a:cubicBezTo>
                  <a:pt x="19050" y="7913"/>
                  <a:pt x="19075" y="7888"/>
                  <a:pt x="19100" y="7863"/>
                </a:cubicBezTo>
                <a:cubicBezTo>
                  <a:pt x="19318" y="7936"/>
                  <a:pt x="19253" y="8062"/>
                  <a:pt x="19348" y="8260"/>
                </a:cubicBezTo>
                <a:cubicBezTo>
                  <a:pt x="19407" y="8320"/>
                  <a:pt x="19435" y="8330"/>
                  <a:pt x="19496" y="826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108920" y="2847960"/>
            <a:ext cx="98280" cy="9720"/>
          </a:xfrm>
          <a:custGeom>
            <a:avLst/>
            <a:gdLst/>
            <a:ahLst/>
            <a:rect l="l" t="t" r="r" b="b"/>
            <a:pathLst>
              <a:path w="273" h="26">
                <a:moveTo>
                  <a:pt x="19745" y="7913"/>
                </a:moveTo>
                <a:cubicBezTo>
                  <a:pt x="19804" y="7913"/>
                  <a:pt x="20031" y="7897"/>
                  <a:pt x="19993" y="7938"/>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4" name=""/>
          <p:cNvSpPr/>
          <p:nvPr/>
        </p:nvSpPr>
        <p:spPr>
          <a:xfrm>
            <a:off x="7483320" y="2678040"/>
            <a:ext cx="142920" cy="295200"/>
          </a:xfrm>
          <a:custGeom>
            <a:avLst/>
            <a:gdLst/>
            <a:ahLst/>
            <a:rect l="l" t="t" r="r" b="b"/>
            <a:pathLst>
              <a:path w="398" h="820">
                <a:moveTo>
                  <a:pt x="21109" y="7541"/>
                </a:moveTo>
                <a:cubicBezTo>
                  <a:pt x="20974" y="7550"/>
                  <a:pt x="20838" y="7559"/>
                  <a:pt x="20786" y="7714"/>
                </a:cubicBezTo>
                <a:cubicBezTo>
                  <a:pt x="20753" y="7813"/>
                  <a:pt x="21016" y="8003"/>
                  <a:pt x="21084" y="8086"/>
                </a:cubicBezTo>
                <a:cubicBezTo>
                  <a:pt x="21067" y="8127"/>
                  <a:pt x="21051" y="8169"/>
                  <a:pt x="21034" y="8210"/>
                </a:cubicBezTo>
                <a:cubicBezTo>
                  <a:pt x="20813" y="8225"/>
                  <a:pt x="20756" y="8135"/>
                  <a:pt x="20886" y="7913"/>
                </a:cubicBezTo>
                <a:cubicBezTo>
                  <a:pt x="20963" y="7781"/>
                  <a:pt x="21244" y="7574"/>
                  <a:pt x="21109" y="7516"/>
                </a:cubicBezTo>
              </a:path>
              <a:path w="398" h="820">
                <a:moveTo>
                  <a:pt x="20985" y="7565"/>
                </a:moveTo>
                <a:cubicBezTo>
                  <a:pt x="20985" y="7424"/>
                  <a:pt x="20966" y="7797"/>
                  <a:pt x="20960" y="7938"/>
                </a:cubicBezTo>
                <a:cubicBezTo>
                  <a:pt x="20958" y="7977"/>
                  <a:pt x="20962" y="8423"/>
                  <a:pt x="20935" y="8111"/>
                </a:cubicBezTo>
                <a:cubicBezTo>
                  <a:pt x="20915" y="7886"/>
                  <a:pt x="20910" y="7667"/>
                  <a:pt x="20910" y="7441"/>
                </a:cubicBezTo>
                <a:cubicBezTo>
                  <a:pt x="20930" y="7664"/>
                  <a:pt x="20976" y="7884"/>
                  <a:pt x="20960" y="8111"/>
                </a:cubicBezTo>
                <a:cubicBezTo>
                  <a:pt x="20952" y="8144"/>
                  <a:pt x="20943" y="8177"/>
                  <a:pt x="20935" y="8210"/>
                </a:cubicBezTo>
                <a:cubicBezTo>
                  <a:pt x="20915" y="8100"/>
                  <a:pt x="20876" y="7588"/>
                  <a:pt x="20886" y="7665"/>
                </a:cubicBezTo>
                <a:cubicBezTo>
                  <a:pt x="20899" y="7771"/>
                  <a:pt x="20922" y="8471"/>
                  <a:pt x="20910" y="8086"/>
                </a:cubicBezTo>
                <a:cubicBezTo>
                  <a:pt x="20903" y="7869"/>
                  <a:pt x="20866" y="7333"/>
                  <a:pt x="20910" y="7913"/>
                </a:cubicBezTo>
                <a:cubicBezTo>
                  <a:pt x="20911" y="7922"/>
                  <a:pt x="20904" y="8324"/>
                  <a:pt x="20960" y="8210"/>
                </a:cubicBezTo>
                <a:cubicBezTo>
                  <a:pt x="20956" y="8164"/>
                  <a:pt x="20935" y="7412"/>
                  <a:pt x="20935" y="7838"/>
                </a:cubicBezTo>
                <a:cubicBezTo>
                  <a:pt x="20935" y="7967"/>
                  <a:pt x="20877" y="8195"/>
                  <a:pt x="20985" y="80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46960" y="3705120"/>
            <a:ext cx="125280" cy="46080"/>
          </a:xfrm>
          <a:custGeom>
            <a:avLst/>
            <a:gdLst/>
            <a:ahLst/>
            <a:rect l="l" t="t" r="r" b="b"/>
            <a:pathLst>
              <a:path w="348" h="125">
                <a:moveTo>
                  <a:pt x="20687" y="10319"/>
                </a:moveTo>
                <a:cubicBezTo>
                  <a:pt x="20797" y="10319"/>
                  <a:pt x="20901" y="10299"/>
                  <a:pt x="21010" y="10294"/>
                </a:cubicBezTo>
                <a:cubicBezTo>
                  <a:pt x="21056" y="10292"/>
                  <a:pt x="20978" y="10327"/>
                  <a:pt x="20935" y="10344"/>
                </a:cubicBezTo>
              </a:path>
              <a:path w="348" h="125">
                <a:moveTo>
                  <a:pt x="20712" y="10418"/>
                </a:moveTo>
                <a:cubicBezTo>
                  <a:pt x="20795" y="10418"/>
                  <a:pt x="20877" y="10418"/>
                  <a:pt x="20960" y="10418"/>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6" name=""/>
          <p:cNvSpPr/>
          <p:nvPr/>
        </p:nvSpPr>
        <p:spPr>
          <a:xfrm>
            <a:off x="7867800" y="3606840"/>
            <a:ext cx="214200" cy="216000"/>
          </a:xfrm>
          <a:custGeom>
            <a:avLst/>
            <a:gdLst/>
            <a:ahLst/>
            <a:rect l="l" t="t" r="r" b="b"/>
            <a:pathLst>
              <a:path w="596" h="596">
                <a:moveTo>
                  <a:pt x="21903" y="10021"/>
                </a:moveTo>
                <a:cubicBezTo>
                  <a:pt x="21887" y="10163"/>
                  <a:pt x="21857" y="10300"/>
                  <a:pt x="21853" y="10443"/>
                </a:cubicBezTo>
                <a:cubicBezTo>
                  <a:pt x="21847" y="10631"/>
                  <a:pt x="22035" y="10628"/>
                  <a:pt x="22175" y="10592"/>
                </a:cubicBezTo>
                <a:cubicBezTo>
                  <a:pt x="22321" y="10555"/>
                  <a:pt x="22417" y="10457"/>
                  <a:pt x="22448" y="10319"/>
                </a:cubicBezTo>
                <a:cubicBezTo>
                  <a:pt x="22279" y="10319"/>
                  <a:pt x="22267" y="10345"/>
                  <a:pt x="22175" y="10492"/>
                </a:cubicBezTo>
                <a:cubicBezTo>
                  <a:pt x="22154" y="10536"/>
                  <a:pt x="22141" y="10547"/>
                  <a:pt x="22175" y="1056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6">
                                            <p:txEl>
                                              <p:pRg st="0" end="0"/>
                                            </p:txEl>
                                          </p:spTgt>
                                        </p:tgtEl>
                                        <p:attrNameLst>
                                          <p:attrName>style.visibility</p:attrName>
                                        </p:attrNameLst>
                                      </p:cBhvr>
                                      <p:to>
                                        <p:strVal val="visible"/>
                                      </p:to>
                                    </p:set>
                                    <p:anim calcmode="lin" valueType="num">
                                      <p:cBhvr additive="base">
                                        <p:cTn id="83"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26">
                                            <p:txEl>
                                              <p:pRg st="1" end="1"/>
                                            </p:txEl>
                                          </p:spTgt>
                                        </p:tgtEl>
                                        <p:attrNameLst>
                                          <p:attrName>style.visibility</p:attrName>
                                        </p:attrNameLst>
                                      </p:cBhvr>
                                      <p:to>
                                        <p:strVal val="visible"/>
                                      </p:to>
                                    </p:set>
                                    <p:anim calcmode="lin" valueType="num">
                                      <p:cBhvr additive="base">
                                        <p:cTn id="89"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anim calcmode="lin" valueType="num">
                                      <p:cBhvr additive="base">
                                        <p:cTn id="95"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26">
                                            <p:txEl>
                                              <p:pRg st="2" end="2"/>
                                            </p:txEl>
                                          </p:spTgt>
                                        </p:tgtEl>
                                        <p:attrNameLst>
                                          <p:attrName>style.visibility</p:attrName>
                                        </p:attrNameLst>
                                      </p:cBhvr>
                                      <p:to>
                                        <p:strVal val="visible"/>
                                      </p:to>
                                    </p:set>
                                    <p:anim calcmode="lin" valueType="num">
                                      <p:cBhvr additive="base">
                                        <p:cTn id="101"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80520" y="152280"/>
            <a:ext cx="7543800" cy="54864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bjective:  Students will write equations and inequalities</a:t>
            </a:r>
            <a:endParaRPr b="0" lang="en-US" sz="10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 inequality vs. an equation:</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fference between inequalities and equations is that inequalities have an inequality symbol instead of an equal sign. To translate sentences into inequalities look for the following phrase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u="sng">
                <a:solidFill>
                  <a:srgbClr val="006600"/>
                </a:solidFill>
                <a:uFillTx/>
                <a:latin typeface="Comic Sans MS"/>
              </a:rPr>
              <a:t>Phrase</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less than</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l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less than or equal to</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greater than</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g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greater than or equal to</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312840" y="1251000"/>
            <a:ext cx="223560" cy="320760"/>
          </a:xfrm>
          <a:custGeom>
            <a:avLst/>
            <a:gdLst/>
            <a:ahLst/>
            <a:rect l="l" t="t" r="r" b="b"/>
            <a:pathLst>
              <a:path w="621" h="894">
                <a:moveTo>
                  <a:pt x="1364" y="3473"/>
                </a:moveTo>
                <a:cubicBezTo>
                  <a:pt x="1214" y="3640"/>
                  <a:pt x="1098" y="3816"/>
                  <a:pt x="967" y="3994"/>
                </a:cubicBezTo>
                <a:cubicBezTo>
                  <a:pt x="945" y="4024"/>
                  <a:pt x="881" y="4074"/>
                  <a:pt x="868" y="4093"/>
                </a:cubicBezTo>
                <a:cubicBezTo>
                  <a:pt x="868" y="4101"/>
                  <a:pt x="868" y="4110"/>
                  <a:pt x="868" y="4118"/>
                </a:cubicBezTo>
                <a:cubicBezTo>
                  <a:pt x="1001" y="4118"/>
                  <a:pt x="1168" y="4174"/>
                  <a:pt x="1290" y="4217"/>
                </a:cubicBezTo>
                <a:cubicBezTo>
                  <a:pt x="1376" y="4247"/>
                  <a:pt x="1559" y="4309"/>
                  <a:pt x="1488" y="4366"/>
                </a:cubicBezTo>
                <a:cubicBezTo>
                  <a:pt x="1463" y="4366"/>
                  <a:pt x="1455" y="4366"/>
                  <a:pt x="1439" y="436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120" y="1803240"/>
            <a:ext cx="206280" cy="384480"/>
          </a:xfrm>
          <a:custGeom>
            <a:avLst/>
            <a:gdLst/>
            <a:ahLst/>
            <a:rect l="l" t="t" r="r" b="b"/>
            <a:pathLst>
              <a:path w="571" h="1067">
                <a:moveTo>
                  <a:pt x="918" y="5035"/>
                </a:moveTo>
                <a:cubicBezTo>
                  <a:pt x="1016" y="5024"/>
                  <a:pt x="1109" y="5065"/>
                  <a:pt x="1215" y="5135"/>
                </a:cubicBezTo>
                <a:cubicBezTo>
                  <a:pt x="1312" y="5199"/>
                  <a:pt x="1416" y="5277"/>
                  <a:pt x="1488" y="5358"/>
                </a:cubicBezTo>
                <a:cubicBezTo>
                  <a:pt x="1462" y="5462"/>
                  <a:pt x="1306" y="5548"/>
                  <a:pt x="1240" y="5631"/>
                </a:cubicBezTo>
                <a:cubicBezTo>
                  <a:pt x="1149" y="5745"/>
                  <a:pt x="1064" y="5912"/>
                  <a:pt x="1017" y="6052"/>
                </a:cubicBezTo>
                <a:cubicBezTo>
                  <a:pt x="1017" y="6060"/>
                  <a:pt x="1017" y="6069"/>
                  <a:pt x="1017" y="607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027760" y="2830680"/>
            <a:ext cx="268200" cy="277560"/>
          </a:xfrm>
          <a:custGeom>
            <a:avLst/>
            <a:gdLst/>
            <a:ahLst/>
            <a:rect l="l" t="t" r="r" b="b"/>
            <a:pathLst>
              <a:path w="745" h="770">
                <a:moveTo>
                  <a:pt x="14461" y="7888"/>
                </a:moveTo>
                <a:cubicBezTo>
                  <a:pt x="14461" y="7851"/>
                  <a:pt x="14366" y="7976"/>
                  <a:pt x="14337" y="8012"/>
                </a:cubicBezTo>
                <a:cubicBezTo>
                  <a:pt x="14278" y="8084"/>
                  <a:pt x="14202" y="8187"/>
                  <a:pt x="14139" y="8235"/>
                </a:cubicBezTo>
                <a:cubicBezTo>
                  <a:pt x="14107" y="8260"/>
                  <a:pt x="14059" y="8291"/>
                  <a:pt x="14039" y="8334"/>
                </a:cubicBezTo>
                <a:cubicBezTo>
                  <a:pt x="14019" y="8377"/>
                  <a:pt x="13977" y="8411"/>
                  <a:pt x="13965" y="8458"/>
                </a:cubicBezTo>
                <a:cubicBezTo>
                  <a:pt x="14056" y="8458"/>
                  <a:pt x="14129" y="8464"/>
                  <a:pt x="14213" y="8483"/>
                </a:cubicBezTo>
                <a:cubicBezTo>
                  <a:pt x="14262" y="8494"/>
                  <a:pt x="14320" y="8525"/>
                  <a:pt x="14362" y="8533"/>
                </a:cubicBezTo>
                <a:cubicBezTo>
                  <a:pt x="14437" y="8548"/>
                  <a:pt x="14510" y="8591"/>
                  <a:pt x="14585" y="8607"/>
                </a:cubicBezTo>
                <a:cubicBezTo>
                  <a:pt x="14633" y="8617"/>
                  <a:pt x="14660" y="8632"/>
                  <a:pt x="14709" y="86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232680" y="3786120"/>
            <a:ext cx="312480" cy="374760"/>
          </a:xfrm>
          <a:custGeom>
            <a:avLst/>
            <a:gdLst/>
            <a:ahLst/>
            <a:rect l="l" t="t" r="r" b="b"/>
            <a:pathLst>
              <a:path w="869" h="1043">
                <a:moveTo>
                  <a:pt x="17388" y="10567"/>
                </a:moveTo>
                <a:cubicBezTo>
                  <a:pt x="17409" y="10539"/>
                  <a:pt x="17416" y="10498"/>
                  <a:pt x="17462" y="10517"/>
                </a:cubicBezTo>
                <a:cubicBezTo>
                  <a:pt x="17607" y="10578"/>
                  <a:pt x="17762" y="10668"/>
                  <a:pt x="17884" y="10765"/>
                </a:cubicBezTo>
                <a:cubicBezTo>
                  <a:pt x="17958" y="10824"/>
                  <a:pt x="18037" y="10864"/>
                  <a:pt x="18107" y="10914"/>
                </a:cubicBezTo>
                <a:cubicBezTo>
                  <a:pt x="18130" y="10937"/>
                  <a:pt x="18134" y="10945"/>
                  <a:pt x="18157" y="10939"/>
                </a:cubicBezTo>
                <a:cubicBezTo>
                  <a:pt x="18137" y="10999"/>
                  <a:pt x="17758" y="11070"/>
                  <a:pt x="17711" y="11088"/>
                </a:cubicBezTo>
                <a:cubicBezTo>
                  <a:pt x="17579" y="11138"/>
                  <a:pt x="17444" y="11203"/>
                  <a:pt x="17314" y="11261"/>
                </a:cubicBezTo>
              </a:path>
              <a:path w="869" h="1043">
                <a:moveTo>
                  <a:pt x="18083" y="11112"/>
                </a:moveTo>
                <a:cubicBezTo>
                  <a:pt x="18124" y="11112"/>
                  <a:pt x="18219" y="11106"/>
                  <a:pt x="18182" y="11088"/>
                </a:cubicBezTo>
                <a:cubicBezTo>
                  <a:pt x="18117" y="11057"/>
                  <a:pt x="17951" y="11228"/>
                  <a:pt x="17909" y="11261"/>
                </a:cubicBezTo>
                <a:cubicBezTo>
                  <a:pt x="17798" y="11348"/>
                  <a:pt x="17640" y="11502"/>
                  <a:pt x="17512" y="11559"/>
                </a:cubicBezTo>
                <a:cubicBezTo>
                  <a:pt x="17495" y="11559"/>
                  <a:pt x="17479" y="11559"/>
                  <a:pt x="17462" y="115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991040" y="3224160"/>
            <a:ext cx="312840" cy="276120"/>
          </a:xfrm>
          <a:custGeom>
            <a:avLst/>
            <a:gdLst/>
            <a:ahLst/>
            <a:rect l="l" t="t" r="r" b="b"/>
            <a:pathLst>
              <a:path w="869" h="770">
                <a:moveTo>
                  <a:pt x="14312" y="8979"/>
                </a:moveTo>
                <a:cubicBezTo>
                  <a:pt x="14292" y="8938"/>
                  <a:pt x="14200" y="9044"/>
                  <a:pt x="14163" y="9079"/>
                </a:cubicBezTo>
                <a:cubicBezTo>
                  <a:pt x="14133" y="9108"/>
                  <a:pt x="14063" y="9211"/>
                  <a:pt x="14039" y="9227"/>
                </a:cubicBezTo>
                <a:cubicBezTo>
                  <a:pt x="14015" y="9243"/>
                  <a:pt x="13995" y="9241"/>
                  <a:pt x="13990" y="9277"/>
                </a:cubicBezTo>
                <a:cubicBezTo>
                  <a:pt x="13990" y="9285"/>
                  <a:pt x="13990" y="9294"/>
                  <a:pt x="13990" y="9302"/>
                </a:cubicBezTo>
                <a:cubicBezTo>
                  <a:pt x="14044" y="9316"/>
                  <a:pt x="14104" y="9329"/>
                  <a:pt x="14163" y="9351"/>
                </a:cubicBezTo>
                <a:cubicBezTo>
                  <a:pt x="14220" y="9373"/>
                  <a:pt x="14261" y="9395"/>
                  <a:pt x="14312" y="9426"/>
                </a:cubicBezTo>
                <a:cubicBezTo>
                  <a:pt x="14363" y="9457"/>
                  <a:pt x="14431" y="9471"/>
                  <a:pt x="14486" y="9475"/>
                </a:cubicBezTo>
                <a:cubicBezTo>
                  <a:pt x="14511" y="9475"/>
                  <a:pt x="14519" y="9475"/>
                  <a:pt x="14511" y="9500"/>
                </a:cubicBezTo>
                <a:cubicBezTo>
                  <a:pt x="14432" y="9434"/>
                  <a:pt x="14360" y="9408"/>
                  <a:pt x="14263" y="9376"/>
                </a:cubicBezTo>
                <a:cubicBezTo>
                  <a:pt x="14182" y="9349"/>
                  <a:pt x="14119" y="9332"/>
                  <a:pt x="14039" y="9327"/>
                </a:cubicBezTo>
                <a:cubicBezTo>
                  <a:pt x="14015" y="9325"/>
                  <a:pt x="13989" y="9327"/>
                  <a:pt x="13965" y="9327"/>
                </a:cubicBezTo>
                <a:cubicBezTo>
                  <a:pt x="14004" y="9249"/>
                  <a:pt x="14116" y="9210"/>
                  <a:pt x="14188" y="9153"/>
                </a:cubicBezTo>
                <a:cubicBezTo>
                  <a:pt x="14280" y="9080"/>
                  <a:pt x="14356" y="9029"/>
                  <a:pt x="14461" y="8979"/>
                </a:cubicBezTo>
                <a:cubicBezTo>
                  <a:pt x="14502" y="8959"/>
                  <a:pt x="14508" y="8950"/>
                  <a:pt x="14536" y="8954"/>
                </a:cubicBezTo>
                <a:cubicBezTo>
                  <a:pt x="14660" y="8954"/>
                  <a:pt x="14416" y="9019"/>
                  <a:pt x="14387" y="9029"/>
                </a:cubicBezTo>
                <a:cubicBezTo>
                  <a:pt x="14266" y="9071"/>
                  <a:pt x="14155" y="9100"/>
                  <a:pt x="14039" y="9153"/>
                </a:cubicBezTo>
                <a:cubicBezTo>
                  <a:pt x="13992" y="9175"/>
                  <a:pt x="13976" y="9195"/>
                  <a:pt x="13965" y="9227"/>
                </a:cubicBezTo>
              </a:path>
              <a:path w="869" h="770">
                <a:moveTo>
                  <a:pt x="13866" y="9525"/>
                </a:moveTo>
                <a:cubicBezTo>
                  <a:pt x="13969" y="9546"/>
                  <a:pt x="14083" y="9572"/>
                  <a:pt x="14188" y="9599"/>
                </a:cubicBezTo>
                <a:cubicBezTo>
                  <a:pt x="14285" y="9624"/>
                  <a:pt x="14387" y="9656"/>
                  <a:pt x="14486" y="9674"/>
                </a:cubicBezTo>
                <a:cubicBezTo>
                  <a:pt x="14537" y="9683"/>
                  <a:pt x="14582" y="9699"/>
                  <a:pt x="14635" y="9699"/>
                </a:cubicBezTo>
                <a:cubicBezTo>
                  <a:pt x="14663" y="9699"/>
                  <a:pt x="14673" y="9701"/>
                  <a:pt x="14684" y="9723"/>
                </a:cubicBezTo>
                <a:cubicBezTo>
                  <a:pt x="14599" y="9709"/>
                  <a:pt x="14520" y="9673"/>
                  <a:pt x="14436" y="9649"/>
                </a:cubicBezTo>
                <a:cubicBezTo>
                  <a:pt x="14332" y="9620"/>
                  <a:pt x="14214" y="9607"/>
                  <a:pt x="14114" y="9575"/>
                </a:cubicBezTo>
                <a:cubicBezTo>
                  <a:pt x="14056" y="9557"/>
                  <a:pt x="14027" y="9525"/>
                  <a:pt x="13965" y="9525"/>
                </a:cubicBezTo>
                <a:cubicBezTo>
                  <a:pt x="13930" y="9525"/>
                  <a:pt x="13868" y="9524"/>
                  <a:pt x="13915" y="9500"/>
                </a:cubicBezTo>
                <a:cubicBezTo>
                  <a:pt x="14017" y="9571"/>
                  <a:pt x="14143" y="9602"/>
                  <a:pt x="14263" y="9649"/>
                </a:cubicBezTo>
                <a:cubicBezTo>
                  <a:pt x="14328" y="9674"/>
                  <a:pt x="14402" y="9706"/>
                  <a:pt x="14461" y="9723"/>
                </a:cubicBezTo>
                <a:cubicBezTo>
                  <a:pt x="14486" y="9723"/>
                  <a:pt x="14494" y="9723"/>
                  <a:pt x="14511" y="9723"/>
                </a:cubicBezTo>
              </a:path>
              <a:path w="869" h="770">
                <a:moveTo>
                  <a:pt x="14238" y="9401"/>
                </a:moveTo>
                <a:cubicBezTo>
                  <a:pt x="14304" y="9401"/>
                  <a:pt x="14358" y="9414"/>
                  <a:pt x="14412" y="9426"/>
                </a:cubicBezTo>
                <a:cubicBezTo>
                  <a:pt x="14464" y="9437"/>
                  <a:pt x="14505" y="9470"/>
                  <a:pt x="14560" y="9475"/>
                </a:cubicBezTo>
                <a:cubicBezTo>
                  <a:pt x="14613" y="9480"/>
                  <a:pt x="14624" y="9525"/>
                  <a:pt x="14684" y="9525"/>
                </a:cubicBezTo>
                <a:cubicBezTo>
                  <a:pt x="14715" y="9525"/>
                  <a:pt x="14726" y="9551"/>
                  <a:pt x="14734" y="95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180120" y="3178080"/>
            <a:ext cx="320760" cy="270000"/>
          </a:xfrm>
          <a:custGeom>
            <a:avLst/>
            <a:gdLst/>
            <a:ahLst/>
            <a:rect l="l" t="t" r="r" b="b"/>
            <a:pathLst>
              <a:path w="894" h="746">
                <a:moveTo>
                  <a:pt x="17487" y="8830"/>
                </a:moveTo>
                <a:cubicBezTo>
                  <a:pt x="17414" y="8977"/>
                  <a:pt x="17307" y="9094"/>
                  <a:pt x="17214" y="9227"/>
                </a:cubicBezTo>
                <a:cubicBezTo>
                  <a:pt x="17182" y="9273"/>
                  <a:pt x="17176" y="9268"/>
                  <a:pt x="17165" y="9302"/>
                </a:cubicBezTo>
                <a:cubicBezTo>
                  <a:pt x="17288" y="9323"/>
                  <a:pt x="17360" y="9312"/>
                  <a:pt x="17487" y="9302"/>
                </a:cubicBezTo>
                <a:cubicBezTo>
                  <a:pt x="17635" y="9291"/>
                  <a:pt x="17786" y="9282"/>
                  <a:pt x="17934" y="9277"/>
                </a:cubicBezTo>
                <a:cubicBezTo>
                  <a:pt x="17992" y="9277"/>
                  <a:pt x="18000" y="9277"/>
                  <a:pt x="18033" y="9277"/>
                </a:cubicBezTo>
              </a:path>
              <a:path w="894" h="746">
                <a:moveTo>
                  <a:pt x="17363" y="9550"/>
                </a:moveTo>
                <a:cubicBezTo>
                  <a:pt x="17325" y="9563"/>
                  <a:pt x="17343" y="9575"/>
                  <a:pt x="17289" y="9575"/>
                </a:cubicBezTo>
                <a:cubicBezTo>
                  <a:pt x="17264" y="9575"/>
                  <a:pt x="17256" y="9575"/>
                  <a:pt x="17239" y="9575"/>
                </a:cubicBezTo>
                <a:cubicBezTo>
                  <a:pt x="17190" y="9575"/>
                  <a:pt x="17396" y="9575"/>
                  <a:pt x="17438" y="9575"/>
                </a:cubicBezTo>
                <a:cubicBezTo>
                  <a:pt x="17584" y="9575"/>
                  <a:pt x="17721" y="9573"/>
                  <a:pt x="17859" y="9550"/>
                </a:cubicBezTo>
                <a:cubicBezTo>
                  <a:pt x="17921" y="9540"/>
                  <a:pt x="17994" y="9550"/>
                  <a:pt x="18058" y="95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929120" y="3562200"/>
            <a:ext cx="223920" cy="250920"/>
          </a:xfrm>
          <a:custGeom>
            <a:avLst/>
            <a:gdLst/>
            <a:ahLst/>
            <a:rect l="l" t="t" r="r" b="b"/>
            <a:pathLst>
              <a:path w="621" h="696">
                <a:moveTo>
                  <a:pt x="13866" y="9947"/>
                </a:moveTo>
                <a:cubicBezTo>
                  <a:pt x="13866" y="9922"/>
                  <a:pt x="13866" y="9914"/>
                  <a:pt x="13866" y="9897"/>
                </a:cubicBezTo>
                <a:cubicBezTo>
                  <a:pt x="13907" y="9927"/>
                  <a:pt x="13919" y="9985"/>
                  <a:pt x="13965" y="10021"/>
                </a:cubicBezTo>
                <a:cubicBezTo>
                  <a:pt x="14001" y="10049"/>
                  <a:pt x="14073" y="10104"/>
                  <a:pt x="14114" y="10120"/>
                </a:cubicBezTo>
                <a:cubicBezTo>
                  <a:pt x="14157" y="10137"/>
                  <a:pt x="14188" y="10152"/>
                  <a:pt x="14213" y="10170"/>
                </a:cubicBezTo>
                <a:cubicBezTo>
                  <a:pt x="14245" y="10194"/>
                  <a:pt x="14280" y="10220"/>
                  <a:pt x="14288" y="10244"/>
                </a:cubicBezTo>
                <a:cubicBezTo>
                  <a:pt x="14257" y="10321"/>
                  <a:pt x="14185" y="10346"/>
                  <a:pt x="14114" y="10393"/>
                </a:cubicBezTo>
                <a:cubicBezTo>
                  <a:pt x="14037" y="10443"/>
                  <a:pt x="13976" y="10534"/>
                  <a:pt x="13891" y="10567"/>
                </a:cubicBezTo>
                <a:cubicBezTo>
                  <a:pt x="13861" y="10579"/>
                  <a:pt x="13851" y="10600"/>
                  <a:pt x="13866" y="10542"/>
                </a:cubicBezTo>
                <a:cubicBezTo>
                  <a:pt x="13874" y="10517"/>
                  <a:pt x="13883" y="10493"/>
                  <a:pt x="13891" y="10468"/>
                </a:cubicBezTo>
              </a:path>
              <a:path w="621" h="696">
                <a:moveTo>
                  <a:pt x="13692" y="10046"/>
                </a:moveTo>
                <a:cubicBezTo>
                  <a:pt x="13692" y="10021"/>
                  <a:pt x="13692" y="10013"/>
                  <a:pt x="13692" y="9996"/>
                </a:cubicBezTo>
              </a:path>
              <a:path w="621" h="696">
                <a:moveTo>
                  <a:pt x="13717" y="9971"/>
                </a:moveTo>
                <a:cubicBezTo>
                  <a:pt x="13736" y="9917"/>
                  <a:pt x="13796" y="9973"/>
                  <a:pt x="13841" y="9996"/>
                </a:cubicBezTo>
                <a:cubicBezTo>
                  <a:pt x="13905" y="10028"/>
                  <a:pt x="13956" y="10050"/>
                  <a:pt x="14015" y="10071"/>
                </a:cubicBezTo>
                <a:cubicBezTo>
                  <a:pt x="14060" y="10087"/>
                  <a:pt x="14096" y="10115"/>
                  <a:pt x="14139" y="10120"/>
                </a:cubicBezTo>
                <a:cubicBezTo>
                  <a:pt x="14153" y="10122"/>
                  <a:pt x="14192" y="10133"/>
                  <a:pt x="14213" y="10145"/>
                </a:cubicBezTo>
                <a:cubicBezTo>
                  <a:pt x="14226" y="10152"/>
                  <a:pt x="14309" y="10190"/>
                  <a:pt x="14312" y="10195"/>
                </a:cubicBezTo>
                <a:cubicBezTo>
                  <a:pt x="14312" y="10203"/>
                  <a:pt x="14312" y="10212"/>
                  <a:pt x="14312" y="10220"/>
                </a:cubicBezTo>
                <a:cubicBezTo>
                  <a:pt x="14222" y="10292"/>
                  <a:pt x="14139" y="10335"/>
                  <a:pt x="14039" y="10393"/>
                </a:cubicBezTo>
                <a:cubicBezTo>
                  <a:pt x="13987" y="10423"/>
                  <a:pt x="13909" y="10454"/>
                  <a:pt x="13866" y="10492"/>
                </a:cubicBezTo>
                <a:cubicBezTo>
                  <a:pt x="13841" y="10517"/>
                  <a:pt x="13833" y="10525"/>
                  <a:pt x="13816" y="105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964040" y="3929040"/>
            <a:ext cx="196920" cy="295200"/>
          </a:xfrm>
          <a:custGeom>
            <a:avLst/>
            <a:gdLst/>
            <a:ahLst/>
            <a:rect l="l" t="t" r="r" b="b"/>
            <a:pathLst>
              <a:path w="547" h="820">
                <a:moveTo>
                  <a:pt x="13841" y="10939"/>
                </a:moveTo>
                <a:cubicBezTo>
                  <a:pt x="13850" y="10920"/>
                  <a:pt x="13892" y="10936"/>
                  <a:pt x="13915" y="10964"/>
                </a:cubicBezTo>
                <a:cubicBezTo>
                  <a:pt x="13952" y="11009"/>
                  <a:pt x="13975" y="11031"/>
                  <a:pt x="14015" y="11063"/>
                </a:cubicBezTo>
                <a:cubicBezTo>
                  <a:pt x="14057" y="11097"/>
                  <a:pt x="14084" y="11156"/>
                  <a:pt x="14139" y="11162"/>
                </a:cubicBezTo>
                <a:cubicBezTo>
                  <a:pt x="14157" y="11164"/>
                  <a:pt x="14196" y="11188"/>
                  <a:pt x="14188" y="11212"/>
                </a:cubicBezTo>
                <a:cubicBezTo>
                  <a:pt x="14163" y="11293"/>
                  <a:pt x="14120" y="11335"/>
                  <a:pt x="14064" y="11385"/>
                </a:cubicBezTo>
                <a:cubicBezTo>
                  <a:pt x="14007" y="11436"/>
                  <a:pt x="13974" y="11450"/>
                  <a:pt x="13915" y="11485"/>
                </a:cubicBezTo>
                <a:cubicBezTo>
                  <a:pt x="13872" y="11511"/>
                  <a:pt x="13874" y="11541"/>
                  <a:pt x="13816" y="11559"/>
                </a:cubicBezTo>
                <a:cubicBezTo>
                  <a:pt x="13791" y="11559"/>
                  <a:pt x="13783" y="11559"/>
                  <a:pt x="13791" y="11584"/>
                </a:cubicBezTo>
              </a:path>
              <a:path w="547" h="820">
                <a:moveTo>
                  <a:pt x="13841" y="11658"/>
                </a:moveTo>
                <a:cubicBezTo>
                  <a:pt x="13929" y="11645"/>
                  <a:pt x="14006" y="11601"/>
                  <a:pt x="14089" y="11584"/>
                </a:cubicBezTo>
                <a:cubicBezTo>
                  <a:pt x="14125" y="11576"/>
                  <a:pt x="14175" y="11584"/>
                  <a:pt x="14213" y="11584"/>
                </a:cubicBezTo>
                <a:cubicBezTo>
                  <a:pt x="14103" y="11615"/>
                  <a:pt x="14006" y="11680"/>
                  <a:pt x="13891" y="11708"/>
                </a:cubicBezTo>
                <a:cubicBezTo>
                  <a:pt x="13861" y="11715"/>
                  <a:pt x="13846" y="11726"/>
                  <a:pt x="13816" y="11733"/>
                </a:cubicBezTo>
                <a:cubicBezTo>
                  <a:pt x="13899" y="11683"/>
                  <a:pt x="14014" y="11622"/>
                  <a:pt x="14114" y="11584"/>
                </a:cubicBezTo>
                <a:cubicBezTo>
                  <a:pt x="14188" y="11565"/>
                  <a:pt x="14195" y="11557"/>
                  <a:pt x="14238" y="11559"/>
                </a:cubicBezTo>
                <a:cubicBezTo>
                  <a:pt x="14295" y="11559"/>
                  <a:pt x="14103" y="11627"/>
                  <a:pt x="14089" y="11633"/>
                </a:cubicBezTo>
                <a:cubicBezTo>
                  <a:pt x="14014" y="11666"/>
                  <a:pt x="13945" y="11695"/>
                  <a:pt x="13866" y="11708"/>
                </a:cubicBezTo>
                <a:cubicBezTo>
                  <a:pt x="13971" y="11687"/>
                  <a:pt x="14116" y="11607"/>
                  <a:pt x="14213" y="11559"/>
                </a:cubicBezTo>
                <a:cubicBezTo>
                  <a:pt x="14248" y="11542"/>
                  <a:pt x="14329" y="11509"/>
                  <a:pt x="14337" y="1148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152800" y="3490920"/>
            <a:ext cx="142560" cy="54000"/>
          </a:xfrm>
          <a:custGeom>
            <a:avLst/>
            <a:gdLst/>
            <a:ahLst/>
            <a:rect l="l" t="t" r="r" b="b"/>
            <a:pathLst>
              <a:path w="398" h="149">
                <a:moveTo>
                  <a:pt x="6028" y="9847"/>
                </a:moveTo>
                <a:cubicBezTo>
                  <a:pt x="6118" y="9803"/>
                  <a:pt x="6258" y="9811"/>
                  <a:pt x="6350" y="9773"/>
                </a:cubicBezTo>
                <a:cubicBezTo>
                  <a:pt x="6422" y="9743"/>
                  <a:pt x="6230" y="9793"/>
                  <a:pt x="6152" y="9798"/>
                </a:cubicBezTo>
                <a:cubicBezTo>
                  <a:pt x="6013" y="9808"/>
                  <a:pt x="5893" y="9819"/>
                  <a:pt x="6127" y="9773"/>
                </a:cubicBezTo>
                <a:cubicBezTo>
                  <a:pt x="6168" y="9765"/>
                  <a:pt x="6210" y="9756"/>
                  <a:pt x="6251" y="9748"/>
                </a:cubicBezTo>
                <a:cubicBezTo>
                  <a:pt x="6403" y="9748"/>
                  <a:pt x="6034" y="9790"/>
                  <a:pt x="6003" y="9798"/>
                </a:cubicBezTo>
                <a:cubicBezTo>
                  <a:pt x="5878" y="9830"/>
                  <a:pt x="6269" y="9773"/>
                  <a:pt x="6375" y="9699"/>
                </a:cubicBezTo>
                <a:cubicBezTo>
                  <a:pt x="6367" y="9699"/>
                  <a:pt x="6358" y="9699"/>
                  <a:pt x="6350" y="9699"/>
                </a:cubicBezTo>
                <a:cubicBezTo>
                  <a:pt x="6295" y="9712"/>
                  <a:pt x="5904" y="9837"/>
                  <a:pt x="6102" y="9773"/>
                </a:cubicBezTo>
                <a:cubicBezTo>
                  <a:pt x="6175" y="9749"/>
                  <a:pt x="6195" y="9707"/>
                  <a:pt x="6226" y="9748"/>
                </a:cubicBezTo>
                <a:cubicBezTo>
                  <a:pt x="6234" y="9756"/>
                  <a:pt x="6243" y="9765"/>
                  <a:pt x="6251" y="9773"/>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4">
                                  <p:stCondLst>
                                    <p:cond delay="0"/>
                                  </p:stCondLst>
                                  <p:childTnLst>
                                    <p:set>
                                      <p:cBhvr>
                                        <p:cTn id="108" dur="1" fill="hold">
                                          <p:stCondLst>
                                            <p:cond delay="0"/>
                                          </p:stCondLst>
                                        </p:cTn>
                                        <p:tgtEl>
                                          <p:spTgt spid="257">
                                            <p:txEl>
                                              <p:pRg st="0" end="0"/>
                                            </p:txEl>
                                          </p:spTgt>
                                        </p:tgtEl>
                                        <p:attrNameLst>
                                          <p:attrName>style.visibility</p:attrName>
                                        </p:attrNameLst>
                                      </p:cBhvr>
                                      <p:to>
                                        <p:strVal val="visible"/>
                                      </p:to>
                                    </p:set>
                                    <p:anim calcmode="lin" valueType="num">
                                      <p:cBhvr additive="base">
                                        <p:cTn id="109"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57">
                                            <p:txEl>
                                              <p:pRg st="1" end="1"/>
                                            </p:txEl>
                                          </p:spTgt>
                                        </p:tgtEl>
                                        <p:attrNameLst>
                                          <p:attrName>style.visibility</p:attrName>
                                        </p:attrNameLst>
                                      </p:cBhvr>
                                      <p:to>
                                        <p:strVal val="visible"/>
                                      </p:to>
                                    </p:set>
                                    <p:anim calcmode="lin" valueType="num">
                                      <p:cBhvr additive="base">
                                        <p:cTn id="115"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57">
                                            <p:txEl>
                                              <p:pRg st="2" end="2"/>
                                            </p:txEl>
                                          </p:spTgt>
                                        </p:tgtEl>
                                        <p:attrNameLst>
                                          <p:attrName>style.visibility</p:attrName>
                                        </p:attrNameLst>
                                      </p:cBhvr>
                                      <p:to>
                                        <p:strVal val="visible"/>
                                      </p:to>
                                    </p:set>
                                    <p:anim calcmode="lin" valueType="num">
                                      <p:cBhvr additive="base">
                                        <p:cTn id="121"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7">
                                            <p:txEl>
                                              <p:pRg st="4" end="4"/>
                                            </p:txEl>
                                          </p:spTgt>
                                        </p:tgtEl>
                                        <p:attrNameLst>
                                          <p:attrName>style.visibility</p:attrName>
                                        </p:attrNameLst>
                                      </p:cBhvr>
                                      <p:to>
                                        <p:strVal val="visible"/>
                                      </p:to>
                                    </p:set>
                                    <p:anim calcmode="lin" valueType="num">
                                      <p:cBhvr additive="base">
                                        <p:cTn id="127" dur="500" fill="hold"/>
                                        <p:tgtEl>
                                          <p:spTgt spid="25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57">
                                            <p:txEl>
                                              <p:pRg st="5" end="5"/>
                                            </p:txEl>
                                          </p:spTgt>
                                        </p:tgtEl>
                                        <p:attrNameLst>
                                          <p:attrName>style.visibility</p:attrName>
                                        </p:attrNameLst>
                                      </p:cBhvr>
                                      <p:to>
                                        <p:strVal val="visible"/>
                                      </p:to>
                                    </p:set>
                                    <p:anim calcmode="lin" valueType="num">
                                      <p:cBhvr additive="base">
                                        <p:cTn id="133" dur="500" fill="hold"/>
                                        <p:tgtEl>
                                          <p:spTgt spid="25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7">
                                            <p:txEl>
                                              <p:pRg st="6" end="6"/>
                                            </p:txEl>
                                          </p:spTgt>
                                        </p:tgtEl>
                                        <p:attrNameLst>
                                          <p:attrName>style.visibility</p:attrName>
                                        </p:attrNameLst>
                                      </p:cBhvr>
                                      <p:to>
                                        <p:strVal val="visible"/>
                                      </p:to>
                                    </p:set>
                                    <p:anim calcmode="lin" valueType="num">
                                      <p:cBhvr additive="base">
                                        <p:cTn id="139" dur="500" fill="hold"/>
                                        <p:tgtEl>
                                          <p:spTgt spid="257">
                                            <p:txEl>
                                              <p:pRg st="6" end="6"/>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57">
                                            <p:txEl>
                                              <p:pRg st="7" end="7"/>
                                            </p:txEl>
                                          </p:spTgt>
                                        </p:tgtEl>
                                        <p:attrNameLst>
                                          <p:attrName>style.visibility</p:attrName>
                                        </p:attrNameLst>
                                      </p:cBhvr>
                                      <p:to>
                                        <p:strVal val="visible"/>
                                      </p:to>
                                    </p:set>
                                    <p:anim calcmode="lin" valueType="num">
                                      <p:cBhvr additive="base">
                                        <p:cTn id="145" dur="500" fill="hold"/>
                                        <p:tgtEl>
                                          <p:spTgt spid="257">
                                            <p:txEl>
                                              <p:pRg st="7" end="7"/>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57">
                                            <p:txEl>
                                              <p:pRg st="8" end="8"/>
                                            </p:txEl>
                                          </p:spTgt>
                                        </p:tgtEl>
                                        <p:attrNameLst>
                                          <p:attrName>style.visibility</p:attrName>
                                        </p:attrNameLst>
                                      </p:cBhvr>
                                      <p:to>
                                        <p:strVal val="visible"/>
                                      </p:to>
                                    </p:set>
                                    <p:anim calcmode="lin" valueType="num">
                                      <p:cBhvr additive="base">
                                        <p:cTn id="151" dur="500" fill="hold"/>
                                        <p:tgtEl>
                                          <p:spTgt spid="257">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5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1920" y="151920"/>
            <a:ext cx="769644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ive:  Students will write equations and inequalities</a:t>
            </a:r>
            <a:r>
              <a:rPr b="0" lang="en-US" sz="3200" spc="-1" strike="noStrike">
                <a:solidFill>
                  <a:srgbClr val="ff0000"/>
                </a:solidFill>
                <a:latin typeface="Comic Sans MS"/>
              </a:rPr>
              <a:t> </a:t>
            </a:r>
            <a:br>
              <a:rPr sz="3200"/>
            </a:br>
            <a:r>
              <a:rPr b="0" lang="en-US" sz="3200" spc="-1" strike="noStrike">
                <a:solidFill>
                  <a:srgbClr val="ff0000"/>
                </a:solidFill>
                <a:latin typeface="Comic Sans MS"/>
              </a:rPr>
              <a:t>Examples: Write an inequality for each sentence.</a:t>
            </a:r>
            <a:endParaRPr b="0" lang="en-US" sz="3200" spc="-1" strike="noStrike">
              <a:solidFill>
                <a:srgbClr val="000000"/>
              </a:solidFill>
              <a:latin typeface="Comic Sans MS"/>
            </a:endParaRPr>
          </a:p>
        </p:txBody>
      </p:sp>
      <p:sp>
        <p:nvSpPr>
          <p:cNvPr id="271" name="PlaceHolder 2"/>
          <p:cNvSpPr>
            <a:spLocks noGrp="1"/>
          </p:cNvSpPr>
          <p:nvPr>
            <p:ph/>
          </p:nvPr>
        </p:nvSpPr>
        <p:spPr>
          <a:xfrm>
            <a:off x="304920" y="1828800"/>
            <a:ext cx="853416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 number plus 4 is less than 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Twice a number is greater than or equal to 1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 number minus 12 is less than or equal to 9 </a:t>
            </a:r>
            <a:endParaRPr b="0" lang="en-US" sz="2800" spc="-1" strike="noStrike">
              <a:solidFill>
                <a:srgbClr val="000000"/>
              </a:solidFill>
              <a:latin typeface="Comic Sans MS"/>
            </a:endParaRPr>
          </a:p>
        </p:txBody>
      </p:sp>
      <p:sp>
        <p:nvSpPr>
          <p:cNvPr id="272" name=""/>
          <p:cNvSpPr/>
          <p:nvPr/>
        </p:nvSpPr>
        <p:spPr>
          <a:xfrm>
            <a:off x="928800" y="1581120"/>
            <a:ext cx="1500120" cy="687240"/>
          </a:xfrm>
          <a:custGeom>
            <a:avLst/>
            <a:gdLst/>
            <a:ahLst/>
            <a:rect l="l" t="t" r="r" b="b"/>
            <a:pathLst>
              <a:path w="4168" h="1911">
                <a:moveTo>
                  <a:pt x="2580" y="6226"/>
                </a:moveTo>
                <a:cubicBezTo>
                  <a:pt x="2626" y="6242"/>
                  <a:pt x="2603" y="6248"/>
                  <a:pt x="2679" y="6251"/>
                </a:cubicBezTo>
                <a:cubicBezTo>
                  <a:pt x="2712" y="6252"/>
                  <a:pt x="2720" y="6272"/>
                  <a:pt x="2753" y="6276"/>
                </a:cubicBezTo>
                <a:cubicBezTo>
                  <a:pt x="2831" y="6286"/>
                  <a:pt x="2927" y="6294"/>
                  <a:pt x="3001" y="6300"/>
                </a:cubicBezTo>
                <a:cubicBezTo>
                  <a:pt x="3089" y="6307"/>
                  <a:pt x="3165" y="6271"/>
                  <a:pt x="3249" y="6276"/>
                </a:cubicBezTo>
                <a:cubicBezTo>
                  <a:pt x="3325" y="6280"/>
                  <a:pt x="3370" y="6276"/>
                  <a:pt x="3448" y="6276"/>
                </a:cubicBezTo>
                <a:cubicBezTo>
                  <a:pt x="3592" y="6276"/>
                  <a:pt x="3734" y="6289"/>
                  <a:pt x="3870" y="6300"/>
                </a:cubicBezTo>
                <a:cubicBezTo>
                  <a:pt x="3933" y="6305"/>
                  <a:pt x="3962" y="6280"/>
                  <a:pt x="4018" y="6276"/>
                </a:cubicBezTo>
                <a:cubicBezTo>
                  <a:pt x="4189" y="6263"/>
                  <a:pt x="4380" y="6308"/>
                  <a:pt x="4539" y="6300"/>
                </a:cubicBezTo>
                <a:cubicBezTo>
                  <a:pt x="4609" y="6296"/>
                  <a:pt x="4665" y="6278"/>
                  <a:pt x="4738" y="6276"/>
                </a:cubicBezTo>
                <a:cubicBezTo>
                  <a:pt x="4955" y="6270"/>
                  <a:pt x="5175" y="6270"/>
                  <a:pt x="5383" y="6251"/>
                </a:cubicBezTo>
                <a:cubicBezTo>
                  <a:pt x="5573" y="6234"/>
                  <a:pt x="5767" y="6260"/>
                  <a:pt x="5953" y="6276"/>
                </a:cubicBezTo>
                <a:cubicBezTo>
                  <a:pt x="6159" y="6294"/>
                  <a:pt x="6434" y="6268"/>
                  <a:pt x="6598" y="6251"/>
                </a:cubicBezTo>
                <a:cubicBezTo>
                  <a:pt x="6647" y="6246"/>
                  <a:pt x="6698" y="6255"/>
                  <a:pt x="6747" y="6251"/>
                </a:cubicBezTo>
              </a:path>
              <a:path w="4168" h="1911">
                <a:moveTo>
                  <a:pt x="4713" y="4514"/>
                </a:moveTo>
                <a:cubicBezTo>
                  <a:pt x="4708" y="4479"/>
                  <a:pt x="4689" y="4401"/>
                  <a:pt x="4638" y="4390"/>
                </a:cubicBezTo>
                <a:cubicBezTo>
                  <a:pt x="4547" y="4371"/>
                  <a:pt x="4451" y="4461"/>
                  <a:pt x="4415" y="4539"/>
                </a:cubicBezTo>
                <a:cubicBezTo>
                  <a:pt x="4382" y="4612"/>
                  <a:pt x="4390" y="4685"/>
                  <a:pt x="4390" y="4762"/>
                </a:cubicBezTo>
                <a:cubicBezTo>
                  <a:pt x="4471" y="4762"/>
                  <a:pt x="4578" y="4780"/>
                  <a:pt x="4638" y="4713"/>
                </a:cubicBezTo>
                <a:cubicBezTo>
                  <a:pt x="4690" y="4654"/>
                  <a:pt x="4713" y="4590"/>
                  <a:pt x="4713" y="4514"/>
                </a:cubicBezTo>
                <a:cubicBezTo>
                  <a:pt x="4713" y="4490"/>
                  <a:pt x="4713" y="4481"/>
                  <a:pt x="4713" y="4465"/>
                </a:cubicBezTo>
                <a:cubicBezTo>
                  <a:pt x="4695" y="4538"/>
                  <a:pt x="4670" y="4628"/>
                  <a:pt x="4663" y="4713"/>
                </a:cubicBezTo>
                <a:cubicBezTo>
                  <a:pt x="4653" y="4837"/>
                  <a:pt x="4613" y="4941"/>
                  <a:pt x="4589" y="5060"/>
                </a:cubicBezTo>
                <a:cubicBezTo>
                  <a:pt x="4582" y="5096"/>
                  <a:pt x="4589" y="5146"/>
                  <a:pt x="4589" y="5184"/>
                </a:cubicBezTo>
                <a:cubicBezTo>
                  <a:pt x="4664" y="5184"/>
                  <a:pt x="4709" y="5200"/>
                  <a:pt x="4762" y="5135"/>
                </a:cubicBezTo>
                <a:cubicBezTo>
                  <a:pt x="4797" y="5092"/>
                  <a:pt x="4804" y="4985"/>
                  <a:pt x="4787" y="4936"/>
                </a:cubicBezTo>
                <a:cubicBezTo>
                  <a:pt x="4776" y="4905"/>
                  <a:pt x="4727" y="4839"/>
                  <a:pt x="4713" y="4812"/>
                </a:cubicBezTo>
                <a:cubicBezTo>
                  <a:pt x="4691" y="4769"/>
                  <a:pt x="4675" y="4772"/>
                  <a:pt x="4663" y="4738"/>
                </a:cubicBezTo>
                <a:cubicBezTo>
                  <a:pt x="4719" y="4716"/>
                  <a:pt x="4763" y="4725"/>
                  <a:pt x="4837" y="4688"/>
                </a:cubicBezTo>
                <a:cubicBezTo>
                  <a:pt x="4904" y="4655"/>
                  <a:pt x="5014" y="4597"/>
                  <a:pt x="5060" y="4539"/>
                </a:cubicBezTo>
                <a:cubicBezTo>
                  <a:pt x="5078" y="4516"/>
                  <a:pt x="5090" y="4514"/>
                  <a:pt x="5060" y="45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813040" y="1625760"/>
            <a:ext cx="88920" cy="133200"/>
          </a:xfrm>
          <a:custGeom>
            <a:avLst/>
            <a:gdLst/>
            <a:ahLst/>
            <a:rect l="l" t="t" r="r" b="b"/>
            <a:pathLst>
              <a:path w="250" h="374">
                <a:moveTo>
                  <a:pt x="7938" y="4564"/>
                </a:moveTo>
                <a:cubicBezTo>
                  <a:pt x="7938" y="4539"/>
                  <a:pt x="7938" y="4531"/>
                  <a:pt x="7938" y="4514"/>
                </a:cubicBezTo>
                <a:cubicBezTo>
                  <a:pt x="7938" y="4625"/>
                  <a:pt x="7957" y="4727"/>
                  <a:pt x="7962" y="4837"/>
                </a:cubicBezTo>
                <a:cubicBezTo>
                  <a:pt x="7962" y="4862"/>
                  <a:pt x="7962" y="4870"/>
                  <a:pt x="7962" y="4887"/>
                </a:cubicBezTo>
              </a:path>
              <a:path w="250" h="374">
                <a:moveTo>
                  <a:pt x="7813" y="4738"/>
                </a:moveTo>
                <a:cubicBezTo>
                  <a:pt x="7874" y="4693"/>
                  <a:pt x="7960" y="4713"/>
                  <a:pt x="8037" y="4713"/>
                </a:cubicBezTo>
                <a:cubicBezTo>
                  <a:pt x="8045" y="4713"/>
                  <a:pt x="8054" y="4713"/>
                  <a:pt x="8062" y="47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357720" y="1652760"/>
            <a:ext cx="71280" cy="187200"/>
          </a:xfrm>
          <a:custGeom>
            <a:avLst/>
            <a:gdLst/>
            <a:ahLst/>
            <a:rect l="l" t="t" r="r" b="b"/>
            <a:pathLst>
              <a:path w="199" h="522">
                <a:moveTo>
                  <a:pt x="9426" y="4663"/>
                </a:moveTo>
                <a:cubicBezTo>
                  <a:pt x="9405" y="4737"/>
                  <a:pt x="9368" y="4795"/>
                  <a:pt x="9327" y="4862"/>
                </a:cubicBezTo>
                <a:cubicBezTo>
                  <a:pt x="9388" y="4874"/>
                  <a:pt x="9434" y="4887"/>
                  <a:pt x="9500" y="4887"/>
                </a:cubicBezTo>
                <a:cubicBezTo>
                  <a:pt x="9508" y="4887"/>
                  <a:pt x="9517" y="4887"/>
                  <a:pt x="9525" y="4887"/>
                </a:cubicBezTo>
              </a:path>
              <a:path w="199" h="522">
                <a:moveTo>
                  <a:pt x="9525" y="4614"/>
                </a:moveTo>
                <a:cubicBezTo>
                  <a:pt x="9525" y="4531"/>
                  <a:pt x="9500" y="4947"/>
                  <a:pt x="9500" y="4961"/>
                </a:cubicBezTo>
                <a:cubicBezTo>
                  <a:pt x="9499" y="5010"/>
                  <a:pt x="9500" y="5060"/>
                  <a:pt x="9500" y="51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330800" y="1633680"/>
            <a:ext cx="241200" cy="206280"/>
          </a:xfrm>
          <a:custGeom>
            <a:avLst/>
            <a:gdLst/>
            <a:ahLst/>
            <a:rect l="l" t="t" r="r" b="b"/>
            <a:pathLst>
              <a:path w="671" h="572">
                <a:moveTo>
                  <a:pt x="12650" y="4564"/>
                </a:moveTo>
                <a:cubicBezTo>
                  <a:pt x="12667" y="4512"/>
                  <a:pt x="12630" y="4524"/>
                  <a:pt x="12551" y="4564"/>
                </a:cubicBezTo>
                <a:cubicBezTo>
                  <a:pt x="12428" y="4626"/>
                  <a:pt x="12307" y="4713"/>
                  <a:pt x="12179" y="4762"/>
                </a:cubicBezTo>
                <a:cubicBezTo>
                  <a:pt x="12131" y="4780"/>
                  <a:pt x="12075" y="4801"/>
                  <a:pt x="12030" y="4812"/>
                </a:cubicBezTo>
                <a:cubicBezTo>
                  <a:pt x="12040" y="4843"/>
                  <a:pt x="12160" y="4895"/>
                  <a:pt x="12204" y="4911"/>
                </a:cubicBezTo>
                <a:cubicBezTo>
                  <a:pt x="12326" y="4957"/>
                  <a:pt x="12454" y="4988"/>
                  <a:pt x="12576" y="5035"/>
                </a:cubicBezTo>
                <a:cubicBezTo>
                  <a:pt x="12623" y="5053"/>
                  <a:pt x="12689" y="5076"/>
                  <a:pt x="12700" y="51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599080" y="1509840"/>
            <a:ext cx="125280" cy="268200"/>
          </a:xfrm>
          <a:custGeom>
            <a:avLst/>
            <a:gdLst/>
            <a:ahLst/>
            <a:rect l="l" t="t" r="r" b="b"/>
            <a:pathLst>
              <a:path w="348" h="745">
                <a:moveTo>
                  <a:pt x="15900" y="4465"/>
                </a:moveTo>
                <a:cubicBezTo>
                  <a:pt x="15900" y="4378"/>
                  <a:pt x="15901" y="4344"/>
                  <a:pt x="15850" y="4266"/>
                </a:cubicBezTo>
                <a:cubicBezTo>
                  <a:pt x="15786" y="4168"/>
                  <a:pt x="15697" y="4198"/>
                  <a:pt x="15627" y="4266"/>
                </a:cubicBezTo>
                <a:cubicBezTo>
                  <a:pt x="15534" y="4357"/>
                  <a:pt x="15495" y="4519"/>
                  <a:pt x="15677" y="4514"/>
                </a:cubicBezTo>
                <a:cubicBezTo>
                  <a:pt x="15767" y="4511"/>
                  <a:pt x="15843" y="4446"/>
                  <a:pt x="15875" y="4366"/>
                </a:cubicBezTo>
                <a:cubicBezTo>
                  <a:pt x="15875" y="4341"/>
                  <a:pt x="15875" y="4333"/>
                  <a:pt x="15875" y="4316"/>
                </a:cubicBezTo>
                <a:cubicBezTo>
                  <a:pt x="15912" y="4328"/>
                  <a:pt x="15880" y="4496"/>
                  <a:pt x="15875" y="4539"/>
                </a:cubicBezTo>
                <a:cubicBezTo>
                  <a:pt x="15860" y="4675"/>
                  <a:pt x="15822" y="4804"/>
                  <a:pt x="15801" y="493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46880" y="1919160"/>
            <a:ext cx="162000" cy="447840"/>
          </a:xfrm>
          <a:custGeom>
            <a:avLst/>
            <a:gdLst/>
            <a:ahLst/>
            <a:rect l="l" t="t" r="r" b="b"/>
            <a:pathLst>
              <a:path w="447" h="1241">
                <a:moveTo>
                  <a:pt x="18306" y="5507"/>
                </a:moveTo>
                <a:cubicBezTo>
                  <a:pt x="18272" y="5443"/>
                  <a:pt x="18229" y="5264"/>
                  <a:pt x="18107" y="5333"/>
                </a:cubicBezTo>
                <a:cubicBezTo>
                  <a:pt x="17929" y="5433"/>
                  <a:pt x="17934" y="5567"/>
                  <a:pt x="17934" y="5730"/>
                </a:cubicBezTo>
                <a:cubicBezTo>
                  <a:pt x="18120" y="5693"/>
                  <a:pt x="18145" y="5660"/>
                  <a:pt x="18256" y="5507"/>
                </a:cubicBezTo>
                <a:cubicBezTo>
                  <a:pt x="18225" y="5784"/>
                  <a:pt x="18122" y="6052"/>
                  <a:pt x="18083" y="6325"/>
                </a:cubicBezTo>
                <a:cubicBezTo>
                  <a:pt x="18053" y="6535"/>
                  <a:pt x="18060" y="6548"/>
                  <a:pt x="18207" y="6548"/>
                </a:cubicBezTo>
                <a:cubicBezTo>
                  <a:pt x="18315" y="6355"/>
                  <a:pt x="18452" y="6179"/>
                  <a:pt x="18207" y="6028"/>
                </a:cubicBezTo>
                <a:cubicBezTo>
                  <a:pt x="18166" y="6011"/>
                  <a:pt x="18124" y="5995"/>
                  <a:pt x="18083" y="597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42080" y="1830240"/>
            <a:ext cx="393840" cy="108000"/>
          </a:xfrm>
          <a:custGeom>
            <a:avLst/>
            <a:gdLst/>
            <a:ahLst/>
            <a:rect l="l" t="t" r="r" b="b"/>
            <a:pathLst>
              <a:path w="1092" h="299">
                <a:moveTo>
                  <a:pt x="18728" y="5383"/>
                </a:moveTo>
                <a:cubicBezTo>
                  <a:pt x="18888" y="5366"/>
                  <a:pt x="19038" y="5358"/>
                  <a:pt x="19199" y="5358"/>
                </a:cubicBezTo>
              </a:path>
              <a:path w="1092" h="299">
                <a:moveTo>
                  <a:pt x="19571" y="5085"/>
                </a:moveTo>
                <a:cubicBezTo>
                  <a:pt x="19543" y="5172"/>
                  <a:pt x="19525" y="5232"/>
                  <a:pt x="19472" y="5308"/>
                </a:cubicBezTo>
                <a:cubicBezTo>
                  <a:pt x="19593" y="5316"/>
                  <a:pt x="19708" y="5355"/>
                  <a:pt x="19819" y="533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286760" y="1839960"/>
            <a:ext cx="142920" cy="152280"/>
          </a:xfrm>
          <a:custGeom>
            <a:avLst/>
            <a:gdLst/>
            <a:ahLst/>
            <a:rect l="l" t="t" r="r" b="b"/>
            <a:pathLst>
              <a:path w="398" h="422">
                <a:moveTo>
                  <a:pt x="20513" y="5110"/>
                </a:moveTo>
                <a:cubicBezTo>
                  <a:pt x="20481" y="5239"/>
                  <a:pt x="20375" y="5244"/>
                  <a:pt x="20265" y="5308"/>
                </a:cubicBezTo>
                <a:cubicBezTo>
                  <a:pt x="20257" y="5316"/>
                  <a:pt x="20249" y="5325"/>
                  <a:pt x="20241" y="5333"/>
                </a:cubicBezTo>
                <a:cubicBezTo>
                  <a:pt x="20300" y="5422"/>
                  <a:pt x="20429" y="5490"/>
                  <a:pt x="20538" y="5531"/>
                </a:cubicBezTo>
                <a:cubicBezTo>
                  <a:pt x="20585" y="5531"/>
                  <a:pt x="20611" y="5519"/>
                  <a:pt x="20638" y="548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545240" y="1768320"/>
            <a:ext cx="135000" cy="268560"/>
          </a:xfrm>
          <a:custGeom>
            <a:avLst/>
            <a:gdLst/>
            <a:ahLst/>
            <a:rect l="l" t="t" r="r" b="b"/>
            <a:pathLst>
              <a:path w="373" h="745">
                <a:moveTo>
                  <a:pt x="21332" y="5159"/>
                </a:moveTo>
                <a:cubicBezTo>
                  <a:pt x="21315" y="5061"/>
                  <a:pt x="21264" y="4996"/>
                  <a:pt x="21183" y="4936"/>
                </a:cubicBezTo>
                <a:cubicBezTo>
                  <a:pt x="21092" y="4869"/>
                  <a:pt x="20986" y="4967"/>
                  <a:pt x="20960" y="5060"/>
                </a:cubicBezTo>
                <a:cubicBezTo>
                  <a:pt x="20911" y="5236"/>
                  <a:pt x="21041" y="5289"/>
                  <a:pt x="21183" y="5234"/>
                </a:cubicBezTo>
                <a:cubicBezTo>
                  <a:pt x="21254" y="5206"/>
                  <a:pt x="21266" y="5162"/>
                  <a:pt x="21307" y="5110"/>
                </a:cubicBezTo>
                <a:cubicBezTo>
                  <a:pt x="21307" y="5023"/>
                  <a:pt x="21294" y="5098"/>
                  <a:pt x="21282" y="5159"/>
                </a:cubicBezTo>
                <a:cubicBezTo>
                  <a:pt x="21251" y="5317"/>
                  <a:pt x="21258" y="5471"/>
                  <a:pt x="21258" y="5631"/>
                </a:cubicBezTo>
                <a:cubicBezTo>
                  <a:pt x="21258" y="5639"/>
                  <a:pt x="21258" y="5647"/>
                  <a:pt x="21258" y="565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823080" y="1795320"/>
            <a:ext cx="303120" cy="249480"/>
          </a:xfrm>
          <a:custGeom>
            <a:avLst/>
            <a:gdLst/>
            <a:ahLst/>
            <a:rect l="l" t="t" r="r" b="b"/>
            <a:pathLst>
              <a:path w="844" h="695">
                <a:moveTo>
                  <a:pt x="19000" y="5110"/>
                </a:moveTo>
                <a:cubicBezTo>
                  <a:pt x="18971" y="5271"/>
                  <a:pt x="18961" y="5440"/>
                  <a:pt x="18951" y="5606"/>
                </a:cubicBezTo>
              </a:path>
              <a:path w="844" h="695">
                <a:moveTo>
                  <a:pt x="19794" y="4986"/>
                </a:moveTo>
                <a:cubicBezTo>
                  <a:pt x="19763" y="5220"/>
                  <a:pt x="19729" y="5426"/>
                  <a:pt x="19670" y="5655"/>
                </a:cubicBezTo>
                <a:cubicBezTo>
                  <a:pt x="19670" y="5663"/>
                  <a:pt x="19670" y="5672"/>
                  <a:pt x="19670" y="56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527120" y="2830680"/>
            <a:ext cx="2374920" cy="1760400"/>
          </a:xfrm>
          <a:custGeom>
            <a:avLst/>
            <a:gdLst/>
            <a:ahLst/>
            <a:rect l="l" t="t" r="r" b="b"/>
            <a:pathLst>
              <a:path w="6599" h="4888">
                <a:moveTo>
                  <a:pt x="4390" y="8310"/>
                </a:moveTo>
                <a:cubicBezTo>
                  <a:pt x="4390" y="8231"/>
                  <a:pt x="4422" y="8237"/>
                  <a:pt x="4465" y="8186"/>
                </a:cubicBezTo>
                <a:cubicBezTo>
                  <a:pt x="4535" y="8103"/>
                  <a:pt x="4582" y="8037"/>
                  <a:pt x="4688" y="7987"/>
                </a:cubicBezTo>
                <a:cubicBezTo>
                  <a:pt x="4707" y="7978"/>
                  <a:pt x="4806" y="8007"/>
                  <a:pt x="4812" y="8012"/>
                </a:cubicBezTo>
                <a:cubicBezTo>
                  <a:pt x="4843" y="8039"/>
                  <a:pt x="4837" y="8119"/>
                  <a:pt x="4837" y="8161"/>
                </a:cubicBezTo>
                <a:cubicBezTo>
                  <a:pt x="4837" y="8216"/>
                  <a:pt x="4797" y="8288"/>
                  <a:pt x="4762" y="8334"/>
                </a:cubicBezTo>
                <a:cubicBezTo>
                  <a:pt x="4685" y="8433"/>
                  <a:pt x="4624" y="8467"/>
                  <a:pt x="4514" y="8533"/>
                </a:cubicBezTo>
                <a:cubicBezTo>
                  <a:pt x="4429" y="8584"/>
                  <a:pt x="4338" y="8692"/>
                  <a:pt x="4291" y="8781"/>
                </a:cubicBezTo>
                <a:cubicBezTo>
                  <a:pt x="4284" y="8795"/>
                  <a:pt x="4242" y="8941"/>
                  <a:pt x="4242" y="8880"/>
                </a:cubicBezTo>
                <a:cubicBezTo>
                  <a:pt x="4305" y="8816"/>
                  <a:pt x="4372" y="8763"/>
                  <a:pt x="4440" y="8706"/>
                </a:cubicBezTo>
                <a:cubicBezTo>
                  <a:pt x="4499" y="8773"/>
                  <a:pt x="4532" y="8865"/>
                  <a:pt x="4614" y="8905"/>
                </a:cubicBezTo>
                <a:cubicBezTo>
                  <a:pt x="4692" y="8942"/>
                  <a:pt x="4815" y="8894"/>
                  <a:pt x="4837" y="8830"/>
                </a:cubicBezTo>
                <a:cubicBezTo>
                  <a:pt x="4837" y="8814"/>
                  <a:pt x="4837" y="8797"/>
                  <a:pt x="4837" y="8781"/>
                </a:cubicBezTo>
              </a:path>
              <a:path w="6599" h="4888">
                <a:moveTo>
                  <a:pt x="5879" y="10195"/>
                </a:moveTo>
                <a:cubicBezTo>
                  <a:pt x="5940" y="10164"/>
                  <a:pt x="5972" y="10148"/>
                  <a:pt x="6052" y="10145"/>
                </a:cubicBezTo>
                <a:cubicBezTo>
                  <a:pt x="6249" y="10139"/>
                  <a:pt x="6454" y="10130"/>
                  <a:pt x="6648" y="10170"/>
                </a:cubicBezTo>
                <a:cubicBezTo>
                  <a:pt x="6782" y="10198"/>
                  <a:pt x="6911" y="10211"/>
                  <a:pt x="7045" y="10244"/>
                </a:cubicBezTo>
                <a:cubicBezTo>
                  <a:pt x="7220" y="10287"/>
                  <a:pt x="7385" y="10340"/>
                  <a:pt x="7565" y="10344"/>
                </a:cubicBezTo>
                <a:cubicBezTo>
                  <a:pt x="7725" y="10347"/>
                  <a:pt x="7876" y="10302"/>
                  <a:pt x="8037" y="10319"/>
                </a:cubicBezTo>
                <a:cubicBezTo>
                  <a:pt x="8261" y="10343"/>
                  <a:pt x="8482" y="10361"/>
                  <a:pt x="8706" y="10393"/>
                </a:cubicBezTo>
                <a:cubicBezTo>
                  <a:pt x="8879" y="10418"/>
                  <a:pt x="9057" y="10392"/>
                  <a:pt x="9227" y="10418"/>
                </a:cubicBezTo>
                <a:cubicBezTo>
                  <a:pt x="9252" y="10418"/>
                  <a:pt x="9260" y="10418"/>
                  <a:pt x="9252" y="10443"/>
                </a:cubicBezTo>
              </a:path>
              <a:path w="6599" h="4888">
                <a:moveTo>
                  <a:pt x="6052" y="7863"/>
                </a:moveTo>
                <a:cubicBezTo>
                  <a:pt x="6103" y="7963"/>
                  <a:pt x="6055" y="8150"/>
                  <a:pt x="6028" y="8260"/>
                </a:cubicBezTo>
                <a:cubicBezTo>
                  <a:pt x="6004" y="8354"/>
                  <a:pt x="5888" y="8561"/>
                  <a:pt x="5978" y="8657"/>
                </a:cubicBezTo>
                <a:cubicBezTo>
                  <a:pt x="6042" y="8726"/>
                  <a:pt x="6209" y="8666"/>
                  <a:pt x="6276" y="8632"/>
                </a:cubicBezTo>
                <a:cubicBezTo>
                  <a:pt x="6298" y="8609"/>
                  <a:pt x="6306" y="8604"/>
                  <a:pt x="6300" y="8582"/>
                </a:cubicBezTo>
              </a:path>
              <a:path w="6599" h="4888">
                <a:moveTo>
                  <a:pt x="5779" y="8384"/>
                </a:moveTo>
                <a:cubicBezTo>
                  <a:pt x="5937" y="8384"/>
                  <a:pt x="6073" y="8329"/>
                  <a:pt x="6226" y="8310"/>
                </a:cubicBezTo>
                <a:cubicBezTo>
                  <a:pt x="6317" y="8310"/>
                  <a:pt x="6325" y="8310"/>
                  <a:pt x="6375" y="8310"/>
                </a:cubicBezTo>
              </a:path>
              <a:path w="6599" h="4888">
                <a:moveTo>
                  <a:pt x="8161" y="12675"/>
                </a:moveTo>
                <a:cubicBezTo>
                  <a:pt x="8302" y="12657"/>
                  <a:pt x="8439" y="12631"/>
                  <a:pt x="8582" y="12626"/>
                </a:cubicBezTo>
                <a:cubicBezTo>
                  <a:pt x="8624" y="12626"/>
                  <a:pt x="8632" y="12626"/>
                  <a:pt x="8657" y="12626"/>
                </a:cubicBezTo>
              </a:path>
              <a:path w="6599" h="4888">
                <a:moveTo>
                  <a:pt x="10170" y="12328"/>
                </a:moveTo>
                <a:cubicBezTo>
                  <a:pt x="10170" y="12469"/>
                  <a:pt x="10170" y="12609"/>
                  <a:pt x="10170" y="12750"/>
                </a:cubicBezTo>
              </a:path>
              <a:path w="6599" h="4888">
                <a:moveTo>
                  <a:pt x="10468" y="12328"/>
                </a:moveTo>
                <a:cubicBezTo>
                  <a:pt x="10518" y="12244"/>
                  <a:pt x="10571" y="12254"/>
                  <a:pt x="10666" y="12254"/>
                </a:cubicBezTo>
                <a:cubicBezTo>
                  <a:pt x="10836" y="12254"/>
                  <a:pt x="10674" y="12486"/>
                  <a:pt x="10641" y="12526"/>
                </a:cubicBezTo>
                <a:cubicBezTo>
                  <a:pt x="10573" y="12608"/>
                  <a:pt x="10524" y="12631"/>
                  <a:pt x="10492" y="12725"/>
                </a:cubicBezTo>
                <a:cubicBezTo>
                  <a:pt x="10609" y="12713"/>
                  <a:pt x="10722" y="12683"/>
                  <a:pt x="10840" y="126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55800" y="4464000"/>
            <a:ext cx="1527120" cy="644400"/>
          </a:xfrm>
          <a:custGeom>
            <a:avLst/>
            <a:gdLst/>
            <a:ahLst/>
            <a:rect l="l" t="t" r="r" b="b"/>
            <a:pathLst>
              <a:path w="4243" h="1787">
                <a:moveTo>
                  <a:pt x="2679" y="14163"/>
                </a:moveTo>
                <a:cubicBezTo>
                  <a:pt x="2761" y="14184"/>
                  <a:pt x="2792" y="14186"/>
                  <a:pt x="2877" y="14188"/>
                </a:cubicBezTo>
                <a:cubicBezTo>
                  <a:pt x="3139" y="14193"/>
                  <a:pt x="3410" y="14159"/>
                  <a:pt x="3671" y="14139"/>
                </a:cubicBezTo>
                <a:cubicBezTo>
                  <a:pt x="3929" y="14119"/>
                  <a:pt x="4181" y="14114"/>
                  <a:pt x="4440" y="14114"/>
                </a:cubicBezTo>
                <a:cubicBezTo>
                  <a:pt x="4600" y="14114"/>
                  <a:pt x="4777" y="14108"/>
                  <a:pt x="4936" y="14089"/>
                </a:cubicBezTo>
                <a:cubicBezTo>
                  <a:pt x="5111" y="14068"/>
                  <a:pt x="5276" y="14089"/>
                  <a:pt x="5457" y="14064"/>
                </a:cubicBezTo>
                <a:cubicBezTo>
                  <a:pt x="5737" y="14026"/>
                  <a:pt x="6019" y="14035"/>
                  <a:pt x="6300" y="14015"/>
                </a:cubicBezTo>
                <a:cubicBezTo>
                  <a:pt x="6501" y="14001"/>
                  <a:pt x="6694" y="13990"/>
                  <a:pt x="6896" y="13990"/>
                </a:cubicBezTo>
              </a:path>
              <a:path w="4243" h="1787">
                <a:moveTo>
                  <a:pt x="4341" y="12601"/>
                </a:moveTo>
                <a:cubicBezTo>
                  <a:pt x="4449" y="12570"/>
                  <a:pt x="4520" y="12551"/>
                  <a:pt x="4638" y="12551"/>
                </a:cubicBezTo>
                <a:cubicBezTo>
                  <a:pt x="4646" y="12551"/>
                  <a:pt x="4655" y="12551"/>
                  <a:pt x="4663" y="12551"/>
                </a:cubicBezTo>
                <a:cubicBezTo>
                  <a:pt x="4653" y="12522"/>
                  <a:pt x="4561" y="12420"/>
                  <a:pt x="4514" y="12402"/>
                </a:cubicBezTo>
                <a:cubicBezTo>
                  <a:pt x="4439" y="12374"/>
                  <a:pt x="4308" y="12402"/>
                  <a:pt x="4266" y="12477"/>
                </a:cubicBezTo>
                <a:cubicBezTo>
                  <a:pt x="4192" y="12610"/>
                  <a:pt x="4149" y="12742"/>
                  <a:pt x="4266" y="12849"/>
                </a:cubicBezTo>
                <a:cubicBezTo>
                  <a:pt x="4374" y="12948"/>
                  <a:pt x="4473" y="12880"/>
                  <a:pt x="4589" y="12849"/>
                </a:cubicBezTo>
                <a:cubicBezTo>
                  <a:pt x="4597" y="12849"/>
                  <a:pt x="4606" y="12849"/>
                  <a:pt x="4614" y="128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099040" y="2714760"/>
            <a:ext cx="366840" cy="447480"/>
          </a:xfrm>
          <a:custGeom>
            <a:avLst/>
            <a:gdLst/>
            <a:ahLst/>
            <a:rect l="l" t="t" r="r" b="b"/>
            <a:pathLst>
              <a:path w="1018" h="1241">
                <a:moveTo>
                  <a:pt x="14585" y="7665"/>
                </a:moveTo>
                <a:cubicBezTo>
                  <a:pt x="14657" y="7748"/>
                  <a:pt x="14680" y="7812"/>
                  <a:pt x="14759" y="7888"/>
                </a:cubicBezTo>
                <a:cubicBezTo>
                  <a:pt x="14836" y="7963"/>
                  <a:pt x="14949" y="8031"/>
                  <a:pt x="15032" y="8086"/>
                </a:cubicBezTo>
                <a:cubicBezTo>
                  <a:pt x="14924" y="8194"/>
                  <a:pt x="14781" y="8246"/>
                  <a:pt x="14635" y="8334"/>
                </a:cubicBezTo>
                <a:cubicBezTo>
                  <a:pt x="14498" y="8416"/>
                  <a:pt x="14314" y="8519"/>
                  <a:pt x="14188" y="8607"/>
                </a:cubicBezTo>
                <a:cubicBezTo>
                  <a:pt x="14180" y="8615"/>
                  <a:pt x="14171" y="8624"/>
                  <a:pt x="14163" y="8632"/>
                </a:cubicBezTo>
              </a:path>
              <a:path w="1018" h="1241">
                <a:moveTo>
                  <a:pt x="15180" y="8384"/>
                </a:moveTo>
                <a:cubicBezTo>
                  <a:pt x="15109" y="8402"/>
                  <a:pt x="15055" y="8422"/>
                  <a:pt x="14982" y="8458"/>
                </a:cubicBezTo>
                <a:cubicBezTo>
                  <a:pt x="14781" y="8559"/>
                  <a:pt x="14569" y="8620"/>
                  <a:pt x="14362" y="8706"/>
                </a:cubicBezTo>
                <a:cubicBezTo>
                  <a:pt x="14305" y="8730"/>
                  <a:pt x="14151" y="8781"/>
                  <a:pt x="14213" y="8781"/>
                </a:cubicBezTo>
                <a:cubicBezTo>
                  <a:pt x="14221" y="8781"/>
                  <a:pt x="14230" y="8781"/>
                  <a:pt x="14238" y="8781"/>
                </a:cubicBezTo>
              </a:path>
              <a:path w="1018" h="1241">
                <a:moveTo>
                  <a:pt x="14436" y="7541"/>
                </a:moveTo>
                <a:cubicBezTo>
                  <a:pt x="14393" y="7585"/>
                  <a:pt x="14481" y="7632"/>
                  <a:pt x="14511" y="7689"/>
                </a:cubicBezTo>
                <a:cubicBezTo>
                  <a:pt x="14532" y="7729"/>
                  <a:pt x="14575" y="7797"/>
                  <a:pt x="14585" y="7838"/>
                </a:cubicBezTo>
                <a:cubicBezTo>
                  <a:pt x="14622" y="7856"/>
                  <a:pt x="14626" y="7867"/>
                  <a:pt x="14635" y="7913"/>
                </a:cubicBezTo>
              </a:path>
              <a:path w="1018" h="1241">
                <a:moveTo>
                  <a:pt x="14486" y="7565"/>
                </a:moveTo>
                <a:cubicBezTo>
                  <a:pt x="14461" y="7565"/>
                  <a:pt x="14453" y="7565"/>
                  <a:pt x="14461" y="7541"/>
                </a:cubicBezTo>
                <a:cubicBezTo>
                  <a:pt x="14480" y="7634"/>
                  <a:pt x="14556" y="7666"/>
                  <a:pt x="14610" y="7739"/>
                </a:cubicBezTo>
                <a:cubicBezTo>
                  <a:pt x="14663" y="7811"/>
                  <a:pt x="14731" y="7872"/>
                  <a:pt x="14784" y="7938"/>
                </a:cubicBezTo>
                <a:cubicBezTo>
                  <a:pt x="14809" y="7969"/>
                  <a:pt x="14828" y="8040"/>
                  <a:pt x="14858" y="8062"/>
                </a:cubicBezTo>
                <a:cubicBezTo>
                  <a:pt x="14905" y="8097"/>
                  <a:pt x="14964" y="8132"/>
                  <a:pt x="15007" y="8161"/>
                </a:cubicBezTo>
                <a:cubicBezTo>
                  <a:pt x="15029" y="8183"/>
                  <a:pt x="15038" y="8188"/>
                  <a:pt x="15032" y="82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473720" y="3929040"/>
            <a:ext cx="1250640" cy="285840"/>
          </a:xfrm>
          <a:custGeom>
            <a:avLst/>
            <a:gdLst/>
            <a:ahLst/>
            <a:rect l="l" t="t" r="r" b="b"/>
            <a:pathLst>
              <a:path w="3474" h="795">
                <a:moveTo>
                  <a:pt x="12576" y="11063"/>
                </a:moveTo>
                <a:cubicBezTo>
                  <a:pt x="12710" y="10965"/>
                  <a:pt x="12926" y="10907"/>
                  <a:pt x="12973" y="11162"/>
                </a:cubicBezTo>
                <a:cubicBezTo>
                  <a:pt x="13045" y="11552"/>
                  <a:pt x="12697" y="11594"/>
                  <a:pt x="12427" y="11584"/>
                </a:cubicBezTo>
                <a:cubicBezTo>
                  <a:pt x="12508" y="11390"/>
                  <a:pt x="12696" y="11396"/>
                  <a:pt x="12898" y="11485"/>
                </a:cubicBezTo>
                <a:cubicBezTo>
                  <a:pt x="12937" y="11523"/>
                  <a:pt x="12954" y="11525"/>
                  <a:pt x="12948" y="11559"/>
                </a:cubicBezTo>
              </a:path>
              <a:path w="3474" h="795">
                <a:moveTo>
                  <a:pt x="13271" y="10914"/>
                </a:moveTo>
                <a:cubicBezTo>
                  <a:pt x="13288" y="11104"/>
                  <a:pt x="13237" y="11244"/>
                  <a:pt x="13221" y="11435"/>
                </a:cubicBezTo>
                <a:cubicBezTo>
                  <a:pt x="13205" y="11625"/>
                  <a:pt x="13276" y="11722"/>
                  <a:pt x="13469" y="11658"/>
                </a:cubicBezTo>
                <a:cubicBezTo>
                  <a:pt x="13559" y="11614"/>
                  <a:pt x="13595" y="11607"/>
                  <a:pt x="13543" y="11534"/>
                </a:cubicBezTo>
              </a:path>
              <a:path w="3474" h="795">
                <a:moveTo>
                  <a:pt x="13047" y="11261"/>
                </a:moveTo>
                <a:cubicBezTo>
                  <a:pt x="13177" y="11261"/>
                  <a:pt x="13292" y="11265"/>
                  <a:pt x="13419" y="11286"/>
                </a:cubicBezTo>
              </a:path>
              <a:path w="3474" h="795">
                <a:moveTo>
                  <a:pt x="14064" y="10939"/>
                </a:moveTo>
                <a:cubicBezTo>
                  <a:pt x="14228" y="11032"/>
                  <a:pt x="14387" y="11052"/>
                  <a:pt x="14560" y="11112"/>
                </a:cubicBezTo>
                <a:cubicBezTo>
                  <a:pt x="14568" y="11120"/>
                  <a:pt x="14577" y="11129"/>
                  <a:pt x="14585" y="11137"/>
                </a:cubicBezTo>
                <a:cubicBezTo>
                  <a:pt x="14406" y="11277"/>
                  <a:pt x="14200" y="11379"/>
                  <a:pt x="14015" y="11509"/>
                </a:cubicBezTo>
                <a:cubicBezTo>
                  <a:pt x="13998" y="11526"/>
                  <a:pt x="13982" y="11542"/>
                  <a:pt x="13965" y="11559"/>
                </a:cubicBezTo>
              </a:path>
              <a:path w="3474" h="795">
                <a:moveTo>
                  <a:pt x="14635" y="11336"/>
                </a:moveTo>
                <a:cubicBezTo>
                  <a:pt x="14532" y="11480"/>
                  <a:pt x="14337" y="11574"/>
                  <a:pt x="14188" y="11683"/>
                </a:cubicBezTo>
                <a:cubicBezTo>
                  <a:pt x="14118" y="11734"/>
                  <a:pt x="14158" y="11707"/>
                  <a:pt x="14238" y="11683"/>
                </a:cubicBezTo>
              </a:path>
              <a:path w="3474" h="795">
                <a:moveTo>
                  <a:pt x="15131" y="10988"/>
                </a:moveTo>
                <a:cubicBezTo>
                  <a:pt x="15115" y="11215"/>
                  <a:pt x="15099" y="11440"/>
                  <a:pt x="15032" y="11658"/>
                </a:cubicBezTo>
                <a:cubicBezTo>
                  <a:pt x="15010" y="11702"/>
                  <a:pt x="14997" y="11723"/>
                  <a:pt x="15032" y="11683"/>
                </a:cubicBezTo>
              </a:path>
              <a:path w="3474" h="795">
                <a:moveTo>
                  <a:pt x="15627" y="11112"/>
                </a:moveTo>
                <a:cubicBezTo>
                  <a:pt x="15539" y="11027"/>
                  <a:pt x="15445" y="11350"/>
                  <a:pt x="15429" y="11410"/>
                </a:cubicBezTo>
                <a:cubicBezTo>
                  <a:pt x="15406" y="11550"/>
                  <a:pt x="15392" y="11592"/>
                  <a:pt x="15478" y="11658"/>
                </a:cubicBezTo>
                <a:cubicBezTo>
                  <a:pt x="15756" y="11671"/>
                  <a:pt x="15887" y="11600"/>
                  <a:pt x="15900" y="11286"/>
                </a:cubicBezTo>
                <a:cubicBezTo>
                  <a:pt x="15906" y="11139"/>
                  <a:pt x="15780" y="11126"/>
                  <a:pt x="15677" y="110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028000" y="2786040"/>
            <a:ext cx="276120" cy="268200"/>
          </a:xfrm>
          <a:custGeom>
            <a:avLst/>
            <a:gdLst/>
            <a:ahLst/>
            <a:rect l="l" t="t" r="r" b="b"/>
            <a:pathLst>
              <a:path w="770" h="745">
                <a:moveTo>
                  <a:pt x="22299" y="7813"/>
                </a:moveTo>
                <a:cubicBezTo>
                  <a:pt x="22299" y="7931"/>
                  <a:pt x="22322" y="8039"/>
                  <a:pt x="22324" y="8161"/>
                </a:cubicBezTo>
                <a:cubicBezTo>
                  <a:pt x="22326" y="8269"/>
                  <a:pt x="22279" y="8565"/>
                  <a:pt x="22349" y="8483"/>
                </a:cubicBezTo>
                <a:cubicBezTo>
                  <a:pt x="22357" y="8467"/>
                  <a:pt x="22366" y="8450"/>
                  <a:pt x="22374" y="8434"/>
                </a:cubicBezTo>
              </a:path>
              <a:path w="770" h="745">
                <a:moveTo>
                  <a:pt x="22820" y="7739"/>
                </a:moveTo>
                <a:cubicBezTo>
                  <a:pt x="22747" y="7911"/>
                  <a:pt x="22607" y="8137"/>
                  <a:pt x="22671" y="8334"/>
                </a:cubicBezTo>
                <a:cubicBezTo>
                  <a:pt x="22696" y="8367"/>
                  <a:pt x="22721" y="8401"/>
                  <a:pt x="22746" y="8434"/>
                </a:cubicBezTo>
                <a:cubicBezTo>
                  <a:pt x="22966" y="8406"/>
                  <a:pt x="23057" y="8302"/>
                  <a:pt x="23068" y="8062"/>
                </a:cubicBezTo>
                <a:cubicBezTo>
                  <a:pt x="23075" y="7901"/>
                  <a:pt x="22915" y="7873"/>
                  <a:pt x="22796" y="786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95920" y="4491000"/>
            <a:ext cx="312480" cy="223920"/>
          </a:xfrm>
          <a:custGeom>
            <a:avLst/>
            <a:gdLst/>
            <a:ahLst/>
            <a:rect l="l" t="t" r="r" b="b"/>
            <a:pathLst>
              <a:path w="869" h="621">
                <a:moveTo>
                  <a:pt x="13469" y="12626"/>
                </a:moveTo>
                <a:cubicBezTo>
                  <a:pt x="13531" y="12667"/>
                  <a:pt x="13759" y="12545"/>
                  <a:pt x="13841" y="12526"/>
                </a:cubicBezTo>
                <a:cubicBezTo>
                  <a:pt x="13946" y="12501"/>
                  <a:pt x="14078" y="12477"/>
                  <a:pt x="14188" y="12477"/>
                </a:cubicBezTo>
              </a:path>
              <a:path w="869" h="621">
                <a:moveTo>
                  <a:pt x="13444" y="12700"/>
                </a:moveTo>
                <a:cubicBezTo>
                  <a:pt x="13561" y="12772"/>
                  <a:pt x="13661" y="12810"/>
                  <a:pt x="13791" y="12849"/>
                </a:cubicBezTo>
                <a:cubicBezTo>
                  <a:pt x="13831" y="12861"/>
                  <a:pt x="13930" y="12878"/>
                  <a:pt x="13965" y="12898"/>
                </a:cubicBezTo>
                <a:cubicBezTo>
                  <a:pt x="13984" y="12909"/>
                  <a:pt x="14081" y="12913"/>
                  <a:pt x="14089" y="12923"/>
                </a:cubicBezTo>
                <a:cubicBezTo>
                  <a:pt x="14089" y="12948"/>
                  <a:pt x="14089" y="12956"/>
                  <a:pt x="14114" y="12948"/>
                </a:cubicBezTo>
              </a:path>
              <a:path w="869" h="621">
                <a:moveTo>
                  <a:pt x="13345" y="12849"/>
                </a:moveTo>
                <a:cubicBezTo>
                  <a:pt x="13337" y="12841"/>
                  <a:pt x="13328" y="12832"/>
                  <a:pt x="13320" y="12824"/>
                </a:cubicBezTo>
                <a:cubicBezTo>
                  <a:pt x="13381" y="12824"/>
                  <a:pt x="13385" y="12855"/>
                  <a:pt x="13444" y="12874"/>
                </a:cubicBezTo>
                <a:cubicBezTo>
                  <a:pt x="13544" y="12907"/>
                  <a:pt x="13642" y="12939"/>
                  <a:pt x="13742" y="12973"/>
                </a:cubicBezTo>
                <a:cubicBezTo>
                  <a:pt x="13818" y="12999"/>
                  <a:pt x="13890" y="13030"/>
                  <a:pt x="13965" y="13047"/>
                </a:cubicBezTo>
                <a:cubicBezTo>
                  <a:pt x="14001" y="13055"/>
                  <a:pt x="14030" y="13068"/>
                  <a:pt x="14064" y="13072"/>
                </a:cubicBezTo>
                <a:cubicBezTo>
                  <a:pt x="14089" y="13072"/>
                  <a:pt x="14097" y="13072"/>
                  <a:pt x="14089" y="1309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813800" y="4394160"/>
            <a:ext cx="187200" cy="196920"/>
          </a:xfrm>
          <a:custGeom>
            <a:avLst/>
            <a:gdLst/>
            <a:ahLst/>
            <a:rect l="l" t="t" r="r" b="b"/>
            <a:pathLst>
              <a:path w="522" h="547">
                <a:moveTo>
                  <a:pt x="22225" y="12402"/>
                </a:moveTo>
                <a:cubicBezTo>
                  <a:pt x="22225" y="12335"/>
                  <a:pt x="22160" y="12260"/>
                  <a:pt x="22101" y="12229"/>
                </a:cubicBezTo>
                <a:cubicBezTo>
                  <a:pt x="21955" y="12154"/>
                  <a:pt x="21748" y="12204"/>
                  <a:pt x="21704" y="12378"/>
                </a:cubicBezTo>
                <a:cubicBezTo>
                  <a:pt x="21651" y="12590"/>
                  <a:pt x="22022" y="12455"/>
                  <a:pt x="22076" y="12402"/>
                </a:cubicBezTo>
                <a:cubicBezTo>
                  <a:pt x="22113" y="12329"/>
                  <a:pt x="22101" y="12296"/>
                  <a:pt x="22151" y="12303"/>
                </a:cubicBezTo>
                <a:cubicBezTo>
                  <a:pt x="22151" y="12446"/>
                  <a:pt x="22144" y="12598"/>
                  <a:pt x="22175" y="12725"/>
                </a:cubicBezTo>
                <a:cubicBezTo>
                  <a:pt x="22175" y="12733"/>
                  <a:pt x="22175" y="12742"/>
                  <a:pt x="22175" y="127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017960" y="5259240"/>
            <a:ext cx="696960" cy="223920"/>
          </a:xfrm>
          <a:custGeom>
            <a:avLst/>
            <a:gdLst/>
            <a:ahLst/>
            <a:rect l="l" t="t" r="r" b="b"/>
            <a:pathLst>
              <a:path w="1936" h="621">
                <a:moveTo>
                  <a:pt x="11261" y="14957"/>
                </a:moveTo>
                <a:cubicBezTo>
                  <a:pt x="11403" y="14950"/>
                  <a:pt x="11540" y="14932"/>
                  <a:pt x="11683" y="14932"/>
                </a:cubicBezTo>
                <a:cubicBezTo>
                  <a:pt x="11668" y="14860"/>
                  <a:pt x="11623" y="14778"/>
                  <a:pt x="11559" y="14734"/>
                </a:cubicBezTo>
                <a:cubicBezTo>
                  <a:pt x="11426" y="14643"/>
                  <a:pt x="11247" y="14735"/>
                  <a:pt x="11187" y="14883"/>
                </a:cubicBezTo>
                <a:cubicBezTo>
                  <a:pt x="11070" y="15171"/>
                  <a:pt x="11283" y="15236"/>
                  <a:pt x="11509" y="15205"/>
                </a:cubicBezTo>
                <a:cubicBezTo>
                  <a:pt x="11567" y="15197"/>
                  <a:pt x="11628" y="15202"/>
                  <a:pt x="11683" y="15180"/>
                </a:cubicBezTo>
                <a:cubicBezTo>
                  <a:pt x="11716" y="15164"/>
                  <a:pt x="11749" y="15147"/>
                  <a:pt x="11782" y="15131"/>
                </a:cubicBezTo>
              </a:path>
              <a:path w="1936" h="621">
                <a:moveTo>
                  <a:pt x="11956" y="14982"/>
                </a:moveTo>
                <a:cubicBezTo>
                  <a:pt x="12050" y="14948"/>
                  <a:pt x="12132" y="14922"/>
                  <a:pt x="12229" y="14908"/>
                </a:cubicBezTo>
              </a:path>
              <a:path w="1936" h="621">
                <a:moveTo>
                  <a:pt x="12477" y="14610"/>
                </a:moveTo>
                <a:cubicBezTo>
                  <a:pt x="12497" y="14751"/>
                  <a:pt x="12544" y="14893"/>
                  <a:pt x="12576" y="15032"/>
                </a:cubicBezTo>
                <a:cubicBezTo>
                  <a:pt x="12595" y="15106"/>
                  <a:pt x="12603" y="15113"/>
                  <a:pt x="12601" y="15156"/>
                </a:cubicBezTo>
              </a:path>
              <a:path w="1936" h="621">
                <a:moveTo>
                  <a:pt x="12725" y="14709"/>
                </a:moveTo>
                <a:cubicBezTo>
                  <a:pt x="12840" y="14686"/>
                  <a:pt x="12872" y="14677"/>
                  <a:pt x="12948" y="14684"/>
                </a:cubicBezTo>
                <a:cubicBezTo>
                  <a:pt x="13010" y="14849"/>
                  <a:pt x="12912" y="14917"/>
                  <a:pt x="12824" y="15056"/>
                </a:cubicBezTo>
                <a:cubicBezTo>
                  <a:pt x="12816" y="15073"/>
                  <a:pt x="12807" y="15089"/>
                  <a:pt x="12799" y="15106"/>
                </a:cubicBezTo>
                <a:cubicBezTo>
                  <a:pt x="12898" y="15106"/>
                  <a:pt x="12998" y="15106"/>
                  <a:pt x="13097" y="1510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875120" y="5187960"/>
            <a:ext cx="455760" cy="277920"/>
          </a:xfrm>
          <a:custGeom>
            <a:avLst/>
            <a:gdLst/>
            <a:ahLst/>
            <a:rect l="l" t="t" r="r" b="b"/>
            <a:pathLst>
              <a:path w="1266" h="769">
                <a:moveTo>
                  <a:pt x="13866" y="14461"/>
                </a:moveTo>
                <a:cubicBezTo>
                  <a:pt x="13844" y="14396"/>
                  <a:pt x="13626" y="14699"/>
                  <a:pt x="13593" y="14734"/>
                </a:cubicBezTo>
                <a:cubicBezTo>
                  <a:pt x="13554" y="14773"/>
                  <a:pt x="13537" y="14774"/>
                  <a:pt x="13543" y="14808"/>
                </a:cubicBezTo>
                <a:cubicBezTo>
                  <a:pt x="13692" y="14841"/>
                  <a:pt x="13842" y="14860"/>
                  <a:pt x="13990" y="14883"/>
                </a:cubicBezTo>
                <a:cubicBezTo>
                  <a:pt x="13998" y="14883"/>
                  <a:pt x="14007" y="14883"/>
                  <a:pt x="14015" y="14883"/>
                </a:cubicBezTo>
              </a:path>
              <a:path w="1266" h="769">
                <a:moveTo>
                  <a:pt x="13568" y="15007"/>
                </a:moveTo>
                <a:cubicBezTo>
                  <a:pt x="13653" y="15007"/>
                  <a:pt x="13760" y="15018"/>
                  <a:pt x="13841" y="15032"/>
                </a:cubicBezTo>
                <a:cubicBezTo>
                  <a:pt x="13900" y="15042"/>
                  <a:pt x="13913" y="15056"/>
                  <a:pt x="13965" y="15056"/>
                </a:cubicBezTo>
              </a:path>
              <a:path w="1266" h="769">
                <a:moveTo>
                  <a:pt x="14709" y="14635"/>
                </a:moveTo>
                <a:cubicBezTo>
                  <a:pt x="14758" y="14647"/>
                  <a:pt x="14779" y="14672"/>
                  <a:pt x="14759" y="14585"/>
                </a:cubicBezTo>
                <a:cubicBezTo>
                  <a:pt x="14739" y="14499"/>
                  <a:pt x="14729" y="14407"/>
                  <a:pt x="14610" y="14412"/>
                </a:cubicBezTo>
                <a:cubicBezTo>
                  <a:pt x="14497" y="14417"/>
                  <a:pt x="14430" y="14649"/>
                  <a:pt x="14436" y="14734"/>
                </a:cubicBezTo>
                <a:cubicBezTo>
                  <a:pt x="14451" y="14929"/>
                  <a:pt x="14696" y="14786"/>
                  <a:pt x="14759" y="14734"/>
                </a:cubicBezTo>
                <a:cubicBezTo>
                  <a:pt x="14805" y="14696"/>
                  <a:pt x="14726" y="14570"/>
                  <a:pt x="14784" y="14585"/>
                </a:cubicBezTo>
                <a:cubicBezTo>
                  <a:pt x="14792" y="14593"/>
                  <a:pt x="14800" y="14602"/>
                  <a:pt x="14808" y="14610"/>
                </a:cubicBezTo>
                <a:cubicBezTo>
                  <a:pt x="14763" y="14702"/>
                  <a:pt x="14784" y="14923"/>
                  <a:pt x="14784" y="15056"/>
                </a:cubicBezTo>
                <a:cubicBezTo>
                  <a:pt x="14784" y="15134"/>
                  <a:pt x="14760" y="15164"/>
                  <a:pt x="14808" y="151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848040" y="3660840"/>
            <a:ext cx="4081680" cy="125280"/>
          </a:xfrm>
          <a:custGeom>
            <a:avLst/>
            <a:gdLst/>
            <a:ahLst/>
            <a:rect l="l" t="t" r="r" b="b"/>
            <a:pathLst>
              <a:path w="11337" h="348">
                <a:moveTo>
                  <a:pt x="10691" y="10195"/>
                </a:moveTo>
                <a:cubicBezTo>
                  <a:pt x="10889" y="10177"/>
                  <a:pt x="11085" y="10172"/>
                  <a:pt x="11286" y="10170"/>
                </a:cubicBezTo>
                <a:cubicBezTo>
                  <a:pt x="11438" y="10168"/>
                  <a:pt x="11560" y="10201"/>
                  <a:pt x="11708" y="10220"/>
                </a:cubicBezTo>
                <a:cubicBezTo>
                  <a:pt x="11880" y="10242"/>
                  <a:pt x="12055" y="10242"/>
                  <a:pt x="12229" y="10244"/>
                </a:cubicBezTo>
                <a:cubicBezTo>
                  <a:pt x="12433" y="10246"/>
                  <a:pt x="12600" y="10245"/>
                  <a:pt x="12799" y="10294"/>
                </a:cubicBezTo>
                <a:cubicBezTo>
                  <a:pt x="13023" y="10349"/>
                  <a:pt x="13139" y="10326"/>
                  <a:pt x="13370" y="10319"/>
                </a:cubicBezTo>
                <a:cubicBezTo>
                  <a:pt x="13570" y="10313"/>
                  <a:pt x="13767" y="10324"/>
                  <a:pt x="13965" y="10344"/>
                </a:cubicBezTo>
                <a:cubicBezTo>
                  <a:pt x="14114" y="10359"/>
                  <a:pt x="14262" y="10378"/>
                  <a:pt x="14412" y="10393"/>
                </a:cubicBezTo>
                <a:cubicBezTo>
                  <a:pt x="14571" y="10409"/>
                  <a:pt x="14725" y="10446"/>
                  <a:pt x="14883" y="10468"/>
                </a:cubicBezTo>
                <a:cubicBezTo>
                  <a:pt x="15046" y="10490"/>
                  <a:pt x="15214" y="10490"/>
                  <a:pt x="15379" y="10492"/>
                </a:cubicBezTo>
                <a:cubicBezTo>
                  <a:pt x="15572" y="10494"/>
                  <a:pt x="15757" y="10512"/>
                  <a:pt x="15949" y="10517"/>
                </a:cubicBezTo>
                <a:cubicBezTo>
                  <a:pt x="16208" y="10524"/>
                  <a:pt x="16462" y="10509"/>
                  <a:pt x="16718" y="10492"/>
                </a:cubicBezTo>
                <a:cubicBezTo>
                  <a:pt x="16926" y="10478"/>
                  <a:pt x="17131" y="10453"/>
                  <a:pt x="17338" y="10443"/>
                </a:cubicBezTo>
                <a:cubicBezTo>
                  <a:pt x="17537" y="10434"/>
                  <a:pt x="17736" y="10423"/>
                  <a:pt x="17934" y="10418"/>
                </a:cubicBezTo>
                <a:cubicBezTo>
                  <a:pt x="18160" y="10412"/>
                  <a:pt x="18379" y="10436"/>
                  <a:pt x="18604" y="10443"/>
                </a:cubicBezTo>
                <a:cubicBezTo>
                  <a:pt x="18780" y="10448"/>
                  <a:pt x="18949" y="10423"/>
                  <a:pt x="19124" y="10418"/>
                </a:cubicBezTo>
                <a:cubicBezTo>
                  <a:pt x="19343" y="10411"/>
                  <a:pt x="19553" y="10436"/>
                  <a:pt x="19769" y="10443"/>
                </a:cubicBezTo>
                <a:cubicBezTo>
                  <a:pt x="20035" y="10451"/>
                  <a:pt x="20300" y="10439"/>
                  <a:pt x="20563" y="10418"/>
                </a:cubicBezTo>
                <a:cubicBezTo>
                  <a:pt x="20737" y="10404"/>
                  <a:pt x="20912" y="10387"/>
                  <a:pt x="21084" y="10368"/>
                </a:cubicBezTo>
                <a:cubicBezTo>
                  <a:pt x="21200" y="10355"/>
                  <a:pt x="21315" y="10355"/>
                  <a:pt x="21431" y="10344"/>
                </a:cubicBezTo>
                <a:cubicBezTo>
                  <a:pt x="21493" y="10338"/>
                  <a:pt x="21576" y="10315"/>
                  <a:pt x="21654" y="10319"/>
                </a:cubicBezTo>
                <a:cubicBezTo>
                  <a:pt x="21749" y="10324"/>
                  <a:pt x="21856" y="10330"/>
                  <a:pt x="21952" y="10344"/>
                </a:cubicBezTo>
                <a:cubicBezTo>
                  <a:pt x="21985" y="10349"/>
                  <a:pt x="21994" y="10365"/>
                  <a:pt x="22027" y="103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270"/>
                                        </p:tgtEl>
                                        <p:attrNameLst>
                                          <p:attrName>style.visibility</p:attrName>
                                        </p:attrNameLst>
                                      </p:cBhvr>
                                      <p:to>
                                        <p:strVal val="visible"/>
                                      </p:to>
                                    </p:set>
                                    <p:anim calcmode="lin" valueType="num">
                                      <p:cBhvr additive="base">
                                        <p:cTn id="159" dur="500" fill="hold"/>
                                        <p:tgtEl>
                                          <p:spTgt spid="270"/>
                                        </p:tgtEl>
                                        <p:attrNameLst>
                                          <p:attrName>ppt_x</p:attrName>
                                        </p:attrNameLst>
                                      </p:cBhvr>
                                      <p:tavLst>
                                        <p:tav tm="0">
                                          <p:val>
                                            <p:strVal val="#ppt_x"/>
                                          </p:val>
                                        </p:tav>
                                        <p:tav tm="100000">
                                          <p:val>
                                            <p:strVal val="#ppt_x"/>
                                          </p:val>
                                        </p:tav>
                                      </p:tavLst>
                                    </p:anim>
                                    <p:anim calcmode="lin" valueType="num">
                                      <p:cBhvr additive="base">
                                        <p:cTn id="160"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71">
                                            <p:txEl>
                                              <p:pRg st="0" end="0"/>
                                            </p:txEl>
                                          </p:spTgt>
                                        </p:tgtEl>
                                        <p:attrNameLst>
                                          <p:attrName>style.visibility</p:attrName>
                                        </p:attrNameLst>
                                      </p:cBhvr>
                                      <p:to>
                                        <p:strVal val="visible"/>
                                      </p:to>
                                    </p:set>
                                    <p:anim calcmode="lin" valueType="num">
                                      <p:cBhvr additive="base">
                                        <p:cTn id="165"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71">
                                            <p:txEl>
                                              <p:pRg st="3" end="3"/>
                                            </p:txEl>
                                          </p:spTgt>
                                        </p:tgtEl>
                                        <p:attrNameLst>
                                          <p:attrName>style.visibility</p:attrName>
                                        </p:attrNameLst>
                                      </p:cBhvr>
                                      <p:to>
                                        <p:strVal val="visible"/>
                                      </p:to>
                                    </p:set>
                                    <p:anim calcmode="lin" valueType="num">
                                      <p:cBhvr additive="base">
                                        <p:cTn id="171"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2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71">
                                            <p:txEl>
                                              <p:pRg st="6" end="6"/>
                                            </p:txEl>
                                          </p:spTgt>
                                        </p:tgtEl>
                                        <p:attrNameLst>
                                          <p:attrName>style.visibility</p:attrName>
                                        </p:attrNameLst>
                                      </p:cBhvr>
                                      <p:to>
                                        <p:strVal val="visible"/>
                                      </p:to>
                                    </p:set>
                                    <p:anim calcmode="lin" valueType="num">
                                      <p:cBhvr additive="base">
                                        <p:cTn id="177" dur="500" fill="hold"/>
                                        <p:tgtEl>
                                          <p:spTgt spid="271">
                                            <p:txEl>
                                              <p:pRg st="6" end="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240" y="151920"/>
            <a:ext cx="73278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ive:  Students will write equations and inequalities</a:t>
            </a:r>
            <a:r>
              <a:rPr b="0" lang="en-US" sz="3200" spc="-1" strike="noStrike">
                <a:solidFill>
                  <a:srgbClr val="ff0000"/>
                </a:solidFill>
                <a:latin typeface="Comic Sans MS"/>
              </a:rPr>
              <a:t> </a:t>
            </a:r>
            <a:br>
              <a:rPr sz="3200"/>
            </a:br>
            <a:r>
              <a:rPr b="0" lang="en-US" sz="3200" spc="-1" strike="noStrike">
                <a:solidFill>
                  <a:srgbClr val="ff0000"/>
                </a:solidFill>
                <a:latin typeface="Comic Sans MS"/>
              </a:rPr>
              <a:t>Examples: Write an inequality for each sentence.</a:t>
            </a:r>
            <a:endParaRPr b="0" lang="en-US" sz="3200" spc="-1" strike="noStrike">
              <a:solidFill>
                <a:srgbClr val="000000"/>
              </a:solidFill>
              <a:latin typeface="Comic Sans MS"/>
            </a:endParaRPr>
          </a:p>
        </p:txBody>
      </p:sp>
      <p:sp>
        <p:nvSpPr>
          <p:cNvPr id="2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5 more than a number is greater than 12</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42 minus a number is less tha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n divided by 7 is less than or equal to 21</a:t>
            </a:r>
            <a:endParaRPr b="0" lang="en-US" sz="2800" spc="-1" strike="noStrike">
              <a:solidFill>
                <a:srgbClr val="000000"/>
              </a:solidFill>
              <a:latin typeface="Comic Sans MS"/>
            </a:endParaRPr>
          </a:p>
        </p:txBody>
      </p:sp>
      <p:graphicFrame>
        <p:nvGraphicFramePr>
          <p:cNvPr id="294" name=""/>
          <p:cNvGraphicFramePr/>
          <p:nvPr/>
        </p:nvGraphicFramePr>
        <p:xfrm>
          <a:off x="6629400" y="2819520"/>
          <a:ext cx="698400" cy="939600"/>
        </p:xfrm>
        <a:graphic>
          <a:graphicData uri="http://schemas.openxmlformats.org/presentationml/2006/ole">
            <p:oleObj r:id="rId1" spid="">
              <p:embed/>
              <p:pic>
                <p:nvPicPr>
                  <p:cNvPr id="295" name="" descr=""/>
                  <p:cNvPicPr/>
                  <p:nvPr/>
                </p:nvPicPr>
                <p:blipFill>
                  <a:blip r:embed="rId2"/>
                  <a:stretch/>
                </p:blipFill>
                <p:spPr>
                  <a:xfrm>
                    <a:off x="6629400" y="2819520"/>
                    <a:ext cx="698400" cy="939600"/>
                  </a:xfrm>
                  <a:prstGeom prst="rect">
                    <a:avLst/>
                  </a:prstGeom>
                  <a:ln w="0">
                    <a:noFill/>
                  </a:ln>
                </p:spPr>
              </p:pic>
            </p:oleObj>
          </a:graphicData>
        </a:graphic>
      </p:graphicFrame>
      <p:sp>
        <p:nvSpPr>
          <p:cNvPr id="296" name=""/>
          <p:cNvSpPr/>
          <p:nvPr/>
        </p:nvSpPr>
        <p:spPr>
          <a:xfrm>
            <a:off x="1339920" y="1581120"/>
            <a:ext cx="169920" cy="204840"/>
          </a:xfrm>
          <a:custGeom>
            <a:avLst/>
            <a:gdLst/>
            <a:ahLst/>
            <a:rect l="l" t="t" r="r" b="b"/>
            <a:pathLst>
              <a:path w="472" h="572">
                <a:moveTo>
                  <a:pt x="4093" y="4390"/>
                </a:moveTo>
                <a:cubicBezTo>
                  <a:pt x="4001" y="4390"/>
                  <a:pt x="3915" y="4412"/>
                  <a:pt x="3820" y="4415"/>
                </a:cubicBezTo>
                <a:cubicBezTo>
                  <a:pt x="3740" y="4417"/>
                  <a:pt x="3703" y="4395"/>
                  <a:pt x="3721" y="4490"/>
                </a:cubicBezTo>
                <a:cubicBezTo>
                  <a:pt x="3746" y="4589"/>
                  <a:pt x="3754" y="4622"/>
                  <a:pt x="3770" y="4688"/>
                </a:cubicBezTo>
                <a:cubicBezTo>
                  <a:pt x="3770" y="4696"/>
                  <a:pt x="3770" y="4705"/>
                  <a:pt x="3770" y="4713"/>
                </a:cubicBezTo>
                <a:cubicBezTo>
                  <a:pt x="3864" y="4666"/>
                  <a:pt x="3913" y="4560"/>
                  <a:pt x="4043" y="4589"/>
                </a:cubicBezTo>
                <a:cubicBezTo>
                  <a:pt x="4194" y="4623"/>
                  <a:pt x="4245" y="4808"/>
                  <a:pt x="4118" y="4911"/>
                </a:cubicBezTo>
                <a:cubicBezTo>
                  <a:pt x="4018" y="4992"/>
                  <a:pt x="3891" y="4965"/>
                  <a:pt x="3795" y="4936"/>
                </a:cubicBezTo>
                <a:cubicBezTo>
                  <a:pt x="3749" y="4922"/>
                  <a:pt x="3811" y="4972"/>
                  <a:pt x="3770" y="49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33880" y="1697040"/>
            <a:ext cx="152280" cy="177840"/>
          </a:xfrm>
          <a:custGeom>
            <a:avLst/>
            <a:gdLst/>
            <a:ahLst/>
            <a:rect l="l" t="t" r="r" b="b"/>
            <a:pathLst>
              <a:path w="422" h="497">
                <a:moveTo>
                  <a:pt x="11509" y="4738"/>
                </a:moveTo>
                <a:cubicBezTo>
                  <a:pt x="11595" y="4738"/>
                  <a:pt x="11704" y="4706"/>
                  <a:pt x="11782" y="4713"/>
                </a:cubicBezTo>
                <a:cubicBezTo>
                  <a:pt x="11790" y="4721"/>
                  <a:pt x="11799" y="4730"/>
                  <a:pt x="11807" y="4738"/>
                </a:cubicBezTo>
                <a:cubicBezTo>
                  <a:pt x="11759" y="4855"/>
                  <a:pt x="11640" y="4978"/>
                  <a:pt x="11559" y="5085"/>
                </a:cubicBezTo>
                <a:cubicBezTo>
                  <a:pt x="11505" y="5158"/>
                  <a:pt x="11480" y="5158"/>
                  <a:pt x="11485" y="5209"/>
                </a:cubicBezTo>
                <a:cubicBezTo>
                  <a:pt x="11612" y="5180"/>
                  <a:pt x="11724" y="5157"/>
                  <a:pt x="11832" y="5085"/>
                </a:cubicBezTo>
              </a:path>
              <a:path w="422" h="497">
                <a:moveTo>
                  <a:pt x="11857" y="5085"/>
                </a:moveTo>
                <a:cubicBezTo>
                  <a:pt x="11881" y="5085"/>
                  <a:pt x="11890" y="5085"/>
                  <a:pt x="11906" y="508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490760" y="1830240"/>
            <a:ext cx="2768400" cy="866880"/>
          </a:xfrm>
          <a:custGeom>
            <a:avLst/>
            <a:gdLst/>
            <a:ahLst/>
            <a:rect l="l" t="t" r="r" b="b"/>
            <a:pathLst>
              <a:path w="7691" h="2407">
                <a:moveTo>
                  <a:pt x="11832" y="5085"/>
                </a:moveTo>
                <a:lnTo>
                  <a:pt x="11832" y="5085"/>
                </a:lnTo>
              </a:path>
              <a:path w="7691" h="2407">
                <a:moveTo>
                  <a:pt x="4242" y="6796"/>
                </a:moveTo>
                <a:cubicBezTo>
                  <a:pt x="4192" y="7029"/>
                  <a:pt x="4179" y="7259"/>
                  <a:pt x="4142" y="74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366920" y="2463840"/>
            <a:ext cx="320760" cy="277920"/>
          </a:xfrm>
          <a:custGeom>
            <a:avLst/>
            <a:gdLst/>
            <a:ahLst/>
            <a:rect l="l" t="t" r="r" b="b"/>
            <a:pathLst>
              <a:path w="894" h="770">
                <a:moveTo>
                  <a:pt x="3919" y="6846"/>
                </a:moveTo>
                <a:cubicBezTo>
                  <a:pt x="3919" y="7010"/>
                  <a:pt x="3891" y="7088"/>
                  <a:pt x="3795" y="7218"/>
                </a:cubicBezTo>
                <a:cubicBezTo>
                  <a:pt x="3918" y="7146"/>
                  <a:pt x="4014" y="7162"/>
                  <a:pt x="4142" y="7243"/>
                </a:cubicBezTo>
                <a:cubicBezTo>
                  <a:pt x="4165" y="7266"/>
                  <a:pt x="4173" y="7277"/>
                  <a:pt x="4167" y="7243"/>
                </a:cubicBezTo>
              </a:path>
              <a:path w="894" h="770">
                <a:moveTo>
                  <a:pt x="4390" y="7094"/>
                </a:moveTo>
                <a:cubicBezTo>
                  <a:pt x="4448" y="7038"/>
                  <a:pt x="4475" y="7019"/>
                  <a:pt x="4539" y="7020"/>
                </a:cubicBezTo>
                <a:cubicBezTo>
                  <a:pt x="4647" y="7198"/>
                  <a:pt x="4535" y="7301"/>
                  <a:pt x="4390" y="7441"/>
                </a:cubicBezTo>
                <a:cubicBezTo>
                  <a:pt x="4273" y="7539"/>
                  <a:pt x="4253" y="7551"/>
                  <a:pt x="4192" y="7615"/>
                </a:cubicBezTo>
                <a:cubicBezTo>
                  <a:pt x="4276" y="7547"/>
                  <a:pt x="4381" y="7530"/>
                  <a:pt x="4490" y="7541"/>
                </a:cubicBezTo>
                <a:cubicBezTo>
                  <a:pt x="4558" y="7548"/>
                  <a:pt x="4637" y="7576"/>
                  <a:pt x="4688" y="76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251080" y="2759040"/>
            <a:ext cx="187200" cy="9720"/>
          </a:xfrm>
          <a:custGeom>
            <a:avLst/>
            <a:gdLst/>
            <a:ahLst/>
            <a:rect l="l" t="t" r="r" b="b"/>
            <a:pathLst>
              <a:path w="522" h="25">
                <a:moveTo>
                  <a:pt x="6251" y="7665"/>
                </a:moveTo>
                <a:cubicBezTo>
                  <a:pt x="6395" y="7665"/>
                  <a:pt x="6536" y="7664"/>
                  <a:pt x="6672" y="7689"/>
                </a:cubicBezTo>
                <a:cubicBezTo>
                  <a:pt x="6701" y="7694"/>
                  <a:pt x="6744" y="7689"/>
                  <a:pt x="6772" y="7689"/>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1" name=""/>
          <p:cNvSpPr/>
          <p:nvPr/>
        </p:nvSpPr>
        <p:spPr>
          <a:xfrm>
            <a:off x="2276640" y="1687680"/>
            <a:ext cx="260280" cy="214200"/>
          </a:xfrm>
          <a:custGeom>
            <a:avLst/>
            <a:gdLst/>
            <a:ahLst/>
            <a:rect l="l" t="t" r="r" b="b"/>
            <a:pathLst>
              <a:path w="721" h="596">
                <a:moveTo>
                  <a:pt x="6449" y="4961"/>
                </a:moveTo>
                <a:cubicBezTo>
                  <a:pt x="6573" y="4961"/>
                  <a:pt x="6676" y="4913"/>
                  <a:pt x="6796" y="4887"/>
                </a:cubicBezTo>
                <a:cubicBezTo>
                  <a:pt x="6839" y="4887"/>
                  <a:pt x="6864" y="4881"/>
                  <a:pt x="6896" y="4862"/>
                </a:cubicBezTo>
              </a:path>
              <a:path w="721" h="596">
                <a:moveTo>
                  <a:pt x="6573" y="4688"/>
                </a:moveTo>
                <a:cubicBezTo>
                  <a:pt x="6573" y="4777"/>
                  <a:pt x="6620" y="4828"/>
                  <a:pt x="6648" y="4911"/>
                </a:cubicBezTo>
                <a:cubicBezTo>
                  <a:pt x="6682" y="5010"/>
                  <a:pt x="6682" y="5142"/>
                  <a:pt x="6722" y="5234"/>
                </a:cubicBezTo>
                <a:cubicBezTo>
                  <a:pt x="6744" y="5256"/>
                  <a:pt x="6753" y="5261"/>
                  <a:pt x="6747" y="5283"/>
                </a:cubicBezTo>
              </a:path>
              <a:path w="721" h="596">
                <a:moveTo>
                  <a:pt x="6325" y="5135"/>
                </a:moveTo>
                <a:cubicBezTo>
                  <a:pt x="6325" y="5078"/>
                  <a:pt x="6337" y="5079"/>
                  <a:pt x="6400" y="5060"/>
                </a:cubicBezTo>
                <a:cubicBezTo>
                  <a:pt x="6530" y="5021"/>
                  <a:pt x="6688" y="4977"/>
                  <a:pt x="6821" y="4961"/>
                </a:cubicBezTo>
                <a:cubicBezTo>
                  <a:pt x="6867" y="4956"/>
                  <a:pt x="7062" y="4953"/>
                  <a:pt x="7020" y="4911"/>
                </a:cubicBezTo>
              </a:path>
              <a:path w="721" h="596">
                <a:moveTo>
                  <a:pt x="6400" y="5060"/>
                </a:moveTo>
                <a:cubicBezTo>
                  <a:pt x="6563" y="5036"/>
                  <a:pt x="6694" y="4965"/>
                  <a:pt x="6846" y="4911"/>
                </a:cubicBezTo>
                <a:cubicBezTo>
                  <a:pt x="6934" y="4880"/>
                  <a:pt x="6939" y="4904"/>
                  <a:pt x="6995" y="486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688000" y="1633680"/>
            <a:ext cx="258840" cy="260280"/>
          </a:xfrm>
          <a:custGeom>
            <a:avLst/>
            <a:gdLst/>
            <a:ahLst/>
            <a:rect l="l" t="t" r="r" b="b"/>
            <a:pathLst>
              <a:path w="720" h="721">
                <a:moveTo>
                  <a:pt x="15801" y="4564"/>
                </a:moveTo>
                <a:cubicBezTo>
                  <a:pt x="15850" y="4547"/>
                  <a:pt x="15814" y="4531"/>
                  <a:pt x="15875" y="4564"/>
                </a:cubicBezTo>
                <a:cubicBezTo>
                  <a:pt x="16063" y="4666"/>
                  <a:pt x="16274" y="4726"/>
                  <a:pt x="16470" y="4812"/>
                </a:cubicBezTo>
                <a:cubicBezTo>
                  <a:pt x="16487" y="4820"/>
                  <a:pt x="16503" y="4829"/>
                  <a:pt x="16520" y="4837"/>
                </a:cubicBezTo>
                <a:cubicBezTo>
                  <a:pt x="16350" y="4871"/>
                  <a:pt x="16237" y="5044"/>
                  <a:pt x="16098" y="5135"/>
                </a:cubicBezTo>
                <a:cubicBezTo>
                  <a:pt x="15978" y="5195"/>
                  <a:pt x="15951" y="5196"/>
                  <a:pt x="15900" y="52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143680" y="2633760"/>
            <a:ext cx="196560" cy="188640"/>
          </a:xfrm>
          <a:custGeom>
            <a:avLst/>
            <a:gdLst/>
            <a:ahLst/>
            <a:rect l="l" t="t" r="r" b="b"/>
            <a:pathLst>
              <a:path w="546" h="522">
                <a:moveTo>
                  <a:pt x="14833" y="7342"/>
                </a:moveTo>
                <a:cubicBezTo>
                  <a:pt x="14762" y="7306"/>
                  <a:pt x="14498" y="7566"/>
                  <a:pt x="14436" y="7615"/>
                </a:cubicBezTo>
                <a:cubicBezTo>
                  <a:pt x="14347" y="7686"/>
                  <a:pt x="14351" y="7719"/>
                  <a:pt x="14288" y="7714"/>
                </a:cubicBezTo>
                <a:cubicBezTo>
                  <a:pt x="14410" y="7767"/>
                  <a:pt x="14552" y="7763"/>
                  <a:pt x="14684" y="7789"/>
                </a:cubicBezTo>
                <a:cubicBezTo>
                  <a:pt x="14736" y="7799"/>
                  <a:pt x="14820" y="7799"/>
                  <a:pt x="14833" y="78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634160" y="1562040"/>
            <a:ext cx="250920" cy="189000"/>
          </a:xfrm>
          <a:custGeom>
            <a:avLst/>
            <a:gdLst/>
            <a:ahLst/>
            <a:rect l="l" t="t" r="r" b="b"/>
            <a:pathLst>
              <a:path w="696" h="522">
                <a:moveTo>
                  <a:pt x="21208" y="4390"/>
                </a:moveTo>
                <a:cubicBezTo>
                  <a:pt x="21229" y="4514"/>
                  <a:pt x="21307" y="4604"/>
                  <a:pt x="21307" y="4738"/>
                </a:cubicBezTo>
                <a:cubicBezTo>
                  <a:pt x="21307" y="4804"/>
                  <a:pt x="21295" y="4849"/>
                  <a:pt x="21258" y="4862"/>
                </a:cubicBezTo>
              </a:path>
              <a:path w="696" h="522">
                <a:moveTo>
                  <a:pt x="21481" y="4366"/>
                </a:moveTo>
                <a:cubicBezTo>
                  <a:pt x="21507" y="4350"/>
                  <a:pt x="21652" y="4307"/>
                  <a:pt x="21704" y="4366"/>
                </a:cubicBezTo>
                <a:cubicBezTo>
                  <a:pt x="21840" y="4518"/>
                  <a:pt x="21653" y="4700"/>
                  <a:pt x="21555" y="4812"/>
                </a:cubicBezTo>
                <a:cubicBezTo>
                  <a:pt x="21530" y="4837"/>
                  <a:pt x="21522" y="4845"/>
                  <a:pt x="21555" y="4862"/>
                </a:cubicBezTo>
                <a:cubicBezTo>
                  <a:pt x="21672" y="4854"/>
                  <a:pt x="21785" y="4837"/>
                  <a:pt x="21903" y="483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348000" y="2544840"/>
            <a:ext cx="189000" cy="393480"/>
          </a:xfrm>
          <a:custGeom>
            <a:avLst/>
            <a:gdLst/>
            <a:ahLst/>
            <a:rect l="l" t="t" r="r" b="b"/>
            <a:pathLst>
              <a:path w="522" h="1093">
                <a:moveTo>
                  <a:pt x="9773" y="7293"/>
                </a:moveTo>
                <a:cubicBezTo>
                  <a:pt x="9806" y="7177"/>
                  <a:pt x="9728" y="7055"/>
                  <a:pt x="9575" y="7069"/>
                </a:cubicBezTo>
                <a:cubicBezTo>
                  <a:pt x="9426" y="7083"/>
                  <a:pt x="9178" y="7388"/>
                  <a:pt x="9401" y="7466"/>
                </a:cubicBezTo>
                <a:cubicBezTo>
                  <a:pt x="9581" y="7529"/>
                  <a:pt x="9626" y="7384"/>
                  <a:pt x="9699" y="7268"/>
                </a:cubicBezTo>
                <a:cubicBezTo>
                  <a:pt x="9699" y="7243"/>
                  <a:pt x="9699" y="7235"/>
                  <a:pt x="9699" y="7218"/>
                </a:cubicBezTo>
                <a:cubicBezTo>
                  <a:pt x="9736" y="7411"/>
                  <a:pt x="9818" y="7606"/>
                  <a:pt x="9773" y="7813"/>
                </a:cubicBezTo>
                <a:cubicBezTo>
                  <a:pt x="9736" y="7982"/>
                  <a:pt x="9571" y="8185"/>
                  <a:pt x="9401" y="8136"/>
                </a:cubicBezTo>
                <a:cubicBezTo>
                  <a:pt x="9448" y="7909"/>
                  <a:pt x="9500" y="7689"/>
                  <a:pt x="9699" y="7541"/>
                </a:cubicBezTo>
                <a:cubicBezTo>
                  <a:pt x="9772" y="7504"/>
                  <a:pt x="9777" y="7487"/>
                  <a:pt x="9823" y="74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483240" y="2517840"/>
            <a:ext cx="231840" cy="189000"/>
          </a:xfrm>
          <a:custGeom>
            <a:avLst/>
            <a:gdLst/>
            <a:ahLst/>
            <a:rect l="l" t="t" r="r" b="b"/>
            <a:pathLst>
              <a:path w="646" h="522">
                <a:moveTo>
                  <a:pt x="18008" y="7045"/>
                </a:moveTo>
                <a:cubicBezTo>
                  <a:pt x="18008" y="6962"/>
                  <a:pt x="17999" y="7111"/>
                  <a:pt x="18008" y="7193"/>
                </a:cubicBezTo>
                <a:cubicBezTo>
                  <a:pt x="18020" y="7303"/>
                  <a:pt x="18033" y="7404"/>
                  <a:pt x="18033" y="7516"/>
                </a:cubicBezTo>
              </a:path>
              <a:path w="646" h="522">
                <a:moveTo>
                  <a:pt x="18355" y="7069"/>
                </a:moveTo>
                <a:cubicBezTo>
                  <a:pt x="18446" y="7047"/>
                  <a:pt x="18469" y="7039"/>
                  <a:pt x="18529" y="7045"/>
                </a:cubicBezTo>
                <a:cubicBezTo>
                  <a:pt x="18621" y="7245"/>
                  <a:pt x="18465" y="7297"/>
                  <a:pt x="18306" y="7417"/>
                </a:cubicBezTo>
                <a:cubicBezTo>
                  <a:pt x="18298" y="7425"/>
                  <a:pt x="18289" y="7433"/>
                  <a:pt x="18281" y="7441"/>
                </a:cubicBezTo>
                <a:cubicBezTo>
                  <a:pt x="18408" y="7484"/>
                  <a:pt x="18519" y="7491"/>
                  <a:pt x="18653" y="74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885000" y="2455920"/>
            <a:ext cx="133200" cy="357120"/>
          </a:xfrm>
          <a:custGeom>
            <a:avLst/>
            <a:gdLst/>
            <a:ahLst/>
            <a:rect l="l" t="t" r="r" b="b"/>
            <a:pathLst>
              <a:path w="373" h="993">
                <a:moveTo>
                  <a:pt x="19149" y="6896"/>
                </a:moveTo>
                <a:cubicBezTo>
                  <a:pt x="19178" y="6837"/>
                  <a:pt x="19296" y="6793"/>
                  <a:pt x="19372" y="6821"/>
                </a:cubicBezTo>
                <a:cubicBezTo>
                  <a:pt x="19420" y="6839"/>
                  <a:pt x="19305" y="6961"/>
                  <a:pt x="19298" y="6970"/>
                </a:cubicBezTo>
                <a:cubicBezTo>
                  <a:pt x="19349" y="6970"/>
                  <a:pt x="19528" y="6978"/>
                  <a:pt x="19472" y="7069"/>
                </a:cubicBezTo>
                <a:cubicBezTo>
                  <a:pt x="19408" y="7173"/>
                  <a:pt x="19289" y="7150"/>
                  <a:pt x="19199" y="7144"/>
                </a:cubicBezTo>
              </a:path>
              <a:path w="373" h="993">
                <a:moveTo>
                  <a:pt x="19124" y="7243"/>
                </a:moveTo>
                <a:cubicBezTo>
                  <a:pt x="19255" y="7243"/>
                  <a:pt x="19374" y="7237"/>
                  <a:pt x="19496" y="7268"/>
                </a:cubicBezTo>
              </a:path>
              <a:path w="373" h="993">
                <a:moveTo>
                  <a:pt x="19149" y="7417"/>
                </a:moveTo>
                <a:cubicBezTo>
                  <a:pt x="19149" y="7352"/>
                  <a:pt x="19118" y="7539"/>
                  <a:pt x="19124" y="7565"/>
                </a:cubicBezTo>
                <a:cubicBezTo>
                  <a:pt x="19143" y="7646"/>
                  <a:pt x="19259" y="7597"/>
                  <a:pt x="19298" y="7590"/>
                </a:cubicBezTo>
              </a:path>
              <a:path w="373" h="993">
                <a:moveTo>
                  <a:pt x="19348" y="7417"/>
                </a:moveTo>
                <a:cubicBezTo>
                  <a:pt x="19316" y="7527"/>
                  <a:pt x="19281" y="7657"/>
                  <a:pt x="19248" y="7764"/>
                </a:cubicBezTo>
                <a:cubicBezTo>
                  <a:pt x="19226" y="7786"/>
                  <a:pt x="19218" y="7791"/>
                  <a:pt x="19224" y="78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232000" y="4160880"/>
            <a:ext cx="2795760" cy="233280"/>
          </a:xfrm>
          <a:custGeom>
            <a:avLst/>
            <a:gdLst/>
            <a:ahLst/>
            <a:rect l="l" t="t" r="r" b="b"/>
            <a:pathLst>
              <a:path w="7765" h="646">
                <a:moveTo>
                  <a:pt x="6201" y="11559"/>
                </a:moveTo>
                <a:cubicBezTo>
                  <a:pt x="6201" y="11567"/>
                  <a:pt x="6201" y="11576"/>
                  <a:pt x="6201" y="11584"/>
                </a:cubicBezTo>
              </a:path>
              <a:path w="7765" h="646">
                <a:moveTo>
                  <a:pt x="6251" y="12179"/>
                </a:moveTo>
                <a:cubicBezTo>
                  <a:pt x="6251" y="12187"/>
                  <a:pt x="6251" y="12196"/>
                  <a:pt x="6251" y="12204"/>
                </a:cubicBezTo>
              </a:path>
              <a:path w="7765" h="646">
                <a:moveTo>
                  <a:pt x="13965" y="12129"/>
                </a:moveTo>
                <a:lnTo>
                  <a:pt x="13965" y="12129"/>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339920" y="4089240"/>
            <a:ext cx="179280" cy="233640"/>
          </a:xfrm>
          <a:custGeom>
            <a:avLst/>
            <a:gdLst/>
            <a:ahLst/>
            <a:rect l="l" t="t" r="r" b="b"/>
            <a:pathLst>
              <a:path w="497" h="645">
                <a:moveTo>
                  <a:pt x="3721" y="11385"/>
                </a:moveTo>
                <a:cubicBezTo>
                  <a:pt x="3721" y="11559"/>
                  <a:pt x="3764" y="11733"/>
                  <a:pt x="3746" y="11906"/>
                </a:cubicBezTo>
                <a:cubicBezTo>
                  <a:pt x="3722" y="11954"/>
                  <a:pt x="3714" y="11973"/>
                  <a:pt x="3721" y="11906"/>
                </a:cubicBezTo>
                <a:cubicBezTo>
                  <a:pt x="3732" y="11657"/>
                  <a:pt x="3744" y="11536"/>
                  <a:pt x="3919" y="11361"/>
                </a:cubicBezTo>
                <a:cubicBezTo>
                  <a:pt x="4139" y="11499"/>
                  <a:pt x="4189" y="11637"/>
                  <a:pt x="4217" y="11906"/>
                </a:cubicBezTo>
                <a:cubicBezTo>
                  <a:pt x="4217" y="11939"/>
                  <a:pt x="4217" y="11972"/>
                  <a:pt x="4217" y="120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4286160"/>
            <a:ext cx="204480" cy="19080"/>
          </a:xfrm>
          <a:custGeom>
            <a:avLst/>
            <a:gdLst/>
            <a:ahLst/>
            <a:rect l="l" t="t" r="r" b="b"/>
            <a:pathLst>
              <a:path w="571" h="51">
                <a:moveTo>
                  <a:pt x="5904" y="11931"/>
                </a:moveTo>
                <a:cubicBezTo>
                  <a:pt x="5989" y="11879"/>
                  <a:pt x="6199" y="11919"/>
                  <a:pt x="6300" y="11931"/>
                </a:cubicBezTo>
                <a:cubicBezTo>
                  <a:pt x="6377" y="11940"/>
                  <a:pt x="6409" y="11956"/>
                  <a:pt x="6474" y="11956"/>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1" name=""/>
          <p:cNvSpPr/>
          <p:nvPr/>
        </p:nvSpPr>
        <p:spPr>
          <a:xfrm>
            <a:off x="3187800" y="4133880"/>
            <a:ext cx="162000" cy="223920"/>
          </a:xfrm>
          <a:custGeom>
            <a:avLst/>
            <a:gdLst/>
            <a:ahLst/>
            <a:rect l="l" t="t" r="r" b="b"/>
            <a:pathLst>
              <a:path w="448" h="621">
                <a:moveTo>
                  <a:pt x="8880" y="11559"/>
                </a:moveTo>
                <a:cubicBezTo>
                  <a:pt x="8813" y="11559"/>
                  <a:pt x="8963" y="11547"/>
                  <a:pt x="9029" y="11534"/>
                </a:cubicBezTo>
                <a:cubicBezTo>
                  <a:pt x="9121" y="11516"/>
                  <a:pt x="9209" y="11494"/>
                  <a:pt x="9302" y="11485"/>
                </a:cubicBezTo>
                <a:cubicBezTo>
                  <a:pt x="9271" y="11666"/>
                  <a:pt x="9162" y="11821"/>
                  <a:pt x="9079" y="11981"/>
                </a:cubicBezTo>
                <a:cubicBezTo>
                  <a:pt x="9042" y="12054"/>
                  <a:pt x="9025" y="12059"/>
                  <a:pt x="9029" y="121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000680" y="3724200"/>
            <a:ext cx="1027080" cy="677880"/>
          </a:xfrm>
          <a:custGeom>
            <a:avLst/>
            <a:gdLst/>
            <a:ahLst/>
            <a:rect l="l" t="t" r="r" b="b"/>
            <a:pathLst>
              <a:path w="2854" h="1886">
                <a:moveTo>
                  <a:pt x="11509" y="11832"/>
                </a:moveTo>
                <a:cubicBezTo>
                  <a:pt x="11656" y="11832"/>
                  <a:pt x="11924" y="11755"/>
                  <a:pt x="11857" y="11906"/>
                </a:cubicBezTo>
              </a:path>
              <a:path w="2854" h="1886">
                <a:moveTo>
                  <a:pt x="11509" y="12030"/>
                </a:moveTo>
                <a:cubicBezTo>
                  <a:pt x="11665" y="11999"/>
                  <a:pt x="11820" y="12005"/>
                  <a:pt x="11981" y="12005"/>
                </a:cubicBezTo>
              </a:path>
              <a:path w="2854" h="1886">
                <a:moveTo>
                  <a:pt x="13692" y="11485"/>
                </a:moveTo>
                <a:cubicBezTo>
                  <a:pt x="13662" y="11601"/>
                  <a:pt x="13524" y="11742"/>
                  <a:pt x="13444" y="11832"/>
                </a:cubicBezTo>
                <a:cubicBezTo>
                  <a:pt x="13370" y="11906"/>
                  <a:pt x="13361" y="11915"/>
                  <a:pt x="13320" y="11956"/>
                </a:cubicBezTo>
                <a:cubicBezTo>
                  <a:pt x="13477" y="11982"/>
                  <a:pt x="13635" y="12044"/>
                  <a:pt x="13791" y="12080"/>
                </a:cubicBezTo>
                <a:cubicBezTo>
                  <a:pt x="13877" y="12100"/>
                  <a:pt x="13902" y="12114"/>
                  <a:pt x="13965" y="12129"/>
                </a:cubicBezTo>
              </a:path>
              <a:path w="2854" h="1886">
                <a:moveTo>
                  <a:pt x="12675" y="10344"/>
                </a:moveTo>
                <a:cubicBezTo>
                  <a:pt x="12537" y="10599"/>
                  <a:pt x="12390" y="10747"/>
                  <a:pt x="12179" y="10939"/>
                </a:cubicBezTo>
                <a:cubicBezTo>
                  <a:pt x="12124" y="10994"/>
                  <a:pt x="12126" y="11019"/>
                  <a:pt x="12080" y="11013"/>
                </a:cubicBezTo>
                <a:cubicBezTo>
                  <a:pt x="12226" y="11086"/>
                  <a:pt x="12459" y="11060"/>
                  <a:pt x="12626" y="11063"/>
                </a:cubicBezTo>
                <a:cubicBezTo>
                  <a:pt x="12700" y="11064"/>
                  <a:pt x="12775" y="11063"/>
                  <a:pt x="12849" y="11063"/>
                </a:cubicBezTo>
              </a:path>
              <a:path w="2854" h="1886">
                <a:moveTo>
                  <a:pt x="12105" y="11286"/>
                </a:moveTo>
                <a:cubicBezTo>
                  <a:pt x="11964" y="11286"/>
                  <a:pt x="12337" y="11277"/>
                  <a:pt x="12477" y="11286"/>
                </a:cubicBezTo>
                <a:cubicBezTo>
                  <a:pt x="12653" y="11297"/>
                  <a:pt x="12825" y="11346"/>
                  <a:pt x="12998" y="11361"/>
                </a:cubicBezTo>
                <a:cubicBezTo>
                  <a:pt x="13006" y="11361"/>
                  <a:pt x="13014" y="11361"/>
                  <a:pt x="13022" y="11361"/>
                </a:cubicBezTo>
              </a:path>
              <a:path w="2854" h="1886">
                <a:moveTo>
                  <a:pt x="11633" y="11708"/>
                </a:moveTo>
                <a:cubicBezTo>
                  <a:pt x="11620" y="11772"/>
                  <a:pt x="11542" y="12180"/>
                  <a:pt x="11559" y="12179"/>
                </a:cubicBezTo>
                <a:cubicBezTo>
                  <a:pt x="11682" y="12169"/>
                  <a:pt x="11674" y="11966"/>
                  <a:pt x="11733" y="11857"/>
                </a:cubicBezTo>
                <a:cubicBezTo>
                  <a:pt x="11741" y="11824"/>
                  <a:pt x="11749" y="11790"/>
                  <a:pt x="11757" y="11757"/>
                </a:cubicBezTo>
                <a:cubicBezTo>
                  <a:pt x="11741" y="11843"/>
                  <a:pt x="11606" y="12148"/>
                  <a:pt x="11807" y="12154"/>
                </a:cubicBezTo>
                <a:cubicBezTo>
                  <a:pt x="12026" y="12160"/>
                  <a:pt x="12033" y="11822"/>
                  <a:pt x="12055" y="12055"/>
                </a:cubicBezTo>
                <a:cubicBezTo>
                  <a:pt x="12055" y="12156"/>
                  <a:pt x="12045" y="12177"/>
                  <a:pt x="12080" y="12229"/>
                </a:cubicBezTo>
                <a:cubicBezTo>
                  <a:pt x="12204" y="12096"/>
                  <a:pt x="12226" y="11952"/>
                  <a:pt x="12353" y="12055"/>
                </a:cubicBezTo>
                <a:cubicBezTo>
                  <a:pt x="12485" y="12162"/>
                  <a:pt x="12502" y="12038"/>
                  <a:pt x="12675" y="11956"/>
                </a:cubicBezTo>
                <a:cubicBezTo>
                  <a:pt x="12898" y="11851"/>
                  <a:pt x="12907" y="12005"/>
                  <a:pt x="13047" y="12129"/>
                </a:cubicBezTo>
                <a:cubicBezTo>
                  <a:pt x="13197" y="11993"/>
                  <a:pt x="13169" y="11832"/>
                  <a:pt x="13295" y="11956"/>
                </a:cubicBezTo>
                <a:cubicBezTo>
                  <a:pt x="13444" y="12103"/>
                  <a:pt x="13416" y="11735"/>
                  <a:pt x="13568" y="11757"/>
                </a:cubicBezTo>
                <a:cubicBezTo>
                  <a:pt x="13678" y="11773"/>
                  <a:pt x="13598" y="11928"/>
                  <a:pt x="13667" y="12005"/>
                </a:cubicBezTo>
                <a:cubicBezTo>
                  <a:pt x="13719" y="12063"/>
                  <a:pt x="13699" y="11858"/>
                  <a:pt x="13717" y="11782"/>
                </a:cubicBezTo>
                <a:cubicBezTo>
                  <a:pt x="13727" y="11836"/>
                  <a:pt x="13732" y="12081"/>
                  <a:pt x="13791" y="11956"/>
                </a:cubicBezTo>
                <a:cubicBezTo>
                  <a:pt x="13852" y="11826"/>
                  <a:pt x="13847" y="11992"/>
                  <a:pt x="13891" y="12105"/>
                </a:cubicBezTo>
                <a:cubicBezTo>
                  <a:pt x="13891" y="12113"/>
                  <a:pt x="13891" y="12121"/>
                  <a:pt x="13891" y="12129"/>
                </a:cubicBezTo>
                <a:cubicBezTo>
                  <a:pt x="13891" y="12022"/>
                  <a:pt x="13967" y="11933"/>
                  <a:pt x="13891" y="11857"/>
                </a:cubicBezTo>
                <a:cubicBezTo>
                  <a:pt x="13877" y="11843"/>
                  <a:pt x="13757" y="11964"/>
                  <a:pt x="13692" y="11881"/>
                </a:cubicBezTo>
                <a:cubicBezTo>
                  <a:pt x="13633" y="11743"/>
                  <a:pt x="13608" y="11723"/>
                  <a:pt x="13618" y="11633"/>
                </a:cubicBezTo>
                <a:cubicBezTo>
                  <a:pt x="13607" y="11698"/>
                  <a:pt x="13623" y="11906"/>
                  <a:pt x="13494" y="11881"/>
                </a:cubicBezTo>
                <a:cubicBezTo>
                  <a:pt x="13343" y="11851"/>
                  <a:pt x="13401" y="11679"/>
                  <a:pt x="13320" y="11981"/>
                </a:cubicBezTo>
                <a:cubicBezTo>
                  <a:pt x="13312" y="12022"/>
                  <a:pt x="13303" y="12064"/>
                  <a:pt x="13295" y="12105"/>
                </a:cubicBezTo>
                <a:cubicBezTo>
                  <a:pt x="13200" y="12045"/>
                  <a:pt x="13121" y="11924"/>
                  <a:pt x="12998" y="11981"/>
                </a:cubicBezTo>
                <a:cubicBezTo>
                  <a:pt x="12824" y="12061"/>
                  <a:pt x="12751" y="12201"/>
                  <a:pt x="12626" y="12005"/>
                </a:cubicBezTo>
                <a:cubicBezTo>
                  <a:pt x="12579" y="11931"/>
                  <a:pt x="12401" y="12046"/>
                  <a:pt x="12278" y="12030"/>
                </a:cubicBezTo>
                <a:cubicBezTo>
                  <a:pt x="11962" y="11989"/>
                  <a:pt x="12028" y="11955"/>
                  <a:pt x="11733" y="12080"/>
                </a:cubicBezTo>
                <a:cubicBezTo>
                  <a:pt x="11503" y="12178"/>
                  <a:pt x="11540" y="11862"/>
                  <a:pt x="11435" y="11881"/>
                </a:cubicBezTo>
                <a:cubicBezTo>
                  <a:pt x="11284" y="11908"/>
                  <a:pt x="11308" y="12153"/>
                  <a:pt x="11137" y="12005"/>
                </a:cubicBezTo>
                <a:cubicBezTo>
                  <a:pt x="11092" y="11714"/>
                  <a:pt x="11166" y="12027"/>
                  <a:pt x="11187" y="120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919840" y="3990960"/>
            <a:ext cx="295200" cy="287280"/>
          </a:xfrm>
          <a:custGeom>
            <a:avLst/>
            <a:gdLst/>
            <a:ahLst/>
            <a:rect l="l" t="t" r="r" b="b"/>
            <a:pathLst>
              <a:path w="819" h="794">
                <a:moveTo>
                  <a:pt x="16446" y="11385"/>
                </a:moveTo>
                <a:cubicBezTo>
                  <a:pt x="16574" y="11353"/>
                  <a:pt x="16693" y="11300"/>
                  <a:pt x="16842" y="11286"/>
                </a:cubicBezTo>
                <a:cubicBezTo>
                  <a:pt x="16817" y="11550"/>
                  <a:pt x="16670" y="11674"/>
                  <a:pt x="16495" y="11881"/>
                </a:cubicBezTo>
                <a:cubicBezTo>
                  <a:pt x="16632" y="11864"/>
                  <a:pt x="16759" y="11819"/>
                  <a:pt x="16892" y="11782"/>
                </a:cubicBezTo>
              </a:path>
              <a:path w="819" h="794">
                <a:moveTo>
                  <a:pt x="17214" y="11088"/>
                </a:moveTo>
                <a:cubicBezTo>
                  <a:pt x="17238" y="11279"/>
                  <a:pt x="17254" y="11485"/>
                  <a:pt x="17264" y="11683"/>
                </a:cubicBezTo>
                <a:cubicBezTo>
                  <a:pt x="17264" y="11782"/>
                  <a:pt x="17264" y="11799"/>
                  <a:pt x="17264" y="1185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 presetSubtype="4">
                                  <p:stCondLst>
                                    <p:cond delay="0"/>
                                  </p:stCondLst>
                                  <p:childTnLst>
                                    <p:set>
                                      <p:cBhvr>
                                        <p:cTn id="184" dur="1" fill="hold">
                                          <p:stCondLst>
                                            <p:cond delay="0"/>
                                          </p:stCondLst>
                                        </p:cTn>
                                        <p:tgtEl>
                                          <p:spTgt spid="292"/>
                                        </p:tgtEl>
                                        <p:attrNameLst>
                                          <p:attrName>style.visibility</p:attrName>
                                        </p:attrNameLst>
                                      </p:cBhvr>
                                      <p:to>
                                        <p:strVal val="visible"/>
                                      </p:to>
                                    </p:set>
                                    <p:anim calcmode="lin" valueType="num">
                                      <p:cBhvr additive="base">
                                        <p:cTn id="185" dur="500" fill="hold"/>
                                        <p:tgtEl>
                                          <p:spTgt spid="292"/>
                                        </p:tgtEl>
                                        <p:attrNameLst>
                                          <p:attrName>ppt_x</p:attrName>
                                        </p:attrNameLst>
                                      </p:cBhvr>
                                      <p:tavLst>
                                        <p:tav tm="0">
                                          <p:val>
                                            <p:strVal val="#ppt_x"/>
                                          </p:val>
                                        </p:tav>
                                        <p:tav tm="100000">
                                          <p:val>
                                            <p:strVal val="#ppt_x"/>
                                          </p:val>
                                        </p:tav>
                                      </p:tavLst>
                                    </p:anim>
                                    <p:anim calcmode="lin" valueType="num">
                                      <p:cBhvr additive="base">
                                        <p:cTn id="186"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93">
                                            <p:txEl>
                                              <p:pRg st="0" end="0"/>
                                            </p:txEl>
                                          </p:spTgt>
                                        </p:tgtEl>
                                        <p:attrNameLst>
                                          <p:attrName>style.visibility</p:attrName>
                                        </p:attrNameLst>
                                      </p:cBhvr>
                                      <p:to>
                                        <p:strVal val="visible"/>
                                      </p:to>
                                    </p:set>
                                    <p:anim calcmode="lin" valueType="num">
                                      <p:cBhvr additive="base">
                                        <p:cTn id="191"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93">
                                            <p:txEl>
                                              <p:pRg st="2" end="2"/>
                                            </p:txEl>
                                          </p:spTgt>
                                        </p:tgtEl>
                                        <p:attrNameLst>
                                          <p:attrName>style.visibility</p:attrName>
                                        </p:attrNameLst>
                                      </p:cBhvr>
                                      <p:to>
                                        <p:strVal val="visible"/>
                                      </p:to>
                                    </p:set>
                                    <p:anim calcmode="lin" valueType="num">
                                      <p:cBhvr additive="base">
                                        <p:cTn id="197"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93">
                                            <p:txEl>
                                              <p:pRg st="5" end="5"/>
                                            </p:txEl>
                                          </p:spTgt>
                                        </p:tgtEl>
                                        <p:attrNameLst>
                                          <p:attrName>style.visibility</p:attrName>
                                        </p:attrNameLst>
                                      </p:cBhvr>
                                      <p:to>
                                        <p:strVal val="visible"/>
                                      </p:to>
                                    </p:set>
                                    <p:anim calcmode="lin" valueType="num">
                                      <p:cBhvr additive="base">
                                        <p:cTn id="203" dur="500" fill="hold"/>
                                        <p:tgtEl>
                                          <p:spTgt spid="293">
                                            <p:txEl>
                                              <p:pRg st="5" end="5"/>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3">
                                            <p:txEl>
                                              <p:pRg st="5" end="5"/>
                                            </p:txEl>
                                          </p:spTgt>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295"/>
                                        </p:tgtEl>
                                        <p:attrNameLst>
                                          <p:attrName>style.visibility</p:attrName>
                                        </p:attrNameLst>
                                      </p:cBhvr>
                                      <p:to>
                                        <p:strVal val="visible"/>
                                      </p:to>
                                    </p:set>
                                    <p:anim calcmode="lin" valueType="num">
                                      <p:cBhvr additive="base">
                                        <p:cTn id="207" dur="500" fill="hold"/>
                                        <p:tgtEl>
                                          <p:spTgt spid="295"/>
                                        </p:tgtEl>
                                        <p:attrNameLst>
                                          <p:attrName>ppt_x</p:attrName>
                                        </p:attrNameLst>
                                      </p:cBhvr>
                                      <p:tavLst>
                                        <p:tav tm="0">
                                          <p:val>
                                            <p:strVal val="#ppt_x"/>
                                          </p:val>
                                        </p:tav>
                                        <p:tav tm="100000">
                                          <p:val>
                                            <p:strVal val="#ppt_x"/>
                                          </p:val>
                                        </p:tav>
                                      </p:tavLst>
                                    </p:anim>
                                    <p:anim calcmode="lin" valueType="num">
                                      <p:cBhvr additive="base">
                                        <p:cTn id="20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85800" y="304560"/>
            <a:ext cx="7391520" cy="51814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jective:  Students will write equations and inequalities</a:t>
            </a:r>
            <a:endParaRPr b="0" lang="en-US" sz="12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ord Problem:</a:t>
            </a:r>
            <a:endParaRPr b="0" lang="en-US" sz="3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 A restaurant can seat 66 people. A party of 16 joins the number of people already seated and the restaurant is not full. Write an equation or inequality you could use to find the number of people, n, who are already seated in the restaurant. </a:t>
            </a:r>
            <a:endParaRPr b="0" lang="en-US" sz="2600" spc="-1" strike="noStrike">
              <a:solidFill>
                <a:srgbClr val="000000"/>
              </a:solidFill>
              <a:latin typeface="Comic Sans MS"/>
            </a:endParaRPr>
          </a:p>
        </p:txBody>
      </p:sp>
      <p:sp>
        <p:nvSpPr>
          <p:cNvPr id="315" name=""/>
          <p:cNvSpPr/>
          <p:nvPr/>
        </p:nvSpPr>
        <p:spPr>
          <a:xfrm>
            <a:off x="2911320" y="4106880"/>
            <a:ext cx="1268640" cy="260280"/>
          </a:xfrm>
          <a:custGeom>
            <a:avLst/>
            <a:gdLst/>
            <a:ahLst/>
            <a:rect l="l" t="t" r="r" b="b"/>
            <a:pathLst>
              <a:path w="3524" h="720">
                <a:moveTo>
                  <a:pt x="8086" y="11410"/>
                </a:moveTo>
                <a:cubicBezTo>
                  <a:pt x="8096" y="11634"/>
                  <a:pt x="8119" y="11856"/>
                  <a:pt x="8136" y="12080"/>
                </a:cubicBezTo>
                <a:cubicBezTo>
                  <a:pt x="8136" y="12096"/>
                  <a:pt x="8136" y="12113"/>
                  <a:pt x="8136" y="12129"/>
                </a:cubicBezTo>
              </a:path>
              <a:path w="3524" h="720">
                <a:moveTo>
                  <a:pt x="9103" y="11733"/>
                </a:moveTo>
                <a:cubicBezTo>
                  <a:pt x="9279" y="11691"/>
                  <a:pt x="9449" y="11684"/>
                  <a:pt x="9624" y="11633"/>
                </a:cubicBezTo>
              </a:path>
              <a:path w="3524" h="720">
                <a:moveTo>
                  <a:pt x="11187" y="11683"/>
                </a:moveTo>
                <a:cubicBezTo>
                  <a:pt x="11333" y="11659"/>
                  <a:pt x="11469" y="11612"/>
                  <a:pt x="11609" y="1158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027240" y="4089240"/>
            <a:ext cx="187560" cy="277920"/>
          </a:xfrm>
          <a:custGeom>
            <a:avLst/>
            <a:gdLst/>
            <a:ahLst/>
            <a:rect l="l" t="t" r="r" b="b"/>
            <a:pathLst>
              <a:path w="522" h="769">
                <a:moveTo>
                  <a:pt x="8434" y="11361"/>
                </a:moveTo>
                <a:cubicBezTo>
                  <a:pt x="8427" y="11554"/>
                  <a:pt x="8332" y="11920"/>
                  <a:pt x="8483" y="12080"/>
                </a:cubicBezTo>
                <a:cubicBezTo>
                  <a:pt x="8638" y="12245"/>
                  <a:pt x="8926" y="12003"/>
                  <a:pt x="8930" y="11832"/>
                </a:cubicBezTo>
                <a:cubicBezTo>
                  <a:pt x="8913" y="11799"/>
                  <a:pt x="8897" y="11766"/>
                  <a:pt x="8880" y="11733"/>
                </a:cubicBezTo>
                <a:cubicBezTo>
                  <a:pt x="8789" y="11756"/>
                  <a:pt x="8482" y="11930"/>
                  <a:pt x="8657" y="12080"/>
                </a:cubicBezTo>
                <a:cubicBezTo>
                  <a:pt x="8690" y="12080"/>
                  <a:pt x="8723" y="12080"/>
                  <a:pt x="8756" y="120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357720" y="4133880"/>
            <a:ext cx="17280" cy="189000"/>
          </a:xfrm>
          <a:custGeom>
            <a:avLst/>
            <a:gdLst/>
            <a:ahLst/>
            <a:rect l="l" t="t" r="r" b="b"/>
            <a:pathLst>
              <a:path w="50" h="521">
                <a:moveTo>
                  <a:pt x="9327" y="11485"/>
                </a:moveTo>
                <a:cubicBezTo>
                  <a:pt x="9327" y="11667"/>
                  <a:pt x="9318" y="11833"/>
                  <a:pt x="9376" y="120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527280" y="4106880"/>
            <a:ext cx="295560" cy="223920"/>
          </a:xfrm>
          <a:custGeom>
            <a:avLst/>
            <a:gdLst/>
            <a:ahLst/>
            <a:rect l="l" t="t" r="r" b="b"/>
            <a:pathLst>
              <a:path w="819" h="621">
                <a:moveTo>
                  <a:pt x="9798" y="11584"/>
                </a:moveTo>
                <a:cubicBezTo>
                  <a:pt x="9841" y="11756"/>
                  <a:pt x="9857" y="11795"/>
                  <a:pt x="9847" y="11906"/>
                </a:cubicBezTo>
                <a:cubicBezTo>
                  <a:pt x="9847" y="11989"/>
                  <a:pt x="9831" y="11789"/>
                  <a:pt x="9847" y="11708"/>
                </a:cubicBezTo>
                <a:cubicBezTo>
                  <a:pt x="9872" y="11586"/>
                  <a:pt x="10015" y="11309"/>
                  <a:pt x="10195" y="11410"/>
                </a:cubicBezTo>
                <a:cubicBezTo>
                  <a:pt x="10375" y="11511"/>
                  <a:pt x="10251" y="11826"/>
                  <a:pt x="10344" y="11981"/>
                </a:cubicBezTo>
                <a:cubicBezTo>
                  <a:pt x="10424" y="12114"/>
                  <a:pt x="10545" y="12001"/>
                  <a:pt x="10616" y="1195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983040" y="4106880"/>
            <a:ext cx="160200" cy="28440"/>
          </a:xfrm>
          <a:custGeom>
            <a:avLst/>
            <a:gdLst/>
            <a:ahLst/>
            <a:rect l="l" t="t" r="r" b="b"/>
            <a:pathLst>
              <a:path w="447" h="76">
                <a:moveTo>
                  <a:pt x="11063" y="11485"/>
                </a:moveTo>
                <a:cubicBezTo>
                  <a:pt x="11178" y="11466"/>
                  <a:pt x="11293" y="11423"/>
                  <a:pt x="11410" y="11410"/>
                </a:cubicBezTo>
                <a:cubicBezTo>
                  <a:pt x="11476" y="11402"/>
                  <a:pt x="11496" y="11394"/>
                  <a:pt x="11509" y="11435"/>
                </a:cubicBezTo>
              </a:path>
            </a:pathLst>
          </a:custGeom>
          <a:noFill/>
          <a:ln cap="rnd" w="1908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0" name=""/>
          <p:cNvSpPr/>
          <p:nvPr/>
        </p:nvSpPr>
        <p:spPr>
          <a:xfrm>
            <a:off x="4303800" y="3919680"/>
            <a:ext cx="428400" cy="331560"/>
          </a:xfrm>
          <a:custGeom>
            <a:avLst/>
            <a:gdLst/>
            <a:ahLst/>
            <a:rect l="l" t="t" r="r" b="b"/>
            <a:pathLst>
              <a:path w="1191" h="919">
                <a:moveTo>
                  <a:pt x="12080" y="10988"/>
                </a:moveTo>
                <a:cubicBezTo>
                  <a:pt x="11991" y="11188"/>
                  <a:pt x="11869" y="11520"/>
                  <a:pt x="12005" y="11733"/>
                </a:cubicBezTo>
                <a:cubicBezTo>
                  <a:pt x="12186" y="12017"/>
                  <a:pt x="12409" y="11608"/>
                  <a:pt x="12452" y="11485"/>
                </a:cubicBezTo>
                <a:cubicBezTo>
                  <a:pt x="12398" y="11476"/>
                  <a:pt x="11990" y="11681"/>
                  <a:pt x="12154" y="11782"/>
                </a:cubicBezTo>
                <a:cubicBezTo>
                  <a:pt x="12195" y="11774"/>
                  <a:pt x="12237" y="11765"/>
                  <a:pt x="12278" y="11757"/>
                </a:cubicBezTo>
              </a:path>
              <a:path w="1191" h="919">
                <a:moveTo>
                  <a:pt x="12700" y="10889"/>
                </a:moveTo>
                <a:cubicBezTo>
                  <a:pt x="12633" y="11139"/>
                  <a:pt x="12510" y="11449"/>
                  <a:pt x="12700" y="11683"/>
                </a:cubicBezTo>
                <a:cubicBezTo>
                  <a:pt x="12919" y="11952"/>
                  <a:pt x="13090" y="11524"/>
                  <a:pt x="13146" y="11385"/>
                </a:cubicBezTo>
                <a:cubicBezTo>
                  <a:pt x="13138" y="11360"/>
                  <a:pt x="13130" y="11336"/>
                  <a:pt x="13122" y="11311"/>
                </a:cubicBezTo>
                <a:cubicBezTo>
                  <a:pt x="12932" y="11441"/>
                  <a:pt x="12858" y="11540"/>
                  <a:pt x="12874" y="1178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419640" y="4776840"/>
            <a:ext cx="125280" cy="46080"/>
          </a:xfrm>
          <a:custGeom>
            <a:avLst/>
            <a:gdLst/>
            <a:ahLst/>
            <a:rect l="l" t="t" r="r" b="b"/>
            <a:pathLst>
              <a:path w="348" h="125">
                <a:moveTo>
                  <a:pt x="9500" y="13395"/>
                </a:moveTo>
                <a:cubicBezTo>
                  <a:pt x="9562" y="13367"/>
                  <a:pt x="9783" y="13229"/>
                  <a:pt x="9847" y="13271"/>
                </a:cubicBezTo>
                <a:cubicBezTo>
                  <a:pt x="9847" y="13279"/>
                  <a:pt x="9847" y="13287"/>
                  <a:pt x="9847" y="13295"/>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2" name=""/>
          <p:cNvSpPr/>
          <p:nvPr/>
        </p:nvSpPr>
        <p:spPr>
          <a:xfrm>
            <a:off x="2990880" y="4697280"/>
            <a:ext cx="492120" cy="285840"/>
          </a:xfrm>
          <a:custGeom>
            <a:avLst/>
            <a:gdLst/>
            <a:ahLst/>
            <a:rect l="l" t="t" r="r" b="b"/>
            <a:pathLst>
              <a:path w="1365" h="795">
                <a:moveTo>
                  <a:pt x="8310" y="13072"/>
                </a:moveTo>
                <a:cubicBezTo>
                  <a:pt x="8310" y="13256"/>
                  <a:pt x="8327" y="13435"/>
                  <a:pt x="8334" y="13618"/>
                </a:cubicBezTo>
                <a:cubicBezTo>
                  <a:pt x="8338" y="13719"/>
                  <a:pt x="8298" y="13836"/>
                  <a:pt x="8359" y="13816"/>
                </a:cubicBezTo>
              </a:path>
              <a:path w="1365" h="795">
                <a:moveTo>
                  <a:pt x="8781" y="13047"/>
                </a:moveTo>
                <a:cubicBezTo>
                  <a:pt x="8745" y="13238"/>
                  <a:pt x="8713" y="13502"/>
                  <a:pt x="8781" y="13692"/>
                </a:cubicBezTo>
                <a:cubicBezTo>
                  <a:pt x="8806" y="13725"/>
                  <a:pt x="8830" y="13758"/>
                  <a:pt x="8855" y="13791"/>
                </a:cubicBezTo>
                <a:cubicBezTo>
                  <a:pt x="9017" y="13763"/>
                  <a:pt x="9201" y="13695"/>
                  <a:pt x="9227" y="13494"/>
                </a:cubicBezTo>
                <a:cubicBezTo>
                  <a:pt x="9219" y="13461"/>
                  <a:pt x="9211" y="13428"/>
                  <a:pt x="9203" y="13395"/>
                </a:cubicBezTo>
                <a:cubicBezTo>
                  <a:pt x="9016" y="13438"/>
                  <a:pt x="8978" y="13541"/>
                  <a:pt x="9004" y="13742"/>
                </a:cubicBezTo>
                <a:cubicBezTo>
                  <a:pt x="9012" y="13758"/>
                  <a:pt x="9021" y="13775"/>
                  <a:pt x="9029" y="13791"/>
                </a:cubicBezTo>
              </a:path>
              <a:path w="1365" h="795">
                <a:moveTo>
                  <a:pt x="9624" y="13122"/>
                </a:moveTo>
                <a:cubicBezTo>
                  <a:pt x="9624" y="13289"/>
                  <a:pt x="9660" y="13430"/>
                  <a:pt x="9674" y="13593"/>
                </a:cubicBezTo>
                <a:cubicBezTo>
                  <a:pt x="9674" y="13618"/>
                  <a:pt x="9674" y="13626"/>
                  <a:pt x="9674" y="1359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652920" y="4510080"/>
            <a:ext cx="1187280" cy="490680"/>
          </a:xfrm>
          <a:custGeom>
            <a:avLst/>
            <a:gdLst/>
            <a:ahLst/>
            <a:rect l="l" t="t" r="r" b="b"/>
            <a:pathLst>
              <a:path w="3300" h="1366">
                <a:moveTo>
                  <a:pt x="10145" y="12998"/>
                </a:moveTo>
                <a:cubicBezTo>
                  <a:pt x="10187" y="13156"/>
                  <a:pt x="10231" y="13306"/>
                  <a:pt x="10244" y="13469"/>
                </a:cubicBezTo>
                <a:cubicBezTo>
                  <a:pt x="10223" y="13359"/>
                  <a:pt x="10206" y="13240"/>
                  <a:pt x="10220" y="13122"/>
                </a:cubicBezTo>
                <a:cubicBezTo>
                  <a:pt x="10234" y="13004"/>
                  <a:pt x="10389" y="12841"/>
                  <a:pt x="10517" y="12923"/>
                </a:cubicBezTo>
                <a:cubicBezTo>
                  <a:pt x="10654" y="13011"/>
                  <a:pt x="10564" y="13275"/>
                  <a:pt x="10666" y="13395"/>
                </a:cubicBezTo>
                <a:cubicBezTo>
                  <a:pt x="10721" y="13460"/>
                  <a:pt x="10816" y="13394"/>
                  <a:pt x="10840" y="13370"/>
                </a:cubicBezTo>
              </a:path>
              <a:path w="3300" h="1366">
                <a:moveTo>
                  <a:pt x="11584" y="12774"/>
                </a:moveTo>
                <a:cubicBezTo>
                  <a:pt x="11584" y="12902"/>
                  <a:pt x="11470" y="13054"/>
                  <a:pt x="11385" y="13146"/>
                </a:cubicBezTo>
                <a:cubicBezTo>
                  <a:pt x="11312" y="13201"/>
                  <a:pt x="11279" y="13193"/>
                  <a:pt x="11286" y="13246"/>
                </a:cubicBezTo>
                <a:cubicBezTo>
                  <a:pt x="11479" y="13246"/>
                  <a:pt x="11666" y="13251"/>
                  <a:pt x="11857" y="13271"/>
                </a:cubicBezTo>
                <a:cubicBezTo>
                  <a:pt x="11865" y="13271"/>
                  <a:pt x="11873" y="13271"/>
                  <a:pt x="11881" y="13271"/>
                </a:cubicBezTo>
              </a:path>
              <a:path w="3300" h="1366">
                <a:moveTo>
                  <a:pt x="12402" y="12601"/>
                </a:moveTo>
                <a:cubicBezTo>
                  <a:pt x="12367" y="12788"/>
                  <a:pt x="12289" y="13008"/>
                  <a:pt x="12353" y="13196"/>
                </a:cubicBezTo>
                <a:cubicBezTo>
                  <a:pt x="12437" y="13445"/>
                  <a:pt x="12693" y="13338"/>
                  <a:pt x="12774" y="13146"/>
                </a:cubicBezTo>
                <a:cubicBezTo>
                  <a:pt x="12774" y="13113"/>
                  <a:pt x="12774" y="13080"/>
                  <a:pt x="12774" y="13047"/>
                </a:cubicBezTo>
                <a:cubicBezTo>
                  <a:pt x="12687" y="12945"/>
                  <a:pt x="12606" y="12938"/>
                  <a:pt x="12526" y="13072"/>
                </a:cubicBezTo>
                <a:cubicBezTo>
                  <a:pt x="12370" y="13335"/>
                  <a:pt x="12546" y="13287"/>
                  <a:pt x="12700" y="13171"/>
                </a:cubicBezTo>
              </a:path>
              <a:path w="3300" h="1366">
                <a:moveTo>
                  <a:pt x="12898" y="12526"/>
                </a:moveTo>
                <a:cubicBezTo>
                  <a:pt x="12898" y="12628"/>
                  <a:pt x="12876" y="12721"/>
                  <a:pt x="12874" y="12824"/>
                </a:cubicBezTo>
                <a:cubicBezTo>
                  <a:pt x="12872" y="12933"/>
                  <a:pt x="12875" y="13164"/>
                  <a:pt x="13022" y="13196"/>
                </a:cubicBezTo>
                <a:cubicBezTo>
                  <a:pt x="13211" y="13237"/>
                  <a:pt x="13394" y="13152"/>
                  <a:pt x="13444" y="12973"/>
                </a:cubicBezTo>
                <a:cubicBezTo>
                  <a:pt x="13444" y="12931"/>
                  <a:pt x="13444" y="12923"/>
                  <a:pt x="13444" y="12898"/>
                </a:cubicBezTo>
                <a:cubicBezTo>
                  <a:pt x="13310" y="12876"/>
                  <a:pt x="13232" y="12917"/>
                  <a:pt x="13196" y="13072"/>
                </a:cubicBezTo>
                <a:cubicBezTo>
                  <a:pt x="13196" y="13168"/>
                  <a:pt x="13194" y="13199"/>
                  <a:pt x="13246" y="13246"/>
                </a:cubicBezTo>
              </a:path>
              <a:path w="3300" h="1366">
                <a:moveTo>
                  <a:pt x="11137" y="13692"/>
                </a:moveTo>
                <a:cubicBezTo>
                  <a:pt x="11192" y="13723"/>
                  <a:pt x="11247" y="13764"/>
                  <a:pt x="11311" y="13791"/>
                </a:cubicBezTo>
                <a:cubicBezTo>
                  <a:pt x="11409" y="13832"/>
                  <a:pt x="11532" y="13811"/>
                  <a:pt x="11633" y="13791"/>
                </a:cubicBezTo>
                <a:cubicBezTo>
                  <a:pt x="11700" y="13778"/>
                  <a:pt x="11810" y="13723"/>
                  <a:pt x="11857" y="13692"/>
                </a:cubicBezTo>
                <a:cubicBezTo>
                  <a:pt x="11905" y="13660"/>
                  <a:pt x="11961" y="13606"/>
                  <a:pt x="12005" y="13568"/>
                </a:cubicBezTo>
                <a:cubicBezTo>
                  <a:pt x="12067" y="13515"/>
                  <a:pt x="12093" y="13467"/>
                  <a:pt x="12129" y="13395"/>
                </a:cubicBezTo>
                <a:cubicBezTo>
                  <a:pt x="12171" y="13311"/>
                  <a:pt x="12160" y="13282"/>
                  <a:pt x="12179" y="13196"/>
                </a:cubicBezTo>
                <a:cubicBezTo>
                  <a:pt x="12205" y="13080"/>
                  <a:pt x="12174" y="13048"/>
                  <a:pt x="12129" y="12948"/>
                </a:cubicBezTo>
                <a:cubicBezTo>
                  <a:pt x="12102" y="12888"/>
                  <a:pt x="12084" y="12825"/>
                  <a:pt x="12030" y="12774"/>
                </a:cubicBezTo>
                <a:cubicBezTo>
                  <a:pt x="11961" y="12709"/>
                  <a:pt x="11893" y="12674"/>
                  <a:pt x="11807" y="12626"/>
                </a:cubicBezTo>
                <a:cubicBezTo>
                  <a:pt x="11701" y="12567"/>
                  <a:pt x="11654" y="12551"/>
                  <a:pt x="11534" y="12551"/>
                </a:cubicBezTo>
                <a:cubicBezTo>
                  <a:pt x="11443" y="12551"/>
                  <a:pt x="11373" y="12563"/>
                  <a:pt x="11286" y="12576"/>
                </a:cubicBezTo>
                <a:cubicBezTo>
                  <a:pt x="11203" y="12588"/>
                  <a:pt x="11161" y="12614"/>
                  <a:pt x="11088" y="12650"/>
                </a:cubicBezTo>
                <a:cubicBezTo>
                  <a:pt x="11038" y="12675"/>
                  <a:pt x="10955" y="12746"/>
                  <a:pt x="10939" y="12799"/>
                </a:cubicBezTo>
                <a:cubicBezTo>
                  <a:pt x="10920" y="12863"/>
                  <a:pt x="10900" y="12979"/>
                  <a:pt x="10914" y="13047"/>
                </a:cubicBezTo>
                <a:cubicBezTo>
                  <a:pt x="10932" y="13135"/>
                  <a:pt x="10939" y="13203"/>
                  <a:pt x="10939" y="13295"/>
                </a:cubicBezTo>
                <a:cubicBezTo>
                  <a:pt x="10939" y="13373"/>
                  <a:pt x="10977" y="13441"/>
                  <a:pt x="10988" y="13519"/>
                </a:cubicBezTo>
                <a:cubicBezTo>
                  <a:pt x="10997" y="13586"/>
                  <a:pt x="11019" y="13660"/>
                  <a:pt x="11063" y="13717"/>
                </a:cubicBezTo>
                <a:cubicBezTo>
                  <a:pt x="11116" y="13786"/>
                  <a:pt x="11182" y="13835"/>
                  <a:pt x="11261" y="13866"/>
                </a:cubicBezTo>
                <a:cubicBezTo>
                  <a:pt x="11332" y="13893"/>
                  <a:pt x="11386" y="13891"/>
                  <a:pt x="11460" y="138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14">
                                            <p:txEl>
                                              <p:pRg st="1" end="1"/>
                                            </p:txEl>
                                          </p:spTgt>
                                        </p:tgtEl>
                                        <p:attrNameLst>
                                          <p:attrName>style.visibility</p:attrName>
                                        </p:attrNameLst>
                                      </p:cBhvr>
                                      <p:to>
                                        <p:strVal val="visible"/>
                                      </p:to>
                                    </p:set>
                                    <p:anim calcmode="lin" valueType="num">
                                      <p:cBhvr additive="base">
                                        <p:cTn id="215"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7:59:31Z</dcterms:created>
  <dc:creator>ccps</dc:creator>
  <dc:description/>
  <dc:language>en-US</dc:language>
  <cp:lastModifiedBy>deanne elizabeth mcgrath</cp:lastModifiedBy>
  <dcterms:modified xsi:type="dcterms:W3CDTF">2011-12-06T15:22:55Z</dcterms:modified>
  <cp:revision>28</cp:revision>
  <dc:subject/>
  <dc:title>Chapter 2 Integer Operations</dc:title>
</cp:coreProperties>
</file>